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0" y="1143000"/>
            <a:ext cx="91425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Flow</a:t>
            </a:r>
            <a:br>
              <a:rPr sz="72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twork Traffic Flow Analy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0" y="365760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vil Brown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University of Auck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0" y="5227560"/>
            <a:ext cx="9142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ntreal IETF,  June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86080" y="709560"/>
            <a:ext cx="6162840" cy="4819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275600" y="5761080"/>
            <a:ext cx="105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B-kbp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Jun 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46280" y="5837400"/>
            <a:ext cx="4857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Local) information server: data rate plot for short, high rat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86080" y="709560"/>
            <a:ext cx="6162840" cy="4819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350120" y="576108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B-pp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Jun 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47720" y="5837400"/>
            <a:ext cx="5459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Local) information server: packet rate plot for same short, high rat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86080" y="709560"/>
            <a:ext cx="6162840" cy="4819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7365960" y="5761080"/>
            <a:ext cx="96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B-MB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Jun 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47720" y="5837400"/>
            <a:ext cx="5494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Local) information server: total data bytes  for same short, high rat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86080" y="709560"/>
            <a:ext cx="6162840" cy="4819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315200" y="576108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yp-MB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Jun 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7720" y="5837400"/>
            <a:ext cx="4883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ypical long-term total data plot:  pointer indicates an SMTP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86080" y="709560"/>
            <a:ext cx="6162840" cy="481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130880" y="5761080"/>
            <a:ext cx="120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D-kpp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Jun 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47720" y="5837400"/>
            <a:ext cx="4968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ypical long-term total packets plot:  pointer indicates a MUD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Find Out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Flow will be available as part of the NeTraMet distribution version 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ix and Solaris binary versions are available, as well as full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details look at the RTFM Web pag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auckland.ac.nz/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/Internet/rtfm/TOP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094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stem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514600"/>
            <a:ext cx="1371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2514600"/>
            <a:ext cx="1447920" cy="76212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486400" y="4114800"/>
            <a:ext cx="1905120" cy="1447920"/>
            <a:chOff x="5486400" y="4114800"/>
            <a:chExt cx="1905120" cy="1447920"/>
          </a:xfrm>
        </p:grpSpPr>
        <p:sp>
          <p:nvSpPr>
            <p:cNvPr id="46" name=""/>
            <p:cNvSpPr/>
            <p:nvPr/>
          </p:nvSpPr>
          <p:spPr>
            <a:xfrm>
              <a:off x="5486400" y="4114800"/>
              <a:ext cx="190512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05560" y="4275000"/>
              <a:ext cx="1666800" cy="1127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371600" y="3962520"/>
            <a:ext cx="2743560" cy="1600560"/>
          </a:xfrm>
          <a:custGeom>
            <a:avLst/>
            <a:gdLst/>
            <a:ahLst/>
            <a:rect l="0" t="0" r="r" b="b"/>
            <a:pathLst>
              <a:path w="7621" h="4446">
                <a:moveTo>
                  <a:pt x="3811" y="0"/>
                </a:moveTo>
                <a:lnTo>
                  <a:pt x="4192" y="1271"/>
                </a:lnTo>
                <a:lnTo>
                  <a:pt x="5689" y="311"/>
                </a:lnTo>
                <a:lnTo>
                  <a:pt x="4999" y="1520"/>
                </a:lnTo>
                <a:lnTo>
                  <a:pt x="7125" y="1115"/>
                </a:lnTo>
                <a:lnTo>
                  <a:pt x="5476" y="1984"/>
                </a:lnTo>
                <a:lnTo>
                  <a:pt x="7621" y="2222"/>
                </a:lnTo>
                <a:lnTo>
                  <a:pt x="5476" y="2461"/>
                </a:lnTo>
                <a:lnTo>
                  <a:pt x="7125" y="3334"/>
                </a:lnTo>
                <a:lnTo>
                  <a:pt x="4998" y="2959"/>
                </a:lnTo>
                <a:lnTo>
                  <a:pt x="5689" y="4156"/>
                </a:lnTo>
                <a:lnTo>
                  <a:pt x="4252" y="3195"/>
                </a:lnTo>
                <a:lnTo>
                  <a:pt x="3771" y="4446"/>
                </a:lnTo>
                <a:lnTo>
                  <a:pt x="3352" y="3195"/>
                </a:lnTo>
                <a:lnTo>
                  <a:pt x="1913" y="4157"/>
                </a:lnTo>
                <a:lnTo>
                  <a:pt x="2604" y="2946"/>
                </a:lnTo>
                <a:lnTo>
                  <a:pt x="480" y="3350"/>
                </a:lnTo>
                <a:lnTo>
                  <a:pt x="2125" y="2481"/>
                </a:lnTo>
                <a:lnTo>
                  <a:pt x="0" y="2232"/>
                </a:lnTo>
                <a:lnTo>
                  <a:pt x="2125" y="1984"/>
                </a:lnTo>
                <a:lnTo>
                  <a:pt x="480" y="1116"/>
                </a:lnTo>
                <a:lnTo>
                  <a:pt x="2604" y="1519"/>
                </a:lnTo>
                <a:lnTo>
                  <a:pt x="1913" y="306"/>
                </a:lnTo>
                <a:lnTo>
                  <a:pt x="3348" y="1271"/>
                </a:lnTo>
                <a:lnTo>
                  <a:pt x="3811" y="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17880" y="4556160"/>
            <a:ext cx="125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51040" y="265104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13360" y="2651040"/>
            <a:ext cx="125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343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51814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95880" y="4495680"/>
            <a:ext cx="914760" cy="542880"/>
            <a:chOff x="6095880" y="4495680"/>
            <a:chExt cx="914760" cy="542880"/>
          </a:xfrm>
        </p:grpSpPr>
        <p:sp>
          <p:nvSpPr>
            <p:cNvPr id="55" name=""/>
            <p:cNvSpPr txBox="1"/>
            <p:nvPr/>
          </p:nvSpPr>
          <p:spPr>
            <a:xfrm>
              <a:off x="6095880" y="4495680"/>
              <a:ext cx="271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224760" y="4632480"/>
              <a:ext cx="785880" cy="406080"/>
              <a:chOff x="6224760" y="4632480"/>
              <a:chExt cx="785880" cy="406080"/>
            </a:xfrm>
          </p:grpSpPr>
          <p:sp>
            <p:nvSpPr>
              <p:cNvPr id="57" name=""/>
              <p:cNvSpPr txBox="1"/>
              <p:nvPr/>
            </p:nvSpPr>
            <p:spPr>
              <a:xfrm>
                <a:off x="6224760" y="4632480"/>
                <a:ext cx="32400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6532560" y="4632480"/>
                <a:ext cx="32400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6686640" y="4824360"/>
                <a:ext cx="32400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6532560" y="4729320"/>
                <a:ext cx="32400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686640" y="4632480"/>
                <a:ext cx="32400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971800" y="3276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8195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327672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ffic Flow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Flow collects data from NeTraMet meter once eve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mp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ttributes read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:  First and Last packet arr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ket Counts:  Forward and Back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te Counts:  Forward and Back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ow Kind:  Computed by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requires only 8 packet exchanges to collect about 80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tFlow Dis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ots:  Quantity vs Flow Dur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ity can be packet/byte rate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packet/byte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ected flows can be fr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ample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ample,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ot symbol from FlowKind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our indicates time since last packe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n  (black -&gt; green -&gt; red -&gt; pur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ck on a point to display flow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ample P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llowing plots were collected at the University of Auckland’s Internet gateway.  This is a lightly loade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raMet was running on a SPARC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of active flows varies with sample interval, e.g. 240 for 20s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er sample intervals, say 1 or 2 minutes, seem to work best ov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62040" y="709560"/>
            <a:ext cx="6162840" cy="4819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299360" y="576108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yp-pp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Jun 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6280" y="5837400"/>
            <a:ext cx="592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ypical packet-rate plot:  short-term  / high-rate  and  long-term / low rate 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86080" y="709560"/>
            <a:ext cx="6162840" cy="4819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080120" y="5761080"/>
            <a:ext cx="125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3min-pp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Jun 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46280" y="5837400"/>
            <a:ext cx="586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cket-rate plot:  pointer indicates 3-minute WWW flow, byte counts disp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86080" y="709560"/>
            <a:ext cx="6162840" cy="4819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054920" y="576108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spike-pp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Jun 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6280" y="5837400"/>
            <a:ext cx="520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flow:  short burst with high packet rate, packet counts disp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62040" y="709560"/>
            <a:ext cx="6162840" cy="4819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996240" y="576108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cluster-pp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Jun 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47720" y="5837400"/>
            <a:ext cx="4791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uster of short NNTP flows, probably news browsing by a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l Brownlee</dc:creator>
  <dc:description/>
  <dc:language>en-US</dc:language>
  <cp:lastModifiedBy>Gehrett W. Ellis</cp:lastModifiedBy>
  <cp:revision>0</cp:revision>
  <dc:subject/>
  <dc:title>No Slide Title</dc:title>
</cp:coreProperties>
</file>