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wman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nard Abo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narda@microsof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wman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analysis of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-zorn-roamreq-00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06668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d has signed up for Internet access with ISP A in his local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 A  has  joined  an  association of other ISPs (which we will call ISPGROUP) in order to offer service outside the  local  are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d travels  to another part of the world, and wishes to dial into a phone number offered by ISP B (also a member of ISPGROUP), possibly retaining his IP address from ISP A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094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Break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1066680"/>
            <a:ext cx="7772400" cy="47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ne number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d  must be able to find and select the phone number offered by ISP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ne number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re is a change in the status of phone numbers, there must be a way for providers in ISPGROUP to notify  each  other  and  propagate  the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ne book comp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 these  updates  occur, there must be a way to compile a new phone book for ISP A, based on the submitted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: are policy-based phonebooks necessa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Breakdown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480" y="1219320"/>
            <a:ext cx="7772400" cy="47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ne book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 a new phone book is compiled, there must be a way to update Fred’s phone bo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d's  machine  must  be able to dial the phone number, successfully connect, and interoperate with the  Network  Access 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d must be able to secure access to the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approach: use of RADIUS/TACACS+ authentication proxies and “realms”, I.e. use of fred@ispa.com as userID in PPP authent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Breakdown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 Configuration/auth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twork Access Server (NAS) must receive configuration parameters in order to set up Fred's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: RADIUS/TACACS+ servers may send network specific parameters not relevant to ISP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RADIUS/TACACS+ proxies can shield servers from network specific knowledge by inserting/modifying parame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Breakdown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914400"/>
            <a:ext cx="7772400" cy="50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desired, additional security measures should be supported for Fred's session.  These could include use of token cards, or tunne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definition of token card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: if security attributes are requested, modification by proxies may be probl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d may wish to retain the IP address given to him by ISP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tunneling, this can be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metric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metric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Breakdown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479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 B must keep track of what resources Fred used during the session: time, speed, ISDN/modem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accounting protocols i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MP, RADIUS, syslog, TACACS+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clear that accounting protocols need to be standardized for this purpose, just accounting record formats, and transmission protoc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US, TACACS+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mo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nn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TP, L2F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ernon Rentals &amp; Leasing</dc:creator>
  <dc:description/>
  <dc:language>en-US</dc:language>
  <cp:lastModifiedBy>Vernon Rentals &amp; Leasing</cp:lastModifiedBy>
  <cp:revision>0</cp:revision>
  <dc:subject/>
  <dc:title>Dialup Roaming BOF</dc:title>
</cp:coreProperties>
</file>