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lup Roaming B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en Z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ennz@microsof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a New Working Group Be Form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against a new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for a new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152280"/>
            <a:ext cx="914256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Against a New Working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320" y="1371600"/>
            <a:ext cx="906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dialup roaming may not require new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 issues can be taken care of in an informational R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nneling, mobility issues already handled in existing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ing record standardization not in the realm of the IE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 book synchronization can be handled without a new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icate phone books via existing protocols (RDIST, HTTP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 book compilation handled via PERL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For a New Working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the pieces may not be new, their interaction is novel and worth working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y of incompatible/proprietary implementations should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lup roaming problem is fundamental to the operation of the Internet, should be addressed in the I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For a New Working Group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replication approaches to phone book synchronization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ine 100 providers in a roaming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 /etc/hosts files? FidoNet Nodel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 book files could get large and unwiel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agation process could be unreliable (rollback nee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atible implementations could limit roaming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47880" y="1095480"/>
            <a:ext cx="709596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e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work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fra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s of existing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990720"/>
            <a:ext cx="77724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b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wman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a new working group b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work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Ba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dialup roam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benef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some possible disadvant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car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status/buz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Dialup Roam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ility to use  any  one  of multiple  Internet  service providers (ISPs), while maintaining a formal, customer-vendor relationship with only on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152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Benefi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1371600"/>
            <a:ext cx="853452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d ability to travel and maintain connectivity (can dial in to a Montreal ISP using the account from a local I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t to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t to the corporate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lity to keep your local IP address, even when dialing in to another prov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ation of tunneling and dialup ro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coverage within your local ar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14480" y="152280"/>
            <a:ext cx="891396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Some Possible Disadvantag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752480"/>
            <a:ext cx="85345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quality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ed complexity for existing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 book synchronization appar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unpredictable loading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T conferences leads to busy signals for Montreal provid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mobility leads to crime (Bonnie &amp; Cly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ft of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lity of malevolent individuals to reach corporate intra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s partially addressed by token card suppo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Car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you 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spects of this problem matter to you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guess of interested pa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or Regional Internet Servic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Internet Servic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15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Status/Buz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66760" y="99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ress releases in last two months indicating existing or planned roaming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a Online (implemented to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 RBOC (plann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conversations indicate at least half a dozen ISPs interested/at various stages of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problem that seems to have “leg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t could more widespread than initially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ability, interoperability could become an issue if not addressed early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ernon Rentals &amp; Leasing</dc:creator>
  <dc:description/>
  <dc:language>en-US</dc:language>
  <cp:lastModifiedBy>Vernon Rentals &amp; Leasing</cp:lastModifiedBy>
  <cp:revision>0</cp:revision>
  <dc:subject/>
  <dc:title>Dialup Roaming BOF</dc:title>
</cp:coreProperties>
</file>