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380880"/>
            <a:ext cx="8229600" cy="624852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tative MSU PacketWay Multicast Strawman Document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TF PktWay (MsgWay)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e 24,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omas P. McMa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PW (maybe) Symb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03440" y="1600200"/>
            <a:ext cx="5791320" cy="396252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44840" y="3200400"/>
            <a:ext cx="144360" cy="152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65480" y="2362320"/>
            <a:ext cx="144360" cy="152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16360" y="3124080"/>
            <a:ext cx="144360" cy="152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84680" y="2286000"/>
            <a:ext cx="146160" cy="152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62280" y="4267080"/>
            <a:ext cx="144360" cy="152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486240" y="3581280"/>
            <a:ext cx="144360" cy="152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81720" y="3276720"/>
            <a:ext cx="144360" cy="152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13400" y="3809880"/>
            <a:ext cx="144360" cy="152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341520" y="4952880"/>
            <a:ext cx="144360" cy="152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92400" y="4343400"/>
            <a:ext cx="144360" cy="152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111400" y="2286000"/>
            <a:ext cx="2160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511280" y="2011320"/>
            <a:ext cx="763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27400" y="2514600"/>
            <a:ext cx="290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89200" y="3352680"/>
            <a:ext cx="14616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89200" y="3352680"/>
            <a:ext cx="79704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06640" y="4343400"/>
            <a:ext cx="108576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06640" y="4419720"/>
            <a:ext cx="43488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327400" y="2438280"/>
            <a:ext cx="1738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210200" y="2362320"/>
            <a:ext cx="137448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10200" y="2514600"/>
            <a:ext cx="50616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861080" y="3200400"/>
            <a:ext cx="152064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861080" y="3276720"/>
            <a:ext cx="652320" cy="53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381400" y="325296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814480" y="393876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467160" y="477684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611520" y="332892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118040" y="416736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118040" y="210996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52920" y="325296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565600" y="386244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507000" y="294804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565600" y="195732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611520" y="1881360"/>
            <a:ext cx="1174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:  FT  6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32280" y="2795760"/>
            <a:ext cx="1060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: FT 1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728720" y="3786120"/>
            <a:ext cx="1060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: FT 3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130720" y="2567160"/>
            <a:ext cx="1060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: FT 8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89200" y="2362320"/>
            <a:ext cx="7308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762280" y="2057400"/>
            <a:ext cx="868680" cy="305280"/>
          </a:xfrm>
          <a:custGeom>
            <a:avLst/>
            <a:gdLst/>
            <a:ahLst/>
            <a:rect l="0" t="0" r="r" b="b"/>
            <a:pathLst>
              <a:path fill="none" w="2413" h="848">
                <a:moveTo>
                  <a:pt x="2413" y="0"/>
                </a:moveTo>
                <a:lnTo>
                  <a:pt x="2413" y="0"/>
                </a:lnTo>
                <a:cubicBezTo>
                  <a:pt x="1989" y="0"/>
                  <a:pt x="1573" y="39"/>
                  <a:pt x="1206" y="114"/>
                </a:cubicBezTo>
                <a:cubicBezTo>
                  <a:pt x="840" y="188"/>
                  <a:pt x="535" y="295"/>
                  <a:pt x="323" y="424"/>
                </a:cubicBezTo>
                <a:cubicBezTo>
                  <a:pt x="111" y="553"/>
                  <a:pt x="0" y="699"/>
                  <a:pt x="0" y="848"/>
                </a:cubicBezTo>
              </a:path>
            </a:pathLst>
          </a:cu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327400" y="2590920"/>
            <a:ext cx="7308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4560" y="2743200"/>
            <a:ext cx="7308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400480" y="2666880"/>
            <a:ext cx="650520" cy="30492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89200" y="3581280"/>
            <a:ext cx="7308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182680" y="3657600"/>
            <a:ext cx="506520" cy="15228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427640" y="2743200"/>
            <a:ext cx="7952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73200" y="2743200"/>
            <a:ext cx="7128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784080" y="5745240"/>
            <a:ext cx="7729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:  FT  6-9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= This is a symbol, Forward this message To addresses 6 -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tial Duplication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re is more than one set of intervening SANs between SAN A and SAN Z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duplicate Multicast messages will arrive at SAN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X:  MCA can attach to every Multicast message a SAN ID and SAN sequenc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MCA, as single entry point to SAN, keeps a table of last sequence number received from each 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an be used by the MCA to eliminate duplicate Multicast messages upon entry to 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447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ulticast A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RRP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les for Multic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Half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layer m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Symb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 sequenc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ulticast Agent (MC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676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AN that wishes to provide multicasting for its nodes has one and only one Multicast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inge Multicast Agent provides a single entry/exit point for multicast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ulticast Agent ensures that all multicast messages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into the SAN get sent to all Half Routers of the SAN and to all nodes listening for those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ing out of the SAN get sent to all Half Routers of the S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MCG Addition to R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MCG -- Join Multicast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t to a Half Router by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ly is an RDRC RRP message saying which node is the Multicast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334120"/>
            <a:ext cx="57913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5638680"/>
            <a:ext cx="57913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611520" y="5614920"/>
            <a:ext cx="1600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ktWay Tra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842000" y="4700520"/>
            <a:ext cx="996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MC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289560" y="4700520"/>
            <a:ext cx="8190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RP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5029200"/>
            <a:ext cx="57913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4724280"/>
            <a:ext cx="57913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5029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95960" y="5029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00480" y="5029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00480" y="5334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5334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5334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5960" y="5334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0048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657440" y="5310360"/>
            <a:ext cx="831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657440" y="470052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090880" y="47005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525760" y="4700520"/>
            <a:ext cx="206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ination-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728720" y="500544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019240" y="500544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743200" y="5005440"/>
            <a:ext cx="1582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-Length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52920" y="500544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915080" y="500544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565600" y="5005440"/>
            <a:ext cx="164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-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854680" y="5310360"/>
            <a:ext cx="1708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al-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452680" y="5310360"/>
            <a:ext cx="693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538440" y="5310360"/>
            <a:ext cx="719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52920" y="5310360"/>
            <a:ext cx="731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276880" y="5310360"/>
            <a:ext cx="641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MCG Addition to R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MCG -- Leave Multicast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t to a Multicast Agent by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ly is 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4952880"/>
            <a:ext cx="57913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5257800"/>
            <a:ext cx="57913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611520" y="5234040"/>
            <a:ext cx="1600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ktWay Tra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842000" y="4319640"/>
            <a:ext cx="1047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MC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289560" y="4319640"/>
            <a:ext cx="8190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RP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4648320"/>
            <a:ext cx="57913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343400"/>
            <a:ext cx="57913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4343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4343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95960" y="4648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00480" y="4648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00480" y="4952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4952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4952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95960" y="4952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00480" y="4343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657440" y="4929120"/>
            <a:ext cx="831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57440" y="43196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090880" y="43196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25760" y="4319640"/>
            <a:ext cx="206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ination-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28720" y="462456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019240" y="462456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743200" y="4624560"/>
            <a:ext cx="1582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-Length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52920" y="462456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915080" y="462456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565600" y="4624560"/>
            <a:ext cx="164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-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854680" y="4929120"/>
            <a:ext cx="1708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al-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452680" y="4929120"/>
            <a:ext cx="693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38440" y="4929120"/>
            <a:ext cx="719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52920" y="4929120"/>
            <a:ext cx="731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276880" y="4929120"/>
            <a:ext cx="641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les for Multica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7524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insure that all messages sent to a logical address get to the Multicast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an be done directly (point-to-point) or via some physical layer multicast/broad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lf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cast messages coming into SAN must at least be sent to the Multicast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cast messages going out of the SAN must be sent to the twin H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Implementation for N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 to what IP does (RFC 11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p the logical address space to ethernet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ktWay multicast is then ethernet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cast Agent subscribes to all multicast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CE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broadcast or point-to-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use point-to-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(outboun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25640" y="1371600"/>
            <a:ext cx="2243160" cy="2438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31800" y="2133720"/>
            <a:ext cx="144360" cy="152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59080" y="2743200"/>
            <a:ext cx="144360" cy="152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82680" y="2971800"/>
            <a:ext cx="144360" cy="152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79720" y="1828800"/>
            <a:ext cx="14436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1387440" y="1828800"/>
            <a:ext cx="14436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603440" y="1981080"/>
            <a:ext cx="1376280" cy="838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27400" y="3124080"/>
            <a:ext cx="57924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11280" y="1805040"/>
            <a:ext cx="793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M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090880" y="2414520"/>
            <a:ext cx="793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M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381400" y="2871720"/>
            <a:ext cx="793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M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73200" y="3886200"/>
            <a:ext cx="2243160" cy="2438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79720" y="4648320"/>
            <a:ext cx="144360" cy="152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06640" y="5257800"/>
            <a:ext cx="144360" cy="152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30600" y="5486400"/>
            <a:ext cx="144360" cy="152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27640" y="4343400"/>
            <a:ext cx="14436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32280" y="1576440"/>
            <a:ext cx="552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479840" y="4091040"/>
            <a:ext cx="552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10200" y="1371600"/>
            <a:ext cx="2244600" cy="2438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16360" y="2133720"/>
            <a:ext cx="144360" cy="152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5080" y="2743200"/>
            <a:ext cx="144360" cy="152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69040" y="2971800"/>
            <a:ext cx="144360" cy="152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64280" y="1828800"/>
            <a:ext cx="14436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861080" y="1981080"/>
            <a:ext cx="130320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216480" y="1576440"/>
            <a:ext cx="552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059440" y="1805040"/>
            <a:ext cx="488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41280" y="1676520"/>
            <a:ext cx="14616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06640" y="3352680"/>
            <a:ext cx="14436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381400" y="393876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887560" y="348156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710320" y="310032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118040" y="142416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33480" y="142416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27640" y="1676520"/>
            <a:ext cx="14436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89200" y="4191120"/>
            <a:ext cx="14616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54560" y="5867280"/>
            <a:ext cx="14436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3000" y="3352680"/>
            <a:ext cx="14436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406760" y="591984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75200" y="3886200"/>
            <a:ext cx="2243160" cy="2438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81720" y="4648320"/>
            <a:ext cx="144360" cy="152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08640" y="5257800"/>
            <a:ext cx="146160" cy="152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32600" y="5486400"/>
            <a:ext cx="146160" cy="152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829640" y="4343400"/>
            <a:ext cx="14436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881840" y="4091040"/>
            <a:ext cx="552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375680" y="561492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783400" y="393876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3000" y="4191120"/>
            <a:ext cx="14436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756560" y="5867280"/>
            <a:ext cx="14616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6454800" y="4495680"/>
            <a:ext cx="1374840" cy="8384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6237360" y="4267080"/>
            <a:ext cx="1592280" cy="152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87440" y="3581280"/>
            <a:ext cx="1013040" cy="1752840"/>
          </a:xfrm>
          <a:custGeom>
            <a:avLst/>
            <a:gdLst/>
            <a:ahLst/>
            <a:rect l="0" t="0" r="r" b="b"/>
            <a:pathLst>
              <a:path fill="none" w="2814" h="4869">
                <a:moveTo>
                  <a:pt x="0" y="0"/>
                </a:moveTo>
                <a:lnTo>
                  <a:pt x="0" y="0"/>
                </a:lnTo>
                <a:cubicBezTo>
                  <a:pt x="0" y="855"/>
                  <a:pt x="130" y="1694"/>
                  <a:pt x="377" y="2435"/>
                </a:cubicBezTo>
                <a:cubicBezTo>
                  <a:pt x="624" y="3175"/>
                  <a:pt x="979" y="3789"/>
                  <a:pt x="1407" y="4217"/>
                </a:cubicBezTo>
                <a:cubicBezTo>
                  <a:pt x="1835" y="4644"/>
                  <a:pt x="2320" y="4869"/>
                  <a:pt x="2814" y="4869"/>
                </a:cubicBezTo>
              </a:path>
            </a:pathLst>
          </a:custGeom>
          <a:ln w="12600">
            <a:solidFill>
              <a:srgbClr val="000000"/>
            </a:solidFill>
            <a:custDash>
              <a:ds d="100000" sp="100000"/>
            </a:custDash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829640" y="4495680"/>
            <a:ext cx="73080" cy="1371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59320" y="2590920"/>
            <a:ext cx="578880" cy="1219680"/>
          </a:xfrm>
          <a:custGeom>
            <a:avLst/>
            <a:gdLst/>
            <a:ahLst/>
            <a:rect l="0" t="0" r="r" b="b"/>
            <a:pathLst>
              <a:path fill="none" w="1608" h="3388">
                <a:moveTo>
                  <a:pt x="1608" y="0"/>
                </a:moveTo>
                <a:lnTo>
                  <a:pt x="1608" y="0"/>
                </a:lnTo>
                <a:cubicBezTo>
                  <a:pt x="1326" y="0"/>
                  <a:pt x="1048" y="157"/>
                  <a:pt x="804" y="454"/>
                </a:cubicBezTo>
                <a:cubicBezTo>
                  <a:pt x="560" y="751"/>
                  <a:pt x="357" y="1179"/>
                  <a:pt x="215" y="1694"/>
                </a:cubicBezTo>
                <a:cubicBezTo>
                  <a:pt x="74" y="2209"/>
                  <a:pt x="0" y="2793"/>
                  <a:pt x="0" y="3388"/>
                </a:cubicBezTo>
              </a:path>
            </a:pathLst>
          </a:custGeom>
          <a:ln w="1260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26080" y="2590920"/>
            <a:ext cx="506880" cy="1219680"/>
          </a:xfrm>
          <a:custGeom>
            <a:avLst/>
            <a:gdLst/>
            <a:ahLst/>
            <a:rect l="0" t="0" r="r" b="b"/>
            <a:pathLst>
              <a:path fill="none" w="1408" h="3388">
                <a:moveTo>
                  <a:pt x="1408" y="3388"/>
                </a:moveTo>
                <a:lnTo>
                  <a:pt x="1408" y="3388"/>
                </a:lnTo>
                <a:lnTo>
                  <a:pt x="1408" y="3388"/>
                </a:lnTo>
                <a:cubicBezTo>
                  <a:pt x="1408" y="2793"/>
                  <a:pt x="1343" y="2209"/>
                  <a:pt x="1219" y="1694"/>
                </a:cubicBezTo>
                <a:cubicBezTo>
                  <a:pt x="1096" y="1179"/>
                  <a:pt x="918" y="751"/>
                  <a:pt x="704" y="454"/>
                </a:cubicBezTo>
                <a:cubicBezTo>
                  <a:pt x="490" y="157"/>
                  <a:pt x="24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178760" y="4495680"/>
            <a:ext cx="723960" cy="990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3774960" y="5638680"/>
            <a:ext cx="57960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35360" y="4343400"/>
            <a:ext cx="14436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051000" y="4495680"/>
            <a:ext cx="1376640" cy="838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611520" y="4929120"/>
            <a:ext cx="1231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RC 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105000" y="5767560"/>
            <a:ext cx="1231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RC 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887560" y="4167360"/>
            <a:ext cx="1231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RC 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584680" y="4267080"/>
            <a:ext cx="508320" cy="152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902720" y="6019920"/>
            <a:ext cx="36180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(inboun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14360" y="1371600"/>
            <a:ext cx="2244600" cy="2438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20880" y="2133720"/>
            <a:ext cx="144360" cy="152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49600" y="2743200"/>
            <a:ext cx="144360" cy="152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73200" y="2971800"/>
            <a:ext cx="144360" cy="152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68800" y="1828800"/>
            <a:ext cx="14436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321000" y="1576440"/>
            <a:ext cx="552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13400" y="1600200"/>
            <a:ext cx="2243160" cy="2438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2362320"/>
            <a:ext cx="144360" cy="152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946840" y="2971800"/>
            <a:ext cx="146160" cy="152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70800" y="3200400"/>
            <a:ext cx="146160" cy="152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467480" y="2057400"/>
            <a:ext cx="14436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520040" y="1805040"/>
            <a:ext cx="552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31800" y="1676520"/>
            <a:ext cx="14436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197160" y="3352680"/>
            <a:ext cx="14436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176640" y="348156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520040" y="332892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421240" y="165276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222200" y="142416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30840" y="1905120"/>
            <a:ext cx="14436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394400" y="3581280"/>
            <a:ext cx="14616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62280" y="3886200"/>
            <a:ext cx="2244600" cy="2438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68800" y="4648320"/>
            <a:ext cx="144360" cy="152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97160" y="5257800"/>
            <a:ext cx="144360" cy="152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21120" y="5486400"/>
            <a:ext cx="144360" cy="152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716360" y="4343400"/>
            <a:ext cx="14436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768920" y="4091040"/>
            <a:ext cx="552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262400" y="561492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670120" y="393876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79720" y="4191120"/>
            <a:ext cx="14436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45080" y="5867280"/>
            <a:ext cx="14436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341520" y="4495680"/>
            <a:ext cx="1374840" cy="8384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76520" y="3581280"/>
            <a:ext cx="1014120" cy="1752840"/>
          </a:xfrm>
          <a:custGeom>
            <a:avLst/>
            <a:gdLst/>
            <a:ahLst/>
            <a:rect l="0" t="0" r="r" b="b"/>
            <a:pathLst>
              <a:path fill="none" w="2817" h="4869">
                <a:moveTo>
                  <a:pt x="0" y="0"/>
                </a:moveTo>
                <a:lnTo>
                  <a:pt x="0" y="0"/>
                </a:lnTo>
                <a:cubicBezTo>
                  <a:pt x="0" y="855"/>
                  <a:pt x="130" y="1694"/>
                  <a:pt x="377" y="2435"/>
                </a:cubicBezTo>
                <a:cubicBezTo>
                  <a:pt x="625" y="3175"/>
                  <a:pt x="980" y="3789"/>
                  <a:pt x="1409" y="4217"/>
                </a:cubicBezTo>
                <a:cubicBezTo>
                  <a:pt x="1837" y="4644"/>
                  <a:pt x="2323" y="4869"/>
                  <a:pt x="2817" y="4869"/>
                </a:cubicBezTo>
              </a:path>
            </a:pathLst>
          </a:custGeom>
          <a:ln w="12600">
            <a:solidFill>
              <a:srgbClr val="000000"/>
            </a:solidFill>
            <a:custDash>
              <a:ds d="100000" sp="100000"/>
            </a:custDash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4716360" y="4495680"/>
            <a:ext cx="73080" cy="1371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065480" y="4495680"/>
            <a:ext cx="723960" cy="990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89440" y="6019920"/>
            <a:ext cx="36216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096920" y="1752480"/>
            <a:ext cx="434880" cy="76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933480" y="1805040"/>
            <a:ext cx="488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76520" y="1752480"/>
            <a:ext cx="1592280" cy="152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308320" y="1805040"/>
            <a:ext cx="488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3413160" y="4419720"/>
            <a:ext cx="1303200" cy="304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5295960" y="1981080"/>
            <a:ext cx="434880" cy="76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130720" y="2033640"/>
            <a:ext cx="488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875200" y="1981080"/>
            <a:ext cx="1592280" cy="152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40560" y="3733920"/>
            <a:ext cx="36216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875200" y="2057400"/>
            <a:ext cx="21780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02480" y="2057400"/>
            <a:ext cx="217440" cy="914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875200" y="1981080"/>
            <a:ext cx="868680" cy="1219680"/>
          </a:xfrm>
          <a:custGeom>
            <a:avLst/>
            <a:gdLst/>
            <a:ahLst/>
            <a:rect l="0" t="0" r="r" b="b"/>
            <a:pathLst>
              <a:path fill="none" w="2413" h="3388">
                <a:moveTo>
                  <a:pt x="2413" y="3388"/>
                </a:moveTo>
                <a:lnTo>
                  <a:pt x="2413" y="3388"/>
                </a:lnTo>
                <a:lnTo>
                  <a:pt x="2413" y="3388"/>
                </a:lnTo>
                <a:cubicBezTo>
                  <a:pt x="2413" y="2793"/>
                  <a:pt x="2302" y="2209"/>
                  <a:pt x="2090" y="1694"/>
                </a:cubicBezTo>
                <a:cubicBezTo>
                  <a:pt x="1878" y="1179"/>
                  <a:pt x="1573" y="751"/>
                  <a:pt x="1206" y="454"/>
                </a:cubicBezTo>
                <a:cubicBezTo>
                  <a:pt x="840" y="157"/>
                  <a:pt x="424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875200" y="1981080"/>
            <a:ext cx="1230840" cy="1448280"/>
          </a:xfrm>
          <a:custGeom>
            <a:avLst/>
            <a:gdLst/>
            <a:ahLst/>
            <a:rect l="0" t="0" r="r" b="b"/>
            <a:pathLst>
              <a:path fill="none" w="3419" h="4023">
                <a:moveTo>
                  <a:pt x="3419" y="4023"/>
                </a:moveTo>
                <a:lnTo>
                  <a:pt x="3419" y="4023"/>
                </a:lnTo>
                <a:lnTo>
                  <a:pt x="3419" y="4023"/>
                </a:lnTo>
                <a:cubicBezTo>
                  <a:pt x="3419" y="3317"/>
                  <a:pt x="3261" y="2623"/>
                  <a:pt x="2961" y="2011"/>
                </a:cubicBezTo>
                <a:cubicBezTo>
                  <a:pt x="2661" y="1400"/>
                  <a:pt x="2229" y="892"/>
                  <a:pt x="1709" y="539"/>
                </a:cubicBezTo>
                <a:cubicBezTo>
                  <a:pt x="1190" y="186"/>
                  <a:pt x="60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75200" y="1981080"/>
            <a:ext cx="1592640" cy="1600560"/>
          </a:xfrm>
          <a:custGeom>
            <a:avLst/>
            <a:gdLst/>
            <a:ahLst/>
            <a:rect l="0" t="0" r="r" b="b"/>
            <a:pathLst>
              <a:path fill="none" w="4424" h="4446">
                <a:moveTo>
                  <a:pt x="4424" y="4446"/>
                </a:moveTo>
                <a:lnTo>
                  <a:pt x="4424" y="4446"/>
                </a:lnTo>
                <a:lnTo>
                  <a:pt x="4424" y="4446"/>
                </a:lnTo>
                <a:cubicBezTo>
                  <a:pt x="4424" y="3666"/>
                  <a:pt x="4220" y="2899"/>
                  <a:pt x="3831" y="2223"/>
                </a:cubicBezTo>
                <a:cubicBezTo>
                  <a:pt x="3443" y="1547"/>
                  <a:pt x="2885" y="986"/>
                  <a:pt x="2212" y="596"/>
                </a:cubicBezTo>
                <a:cubicBezTo>
                  <a:pt x="1539" y="205"/>
                  <a:pt x="77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875200" y="1981080"/>
            <a:ext cx="579960" cy="1676880"/>
          </a:xfrm>
          <a:custGeom>
            <a:avLst/>
            <a:gdLst/>
            <a:ahLst/>
            <a:rect l="0" t="0" r="r" b="b"/>
            <a:pathLst>
              <a:path fill="none" w="1611" h="4658">
                <a:moveTo>
                  <a:pt x="1611" y="4658"/>
                </a:moveTo>
                <a:lnTo>
                  <a:pt x="1611" y="4658"/>
                </a:lnTo>
                <a:lnTo>
                  <a:pt x="1611" y="4658"/>
                </a:lnTo>
                <a:cubicBezTo>
                  <a:pt x="1611" y="3840"/>
                  <a:pt x="1537" y="3037"/>
                  <a:pt x="1395" y="2329"/>
                </a:cubicBezTo>
                <a:cubicBezTo>
                  <a:pt x="1254" y="1621"/>
                  <a:pt x="1050" y="1033"/>
                  <a:pt x="805" y="624"/>
                </a:cubicBezTo>
                <a:cubicBezTo>
                  <a:pt x="561" y="215"/>
                  <a:pt x="283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927760" y="4068720"/>
            <a:ext cx="1722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875200" y="1828800"/>
            <a:ext cx="795600" cy="15228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92400" y="1219320"/>
            <a:ext cx="2606760" cy="5181480"/>
          </a:xfrm>
          <a:prstGeom prst="line">
            <a:avLst/>
          </a:prstGeom>
          <a:ln w="38160">
            <a:solidFill>
              <a:srgbClr val="000000"/>
            </a:solidFill>
            <a:custDash>
              <a:ds d="66981" sp="66981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CDCRL</dc:creator>
  <dc:description/>
  <dc:language>en-US</dc:language>
  <cp:lastModifiedBy>Gehrett W. Ellis</cp:lastModifiedBy>
  <cp:revision>0</cp:revision>
  <dc:subject/>
  <dc:title>Multicast Strawman</dc:title>
</cp:coreProperties>
</file>