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380880"/>
            <a:ext cx="8229600" cy="624852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SU UDP Implementation of PktWay (MsgWa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F PktWay (MsgWay)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24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mas P. McMa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U UDP PktWay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6640" y="6324480"/>
            <a:ext cx="3330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8040" y="5410080"/>
            <a:ext cx="14479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572000" y="5943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48040" y="4495680"/>
            <a:ext cx="14479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7200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111560" y="4471920"/>
            <a:ext cx="92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t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168800" y="470052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24160" y="5375160"/>
            <a:ext cx="907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111560" y="5638680"/>
            <a:ext cx="92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240160" y="4722840"/>
            <a:ext cx="3168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s messages to/from “kerne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ce from/to shared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49600" y="1676520"/>
            <a:ext cx="15192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873080" y="1652760"/>
            <a:ext cx="1434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9600" y="1981080"/>
            <a:ext cx="15192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728720" y="1957320"/>
            <a:ext cx="15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 “High”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0520" y="1676520"/>
            <a:ext cx="15192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24360" y="1652760"/>
            <a:ext cx="1434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0520" y="1981080"/>
            <a:ext cx="15192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80000" y="1957320"/>
            <a:ext cx="15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 “High”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6240" y="1676520"/>
            <a:ext cx="15210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951520" y="1652760"/>
            <a:ext cx="1434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26240" y="1981080"/>
            <a:ext cx="15210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807160" y="1957320"/>
            <a:ext cx="15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 “High”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544840" y="2286000"/>
            <a:ext cx="94140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30840" y="2286000"/>
            <a:ext cx="86832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572000" y="2286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52480" y="4570560"/>
            <a:ext cx="2136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ultiplexes based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 &amp; 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35240" y="2589120"/>
            <a:ext cx="974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_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52920" y="2513160"/>
            <a:ext cx="878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289560" y="2589120"/>
            <a:ext cx="878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48040" y="57150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44840" y="3352680"/>
            <a:ext cx="38368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559320" y="3809880"/>
            <a:ext cx="65088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572000" y="38098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861080" y="3809880"/>
            <a:ext cx="86976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33480" y="34052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97160" y="3352680"/>
            <a:ext cx="650880" cy="4572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2920" y="3352680"/>
            <a:ext cx="650880" cy="4572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9040" y="3352680"/>
            <a:ext cx="650880" cy="45720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176640" y="3427560"/>
            <a:ext cx="74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262400" y="3427560"/>
            <a:ext cx="74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48160" y="3427560"/>
            <a:ext cx="74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25760" y="3884760"/>
            <a:ext cx="15447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tore m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et semap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617920" y="2284560"/>
            <a:ext cx="1374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heck s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Get m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97160" y="3352680"/>
            <a:ext cx="71280" cy="763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2920" y="3352680"/>
            <a:ext cx="71280" cy="763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69040" y="3352680"/>
            <a:ext cx="71280" cy="763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105000" y="3122640"/>
            <a:ext cx="26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191120" y="3122640"/>
            <a:ext cx="26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276880" y="3122640"/>
            <a:ext cx="26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16480" y="6148440"/>
            <a:ext cx="1739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ing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124080" y="4038480"/>
            <a:ext cx="579600" cy="22860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893960" y="4038480"/>
            <a:ext cx="650880" cy="22860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PW Send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49600" y="2286000"/>
            <a:ext cx="5935680" cy="1981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49600" y="3276720"/>
            <a:ext cx="59353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44840" y="3505320"/>
            <a:ext cx="5796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59320" y="3505320"/>
            <a:ext cx="5778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505320"/>
            <a:ext cx="5796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70800" y="3505320"/>
            <a:ext cx="5796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809880"/>
            <a:ext cx="435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37120" y="3809880"/>
            <a:ext cx="434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51600" y="3809880"/>
            <a:ext cx="433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37360" y="3809880"/>
            <a:ext cx="433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38680" y="3260880"/>
            <a:ext cx="60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00480" y="2666880"/>
            <a:ext cx="941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86240" y="2666880"/>
            <a:ext cx="941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2666880"/>
            <a:ext cx="941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08640" y="2666880"/>
            <a:ext cx="941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979720" y="3048120"/>
            <a:ext cx="21744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992400" y="3048120"/>
            <a:ext cx="21780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06880" y="3048120"/>
            <a:ext cx="21600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7032600" y="3048120"/>
            <a:ext cx="7308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00480" y="2743200"/>
            <a:ext cx="941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86240" y="2743200"/>
            <a:ext cx="941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8640" y="2743200"/>
            <a:ext cx="941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743200"/>
            <a:ext cx="941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33480" y="2620800"/>
            <a:ext cx="946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04760" y="36878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013520" y="3078000"/>
            <a:ext cx="1827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176640" y="1812960"/>
            <a:ext cx="309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(PW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335480" y="447984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 low (output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93960" y="4952880"/>
            <a:ext cx="180972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893960" y="3505320"/>
            <a:ext cx="650880" cy="14475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3505320"/>
            <a:ext cx="579600" cy="14475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946160" y="5005440"/>
            <a:ext cx="1809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 PW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46160" y="52340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946160" y="5462640"/>
            <a:ext cx="1625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46160" y="5919840"/>
            <a:ext cx="1231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946160" y="5691240"/>
            <a:ext cx="1498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82920" y="4495680"/>
            <a:ext cx="310824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PW Receive Hash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03680" y="3505320"/>
            <a:ext cx="5796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68800" y="3809880"/>
            <a:ext cx="434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95960" y="4419720"/>
            <a:ext cx="941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5960" y="4495680"/>
            <a:ext cx="941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203800" y="3459240"/>
            <a:ext cx="1982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flow Bu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507000" y="3916440"/>
            <a:ext cx="1827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321000" y="204156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105000" y="5470560"/>
            <a:ext cx="291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 low (input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89200" y="3505320"/>
            <a:ext cx="5796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89200" y="4191120"/>
            <a:ext cx="5796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20880" y="3429000"/>
            <a:ext cx="43488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55760" y="4495680"/>
            <a:ext cx="433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55760" y="3809880"/>
            <a:ext cx="433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366920" y="3916440"/>
            <a:ext cx="1347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28960" y="3519360"/>
            <a:ext cx="420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814480" y="4205160"/>
            <a:ext cx="420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14480" y="3519360"/>
            <a:ext cx="420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65240" y="1981080"/>
            <a:ext cx="137628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55760" y="2438280"/>
            <a:ext cx="941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507000" y="204156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51600" y="1981080"/>
            <a:ext cx="137484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40320" y="2438280"/>
            <a:ext cx="941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2979720" y="2819520"/>
            <a:ext cx="21744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210200" y="2438280"/>
            <a:ext cx="12301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308320" y="246852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492880" y="246852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87440" y="3200400"/>
            <a:ext cx="5791320" cy="1905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1080" y="320040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97160" y="4267080"/>
            <a:ext cx="2098800" cy="152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51000" y="5486400"/>
            <a:ext cx="296856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le Code for Future Endeav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modules have been written so that they are not dependent on existence of shared mem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Queu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Tab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most of the PW “Low” code is reusable in future high performance PW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 User API code can be reused (the code to transfer data to/from shared memory will be repla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stic Time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65240" y="1905120"/>
            <a:ext cx="6153120" cy="380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728720" y="5889600"/>
            <a:ext cx="565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959200" y="5889600"/>
            <a:ext cx="525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191120" y="5889600"/>
            <a:ext cx="623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492880" y="5889600"/>
            <a:ext cx="584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651720" y="5889600"/>
            <a:ext cx="574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881840" y="5889600"/>
            <a:ext cx="623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6524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9716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764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776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8824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9716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42764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88824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65776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97280" y="150012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65240" y="2133720"/>
            <a:ext cx="1231920" cy="152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97160" y="3505320"/>
            <a:ext cx="2460600" cy="152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55760" y="2590920"/>
            <a:ext cx="941400" cy="152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06880" y="4419720"/>
            <a:ext cx="2533680" cy="152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88240" y="5334120"/>
            <a:ext cx="123048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16040" y="2055960"/>
            <a:ext cx="1290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B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16040" y="2513160"/>
            <a:ext cx="1290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C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8600" y="3427560"/>
            <a:ext cx="1549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rinet Port 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16040" y="4341960"/>
            <a:ext cx="1301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D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6040" y="5256360"/>
            <a:ext cx="1273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ury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49320" y="2817720"/>
            <a:ext cx="979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9720" y="3048120"/>
            <a:ext cx="71280" cy="152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27640" y="3962520"/>
            <a:ext cx="2460600" cy="1522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49480" y="388476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7760" y="4876920"/>
            <a:ext cx="2460600" cy="1522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4646520"/>
            <a:ext cx="1262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11836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ed PktWa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the MSU PktWay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PktWa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Implementation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nd Output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ility Issues and 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tWay Issues We Targe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erformance, 0 copy (wherever possible), low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memory usage and management (for possible ports to embedded syst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 of feasibility and usefulness of Pkt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modation of efficient layering of MPI, RDP, etc. on top of Pkt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DP implementation is only a starting point, existing as a proof of principle -- high performance implementations will follow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U PW Send 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5238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W_Post_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st, PT, TE, *buf, len, is_L3, &amp;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W_Persistent_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st, PT, TE, *buf, len, is_L3, &amp;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W_Multi_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st, PT, TE, **bufs, num_bufs, len, is_L3, &amp;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W_Get_info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fo, 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W_Wait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quest, st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W_Cancel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W_Test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U PW Receive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W_Post_re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rc, PT, TE, *buf, len, &amp;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W_Persistent_re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rc, PT, TE, *buf, len, &amp;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W_Multi_re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rc, PT, TE, **bufs, num_bufs, len, &amp;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W_Wait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quest, &amp;st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W_Cancel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W_Test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8288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tWay User Interface (PW “High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tWay “Lo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send requests of al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incoming and outgoing RRP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Hand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receive requests of al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s incoming PW messages with receiv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PktWay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6640" y="6095880"/>
            <a:ext cx="3330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48040" y="5029200"/>
            <a:ext cx="14479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572000" y="5562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16480" y="5919840"/>
            <a:ext cx="1739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ing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48040" y="3962520"/>
            <a:ext cx="14479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7200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111560" y="3938760"/>
            <a:ext cx="92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t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168800" y="416736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108320" y="5005440"/>
            <a:ext cx="958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13080" y="5234040"/>
            <a:ext cx="717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226120" y="5103720"/>
            <a:ext cx="1973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 to and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259240" y="4189320"/>
            <a:ext cx="29894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s messages to/from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ce from/to user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49600" y="1676520"/>
            <a:ext cx="15192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73080" y="1652760"/>
            <a:ext cx="1434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49600" y="1981080"/>
            <a:ext cx="15192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801800" y="1957320"/>
            <a:ext cx="15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 “High”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0520" y="1676520"/>
            <a:ext cx="15192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24360" y="1652760"/>
            <a:ext cx="1434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0520" y="1981080"/>
            <a:ext cx="15192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52720" y="1957320"/>
            <a:ext cx="15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 “High”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26240" y="1676520"/>
            <a:ext cx="15210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951520" y="1652760"/>
            <a:ext cx="1434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26240" y="1981080"/>
            <a:ext cx="15210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880240" y="1957320"/>
            <a:ext cx="15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 “High”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544840" y="2286000"/>
            <a:ext cx="1738080" cy="1676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789440" y="2286000"/>
            <a:ext cx="1809720" cy="1676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572000" y="228600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52480" y="3884760"/>
            <a:ext cx="2136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ultiplexes based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 &amp; 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25760" y="2741760"/>
            <a:ext cx="974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_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720960" y="2741760"/>
            <a:ext cx="878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130720" y="2665440"/>
            <a:ext cx="878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PW “Low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41280" y="2514600"/>
            <a:ext cx="66614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41280" y="5486400"/>
            <a:ext cx="66614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65240" y="3048120"/>
            <a:ext cx="1158840" cy="1905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5960" y="3048120"/>
            <a:ext cx="1158840" cy="1905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544840" y="2514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875200" y="2514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544840" y="4952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875200" y="4952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13160" y="3048120"/>
            <a:ext cx="434880" cy="1905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43880" y="3048120"/>
            <a:ext cx="434880" cy="1905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124080" y="327672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124080" y="335268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124080" y="3200400"/>
            <a:ext cx="730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3352680"/>
            <a:ext cx="730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54800" y="464832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454800" y="472428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454800" y="4572000"/>
            <a:ext cx="712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54800" y="4724280"/>
            <a:ext cx="712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124080" y="464832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124080" y="472428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454800" y="327672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454800" y="335268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341520" y="4572000"/>
            <a:ext cx="716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341520" y="4724280"/>
            <a:ext cx="716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670800" y="3352680"/>
            <a:ext cx="730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670800" y="3200400"/>
            <a:ext cx="730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14560" y="3641760"/>
            <a:ext cx="1165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43480" y="3641760"/>
            <a:ext cx="1165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887560" y="3794040"/>
            <a:ext cx="1581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16480" y="3794040"/>
            <a:ext cx="166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48040" y="38098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48040" y="38862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151600" y="3657600"/>
            <a:ext cx="1443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51600" y="3886200"/>
            <a:ext cx="1443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73680" y="3840120"/>
            <a:ext cx="1249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P ms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38440" y="1919160"/>
            <a:ext cx="2001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67160" y="5576760"/>
            <a:ext cx="2306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Modifications to Gener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Memory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communication region between multiple applications and single PW “Lo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s memory buffers f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s send and receiv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of PW “Low” functionality moved into the User Level PW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ing user send and receive requests into PW “Low” request management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ng data to/from user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CDCRL</dc:creator>
  <dc:description/>
  <dc:language>en-US</dc:language>
  <cp:lastModifiedBy>Gehrett W. Ellis</cp:lastModifiedBy>
  <cp:revision>0</cp:revision>
  <dc:subject>IETF June 24, 1996</dc:subject>
  <dc:title>PacketWay Overview</dc:title>
</cp:coreProperties>
</file>