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57200" y="380880"/>
            <a:ext cx="8229600" cy="6248520"/>
          </a:xfrm>
          <a:prstGeom prst="rect">
            <a:avLst/>
          </a:prstGeom>
          <a:noFill/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685800" y="22860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ktWay Proposed Security Exten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1371600" y="3886200"/>
            <a:ext cx="6400800" cy="19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TF PktWay (MsgWay) W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ne 24, 199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bert T. Geor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ssissippi State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e PktWay Optional Head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 Header for PT =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ains parameters necessary for data encryption/decry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cryption parameters are dependent on encryption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60948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SHARE Optional Hea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RE uses 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 Header contains long-cycle chaining inform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itial Value (IV) is 64-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e PktWay SCID Symb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mbol address undefined, pending PktWay symbol defin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designate a negotiate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 contex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ween two SAN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685800" y="60948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e PktWay RRP Message 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RP Message 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gotiates Security Context with another ro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rently proposed as Code 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LS?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RP Message 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ery native security levels from another ro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rently proposed as Code 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e PktWay RRP Reco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RP Rec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a mechanism for authentication of RRP mess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useful for ordinary Pkt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e PktWay Node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ode Cap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 is capable of handling Secure PktWay pac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rently proposed as Code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e PktWay Error Mess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VILEG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rror Mes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icates insufficient privilege for op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rror Mes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icates incorrect security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rror Mes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icates unrecognized encryption k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e PktWay Sta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rently being implemented as a variant of MSU’s UDP PktWay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ed as level-C Pkt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quires Node Capa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resolved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onship with Pkt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fields, separate document, RF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disco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e PktWay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k sponsored by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RP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e Heterogeneous Application Runtime Environment (SHARE*HPSC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nder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rime contractor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ff Smith, Fred Shirley, Phil Mora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ssissippi State Universit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ub-contract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hony Skjellum, Robert George, Thom McMah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CNC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ub-contract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eg By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yrico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ecure PktWay architecture desig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nny Co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e PktWay 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 secure PktWay communication between trusted SAN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ute data across untrusted SAN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inimal, non-intrusive changes to Pkt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e PktWay Rou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ets from a red (trusted) SAN are encrypted and encapsulated into black PktWay ODB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ies on PktWay L3 forwar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2 forwarding i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llow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uting information internal to red SAN’s must not be exposed to black SAN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879480" y="6248520"/>
            <a:ext cx="1809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97160" y="6248520"/>
            <a:ext cx="2749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e PktWay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/Black SAN’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90400" y="3276720"/>
            <a:ext cx="2678040" cy="259092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946840" y="3276720"/>
            <a:ext cx="2679840" cy="259092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68800" y="3278160"/>
            <a:ext cx="2678040" cy="259092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84680" y="4419720"/>
            <a:ext cx="72396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906640" y="4419720"/>
            <a:ext cx="72396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882880" y="4481640"/>
            <a:ext cx="395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638680" y="4405320"/>
            <a:ext cx="608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69160" y="3429000"/>
            <a:ext cx="7938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584360" y="3429000"/>
            <a:ext cx="7938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044960" y="3413160"/>
            <a:ext cx="121752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025640" y="3962520"/>
            <a:ext cx="144360" cy="15228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096920" y="4800600"/>
            <a:ext cx="144360" cy="15228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327400" y="4495680"/>
            <a:ext cx="146160" cy="15228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893960" y="5105520"/>
            <a:ext cx="144360" cy="15228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526080" y="5029200"/>
            <a:ext cx="144360" cy="15228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756560" y="5105520"/>
            <a:ext cx="146160" cy="15228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4343400"/>
            <a:ext cx="144360" cy="15228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032600" y="4419720"/>
            <a:ext cx="146160" cy="15228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323120" y="5257800"/>
            <a:ext cx="144360" cy="15228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974000" y="4267080"/>
            <a:ext cx="144360" cy="15228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170000" y="4114800"/>
            <a:ext cx="506520" cy="304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241280" y="4495680"/>
            <a:ext cx="435240" cy="304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828800" y="4419720"/>
            <a:ext cx="498600" cy="152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1981080" y="4648320"/>
            <a:ext cx="38124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73200" y="4572000"/>
            <a:ext cx="433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6670800" y="4572000"/>
            <a:ext cx="43488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7178760" y="4343400"/>
            <a:ext cx="795240" cy="152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178760" y="4572000"/>
            <a:ext cx="5778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6670800" y="5105520"/>
            <a:ext cx="65232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6308640" y="4495680"/>
            <a:ext cx="723960" cy="152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3263760" y="4481640"/>
            <a:ext cx="395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931000" y="4481640"/>
            <a:ext cx="395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5549760" y="4481640"/>
            <a:ext cx="395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76720" y="44197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943600" y="44197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879480" y="6248520"/>
            <a:ext cx="1809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197160" y="6248520"/>
            <a:ext cx="2749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e PktWay Rou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/Black H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55760" y="3429000"/>
            <a:ext cx="2604960" cy="205740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861080" y="3429000"/>
            <a:ext cx="1376280" cy="20574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5129280" y="4098960"/>
            <a:ext cx="89532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2451240" y="4100400"/>
            <a:ext cx="67464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13160" y="3427560"/>
            <a:ext cx="0" cy="20588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611520" y="4403880"/>
            <a:ext cx="99684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6237360" y="4495680"/>
            <a:ext cx="868320" cy="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1387440" y="4572000"/>
            <a:ext cx="868320" cy="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537000" y="3795840"/>
            <a:ext cx="10303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yp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osed PktWay Security Extensions (I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cket 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Optional Headers for each Encryption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ecurity Context ID) Symb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60948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osed PktWay Security Extensions (I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additional RRP message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RRP record for 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Node Capability for encry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Additional error mess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e PktWay Packet Ty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cket Typ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rently proposed as Code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e Extension Field contains key 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icates that PktWay packet contains encrypted OD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quires Optional He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obert T. George</dc:creator>
  <dc:description/>
  <dc:language>en-US</dc:language>
  <cp:lastModifiedBy>Gehrett W. Ellis</cp:lastModifiedBy>
  <cp:revision>0</cp:revision>
  <dc:subject>Secure PktWay Extensions-</dc:subject>
  <dc:title>PktWay Proposed Security Extensions</dc:title>
</cp:coreProperties>
</file>