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77800" y="1636560"/>
            <a:ext cx="8242200" cy="128880"/>
            <a:chOff x="577800" y="1636560"/>
            <a:chExt cx="8242200" cy="128880"/>
          </a:xfrm>
        </p:grpSpPr>
        <p:sp>
          <p:nvSpPr>
            <p:cNvPr id="1" name=""/>
            <p:cNvSpPr/>
            <p:nvPr/>
          </p:nvSpPr>
          <p:spPr>
            <a:xfrm>
              <a:off x="590400" y="17654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7800" y="1636560"/>
              <a:ext cx="8242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7640" y="7920"/>
            <a:ext cx="9107640" cy="68310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803240" y="312840"/>
            <a:ext cx="5470560" cy="19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Internet PKI:  Part 1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Certificate and CRL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71600" y="3886200"/>
            <a:ext cx="6400800" cy="17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uss Hous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OXERXES-Caps"/>
                <a:ea typeface="OXERXES-Caps"/>
              </a:rPr>
              <a:t>SPYRUS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Chief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housley@spyru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14240" y="855720"/>
            <a:ext cx="69040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X.509 Version 2 CRL Syntax </a:t>
            </a:r>
            <a:r>
              <a:rPr b="1" i="1" lang="en-US" sz="20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95440" y="1881360"/>
            <a:ext cx="818676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lgorithmIdentifier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lgorithm               OBJECT IDENTIF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eters              ANY DEFINED BY algorithm OPTIONAL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contains a value of the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registered for use with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algorithm object identifier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rtificateSerialNumber  ::= 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s  ::=  SEQUENCE OF 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nId                  OBJECT IDENTIF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ritical                BOOLEAN DEFAULT FALS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nValue               OCTET STRING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contains a DER encoding of a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of the type registered for use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the extnId object identifier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55640" y="849240"/>
            <a:ext cx="646416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X.509 Version 1 CRL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33480" y="1908000"/>
            <a:ext cx="7162920" cy="52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SIGNATURE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specifies the the signature algorithm and associated hash function used to sign the C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ISSUER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the distinguished name of the CA responsible for this C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THIS UPDATE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the date and time when this CRL was issu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NEXT UPDATE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the date and time by which the ISSUER will issue the next edition of the C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REVOKED CERTIFICATES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a sequence entries consisting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SERIAL NUMBER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of the revoked certif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REVOCATION DATE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 when the certificate was revo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14240" y="855720"/>
            <a:ext cx="646416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X.509 Version 2 CRL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CRL EXTENSIONS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an optional sequence of fields pertaining to the whole CR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CRL ENTRY EXTENSIONS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an optional sequence of fields pertaining to a specific CRL 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6040" y="893880"/>
            <a:ext cx="505476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Standard CRL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981080"/>
            <a:ext cx="750564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Five CRL extensions are def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Authority Key Identifier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Issuer Alternative Name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on-critical and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L Number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Issuing Distribution Point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Delta CRL Indicator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itical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B Optim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Three CRL entry extensions are def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ason Code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Hold Instruction Code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Invalidity Date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58720" y="825480"/>
            <a:ext cx="776448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ISO/IEC and ITU-T X.509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Amendment on Certificate Extensions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Changes Since the D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79560" y="3807000"/>
            <a:ext cx="5653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Warwick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June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14240" y="855720"/>
            <a:ext cx="339552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Areas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87520" y="1846440"/>
            <a:ext cx="8267760" cy="49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iticality-relate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Key usag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am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Indirect C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Hold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Delta CR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Match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:  Every extension syntax change will mean a new OID.  Old OIDs to be phased out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614520"/>
            <a:ext cx="716292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Criticality-Related Changes (Gene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iticality of all extensions re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Still 3 altern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always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always non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itical/non-critical as CA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More extensions are now at CA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ationale given for each standard rule; more explanation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Any extension that can be critical now has clearly stated mandatory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614520"/>
            <a:ext cx="716292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Criticality-Related Changes (Specif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keyAttributes split into 3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subjectKeyId  (always non-cri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keyUsage  (CA cho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privateKeyUsagePeriod (always non-cri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ertificatePolicies changed to “CA choi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keyUsageRestriction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subjectAltNames and issuerAltNames changed to “CA choi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ameConstraints and policyConstraints changed to “CA choi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0720" y="614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Key Usage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Definitions clar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o change in the set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614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Name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2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ew options added to General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IP-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object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General Name now usable for any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end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L iss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L distribution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lear rules as to non-requirement for implementing all nam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15960" y="812880"/>
            <a:ext cx="810900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X.509 Version 3 Certificat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3240" y="1871640"/>
            <a:ext cx="74390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rtificate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bsCertificate       TBSCertifica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tureAlgorithm   AlgorithmIdentif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ture            BIT STRING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BSCertificate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        [0]  Version DEFAULT v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Number         CertificateSerialNumb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ture            AlgorithmIdentif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suer               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idity             Validi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ct              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ctPublicKeyInfo SubjectPublicKeyInf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suerUniqueID  [1]  IMPLICIT UniqueIdentifier OPTION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If present, version must be v2 or v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ctUniqueID [2]  IMPLICIT UniqueIdentifier OPTION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If present, version must be v2 or v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s      [3]  Extensions OP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If present, version must be v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614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ew name constraints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takes permitted subtrees and excluded subtrees constraints from X9.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adds the ability to chop the subtrees at numbered levels (min and 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the policy-linking and the complex name subordination options from the old name constraints have been dro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hain validation algorithm is now significantly simpl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Basic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o na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simplified to a single Boolean plus a length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614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Indirect C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an have a CRL Issuer whose CRL contains revocation notifications from multiple 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Extensions relating to CRL distribution points enhanced to support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ew CRL entry extension “certificateIssu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614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Hold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Mechanism retained but simpl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Expiry date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A “hold” reason code means that you should currently consider certificate revoked but it may be reinstat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If reinstated, entry just disappears from C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If revoked rather than reinstated, reason code changes on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90720" y="614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Delta CRL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Mechanism clar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Problems with links to CRL number cor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Deltas can now be cumulative from any desired base C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90720" y="614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Matching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ew “exact” matching rules added for all attributes (for admin. purpo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Extra fields added to the “certificate match”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33240" y="627120"/>
            <a:ext cx="810900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X.509 Version 3 Certificate Syntax </a:t>
            </a:r>
            <a:r>
              <a:rPr b="1" i="1" lang="en-US" sz="20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(continued)</a:t>
            </a: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3240" y="1871640"/>
            <a:ext cx="562608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 ::=  INTEGER  {  v1(0), v2(1), v3(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rtificateSerialNumber  ::= 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idity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Before            UTCTi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After             UTCTime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queIdentifier  ::=  BIT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ctPublicKeyInfo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lgorithm            AlgorithmIdentif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ctPublicKey     BIT STRING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s  ::=  SEQUENCE OF 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nID      OBJECT IDENTIF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ritical    BOOLEAN DEFAULT FALS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nValue   OCTET STRING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14240" y="855720"/>
            <a:ext cx="767088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X.509 Version 1 Certificate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SERIAL NUMBER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dentififies the certificate.  A unique integer is assigned by the Certification Authority (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SIGNATURE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specifies the the signature algorithm and associated hash function used to sign the certif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ISSUER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the distinguished name of the CA that issued the certif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VALIDITY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the time period that the certificate is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the distinguished name of the certificat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SUBJECT PUBLIC KEY INFO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contains the user’s public key.  For DSA, it may also conatin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3280" y="347760"/>
            <a:ext cx="851220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X.509 Version 2 &amp; 3 Certificate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ISSUER UNIQUE IDENTIFIER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not used in the PKIX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SUBJECT UNIQUE IDENTIFIER 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is not used in the PKIX profil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 Optima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 Optima Bold"/>
                <a:ea typeface="B Optima Bold"/>
              </a:rPr>
              <a:t>EXTENSIONS</a:t>
            </a: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 is an optional sequence of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14240" y="855720"/>
            <a:ext cx="614844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Standard Certificate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55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The X.509 Ammendment defines thirteen exten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Authority Key Identifier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Subject Key Identifier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Key Usage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Private Key Usage Period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ot recomm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ertificate Policies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Policy Mappings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Subject Alternative Names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on-critical and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Issuer Alternative Names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on-critical and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Subject Directory Attributes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ot recomm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Basic Constraints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ame Constraints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Policy Constraints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RL Distribution Points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critical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14240" y="855720"/>
            <a:ext cx="616284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Internet Certificate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ef091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Three extensions are specified in the PKIX profi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 Optima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Subject Information Access 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non-criti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 Optim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Authority Information Access 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on-critical and critical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B Optim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CA Information Access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recommended, </a:t>
            </a:r>
            <a:r>
              <a:rPr b="1" i="1" lang="en-US" sz="1800" spc="-1" strike="noStrike">
                <a:solidFill>
                  <a:srgbClr val="000000"/>
                </a:solidFill>
                <a:latin typeface="B Optima Bold"/>
                <a:ea typeface="B Optima Bold"/>
              </a:rPr>
              <a:t>non-critical and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14240" y="855720"/>
            <a:ext cx="717552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Internet Certificate Extension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3240" y="1871640"/>
            <a:ext cx="679932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ctInfoAccessSyntax ::= SEQUENCE OF AccessDescriptio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ityInfoAccessSyntax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rtStatus        [0] SEQUENCE OF AccessDescrip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rtRetrieval     [1] SEQUENCE OF AccessDescrip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Policy          [2] SEQUENCE OF AccessDescrip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Certs           [3] SEQUENCE OF AccessDescription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InfoAccessSyntax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rtStatus        [0] SEQUENCE OF AccessDescrip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rtRetrieval     [1] SEQUENCE OF AccessDescrip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Policy          [2] SEQUENCE OF AccessDescrip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Certs           [3] SEQUENCE OF AccessDescription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Description  ::=  SEQUENCE  {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accessMethod          OBJECT IDENTIFIER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accessLocation        GeneralName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14240" y="855720"/>
            <a:ext cx="5576760" cy="13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6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I Optima BoldOblique"/>
                <a:ea typeface="BI Optima BoldOblique"/>
              </a:rPr>
              <a:t>X.509 Version 2 CRL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3240" y="1871640"/>
            <a:ext cx="76532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rtificateList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bsCertList          TBSCertLis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tureAlgorithm   AlgorithmIdentif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ture            BIT STRING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BSCertList  ::= 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                Version OPTION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 if present, must be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ture               AlgorithmIdentif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suer                  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Update              UTCTi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Update              UTCTi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okedCertificates     SEQUENCE OF SEQUENCE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Certificate         CertificateSerialNumb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ocationDate          UTCTi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rlEntryExtensions      Extensions OPTIONAL  }  OPTION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rlExtensions           [0]  Extensions OPTIONAL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 ::= INTEGER  {  v1(0), v2(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Kent</dc:creator>
  <dc:description/>
  <dc:language>en-US</dc:language>
  <cp:lastModifiedBy>Gehrett W. Ellis</cp:lastModifiedBy>
  <cp:revision>0</cp:revision>
  <dc:subject/>
  <dc:title>Internet PKI:  Part 1 Certificate and CRL Profile</dc:title>
</cp:coreProperties>
</file>