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280525" cy="61722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788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1720" y="144396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788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1720" y="3313800"/>
            <a:ext cx="26892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3680" y="246240"/>
            <a:ext cx="8352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3360" y="331380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368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3360" y="1443960"/>
            <a:ext cx="40755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3680" y="3313800"/>
            <a:ext cx="835200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280440" cy="6172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51536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40800" y="5956200"/>
            <a:ext cx="28908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90CBAAB-5742-49B9-9AE3-F5015E8F70AD}" type="slidenum"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55680" y="291960"/>
            <a:ext cx="623880" cy="635400"/>
            <a:chOff x="355680" y="291960"/>
            <a:chExt cx="623880" cy="635400"/>
          </a:xfrm>
        </p:grpSpPr>
        <p:sp>
          <p:nvSpPr>
            <p:cNvPr id="4" name=""/>
            <p:cNvSpPr/>
            <p:nvPr/>
          </p:nvSpPr>
          <p:spPr>
            <a:xfrm>
              <a:off x="380880" y="31752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5680" y="291960"/>
              <a:ext cx="598680" cy="609840"/>
            </a:xfrm>
            <a:custGeom>
              <a:avLst/>
              <a:gdLst/>
              <a:ahLst/>
              <a:rect l="0" t="0" r="r" b="b"/>
              <a:pathLst>
                <a:path w="1663" h="1694">
                  <a:moveTo>
                    <a:pt x="0" y="0"/>
                  </a:moveTo>
                  <a:lnTo>
                    <a:pt x="0" y="1694"/>
                  </a:lnTo>
                  <a:lnTo>
                    <a:pt x="1663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40800" y="5194440"/>
            <a:ext cx="1079640" cy="698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3680" y="246240"/>
            <a:ext cx="835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3680" y="1443960"/>
            <a:ext cx="835200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62120" y="1028880"/>
            <a:ext cx="5967360" cy="4127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a7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001880" y="838080"/>
            <a:ext cx="1348200" cy="1359360"/>
            <a:chOff x="1001880" y="838080"/>
            <a:chExt cx="1348200" cy="1359360"/>
          </a:xfrm>
        </p:grpSpPr>
        <p:sp>
          <p:nvSpPr>
            <p:cNvPr id="85" name=""/>
            <p:cNvSpPr/>
            <p:nvPr/>
          </p:nvSpPr>
          <p:spPr>
            <a:xfrm>
              <a:off x="1052640" y="863640"/>
              <a:ext cx="1297440" cy="1333800"/>
            </a:xfrm>
            <a:custGeom>
              <a:avLst/>
              <a:gdLst/>
              <a:ahLst/>
              <a:rect l="0" t="0" r="r" b="b"/>
              <a:pathLst>
                <a:path w="3604" h="3705">
                  <a:moveTo>
                    <a:pt x="0" y="0"/>
                  </a:moveTo>
                  <a:lnTo>
                    <a:pt x="0" y="3705"/>
                  </a:lnTo>
                  <a:lnTo>
                    <a:pt x="3604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01880" y="838080"/>
              <a:ext cx="1308600" cy="1346400"/>
            </a:xfrm>
            <a:custGeom>
              <a:avLst/>
              <a:gdLst/>
              <a:ahLst/>
              <a:rect l="0" t="0" r="r" b="b"/>
              <a:pathLst>
                <a:path w="3635" h="3740">
                  <a:moveTo>
                    <a:pt x="0" y="0"/>
                  </a:moveTo>
                  <a:lnTo>
                    <a:pt x="0" y="3740"/>
                  </a:lnTo>
                  <a:lnTo>
                    <a:pt x="3635" y="20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a3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7518240" y="5956200"/>
            <a:ext cx="127800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lide Referenc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744040" y="5956200"/>
            <a:ext cx="222120" cy="2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324160" y="1135080"/>
            <a:ext cx="52117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Updates to IPsec Base Spe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4520" y="2963880"/>
            <a:ext cx="5686560" cy="15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all Atkinson &lt;rja@cisco.co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ntreal IETF, June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54840" y="5181480"/>
            <a:ext cx="10796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other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33320" y="1432080"/>
            <a:ext cx="75834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ther transforms can be created 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erimental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-track RF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transform is has intellectual property (e.g. trade secret, patent) issues, it isn’t a candidate for standards-track since unencumbered alternatives ex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ther Standard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n be created if WG so desi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hould be significantly different from existing standards-track transfor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Generally should be optional-to-imple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ust not have intellectual-property issu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TF has 3 levels of standar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Proposed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demonstrated interoperability of multiple indepenent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portunity for editorial/technical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Full Standa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editorial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364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ubstantive technical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happening 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 IETF process reissues specs as Internet-Drafts before advancing on the Standards Trac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rmally, editorial changes and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f needed, technical clarifications or corrections are made before advanc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Changing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larification on which specific IPv4 and IPv6 header fields zeroed for AH purpo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echnical corrections to address security issues identified over the past mon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lly including those in Bellovin’s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Editorial clarif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en can the drafts advanc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3320" y="1432080"/>
            <a:ext cx="781380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ase documents cannot be considered for advancement before the end of 1996 because of IETF process ru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out now to give ample time for review and com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rafts must have consensus of the IPsec WG before they can move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can one suggest chang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BEST way is to send the document editor an email mess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icating specific requeste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specific new text for th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ing rationale for the proposed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Alternately, can propose changes directly to the IPsec WG mailing li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Base Spe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revisions of RFC-1825 thru RFC-1827 to Draft Standard in 6 to 9 month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ve them to Full Standard a year la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lays can happen due 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TF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95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SG not having consensus to advanc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about the Transform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8 will move to Historic status if the IETF and IESG approve the new AH HMAC transforms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RFC-1829 will move to Historic status if this WG, the IETF, and IESG approve a replacement ESP transform (e.g. Combined ESP Transform edited by Jim Hughes) to Proposed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22400" y="198360"/>
            <a:ext cx="773748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ng-Term Plan for Trans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33320" y="1432080"/>
            <a:ext cx="7813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6 months or so after Proposed Standard RFC, consider moving them to Draft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buClr>
                <a:srgbClr val="ff555d"/>
              </a:buClr>
              <a:buSzPct val="45000"/>
              <a:buFont typeface="Arial"/>
              <a:buChar char=""/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One year after making Draft Standard, consider moving them to Full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Li</cp:lastModifiedBy>
  <cp:revision>0</cp:revision>
  <dc:subject/>
  <dc:title>GUIDE.PPT</dc:title>
</cp:coreProperties>
</file>