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93640" y="6080040"/>
            <a:ext cx="172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F -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461280" y="6080040"/>
            <a:ext cx="1954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4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OA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2952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Mandatory Behavior for Edge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FG must recognize flows based on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FG &amp; RSFG may recognize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d Proxy Registration of hosts behind edg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d, Revised, and Clarified EDFG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a clear demarcation between bridging an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ng Extension to NH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RP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447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ing NHRP to deal with Edg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Ingress Edge Device can/must Initiate 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a semantics of a Trigger to allow a route server to request an Edge Device initiate a shortc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RP for Egress Edge De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semantics of a cache imposition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Route Server to notify ED to expect flow and establish the en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pted Flow T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s a technical problem on exit cache confl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optimization of exit processing for EDF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a format for Tags and an encapsulation for carrying them in data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Swallow</dc:creator>
  <dc:description/>
  <dc:language>en-US</dc:language>
  <cp:lastModifiedBy>Gehrett W. Ellis</cp:lastModifiedBy>
  <cp:revision>0</cp:revision>
  <dc:subject/>
  <dc:title>MPOA Closing</dc:title>
</cp:coreProperties>
</file>