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9B3AB-F026-4FC8-80F2-E0307CAFC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48880" cy="7296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08120" cy="7294680"/>
            <a:chOff x="0" y="0"/>
            <a:chExt cx="708120" cy="72946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08120" cy="7294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58680" y="6869160"/>
              <a:ext cx="541440" cy="2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3320" y="662004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0560" y="662004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3320" y="2428920"/>
            <a:ext cx="83818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bnet Bandwidth Manager: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dmission Control over Eth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5440" y="4105440"/>
            <a:ext cx="685800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j Yavatkar,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 Hoffman,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 Patki,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 Alternative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ume one SBM per IP sub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 message sent to special SBM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st to SBM group address (a new encaps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inserts itself as a PHOP between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ERVE automatically lands up at the S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ed to IEEE 801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allow for multiple SBMs within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SBM per hub/switch should b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upporting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overing  DSBM and binding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listens to a well-known UDP mcas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than one active SBM for same seg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gle SBM is a DSBM at any time, elected using an electio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 of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_AM_DSB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eclarations via IP multicast and some tiebr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ers step in when DSBM fails or term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ication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er on a LAN not to transmit any traffic until at least one successful RESERVE reach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going flow to be policed to be within maximum RESERV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multicast flows, receivers must leave the session mcast group in case of RESV_ERR or PATH_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lematic  in case of multiple s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-effort traffic must be rate-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andling Complex Physical Top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-hop topology consisting of bridges, hubs, and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a flows traverse only a subset of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e DSBMs, each for separate portion of LAN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iscover topolog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iscover peer DSBMs and communicate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scovering LAN Top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chniques used by network management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ic configuration info works only in case of non-redundant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interface to spanning tree topology info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EEE 802.1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ETF hub MIB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pology mappi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opology Discovery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cing two endpoints on a map and identifying LAN segments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points identified using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ll managed hubs in the collision domain to watch for packets with the endpoint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 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he endpoint to get it to 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then uses hub MIB interface to read the group/port of target MAC address from managed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then identifies affected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76720" y="1133640"/>
            <a:ext cx="1160640" cy="97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7360" y="1782720"/>
            <a:ext cx="903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42000" y="2108160"/>
            <a:ext cx="574560" cy="80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13320" y="2836800"/>
            <a:ext cx="493560" cy="487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21200" y="3243240"/>
            <a:ext cx="574560" cy="72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2520" y="3890880"/>
            <a:ext cx="411120" cy="406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6880" y="3162240"/>
            <a:ext cx="12304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4440" y="3243240"/>
            <a:ext cx="1149480" cy="566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119400" y="4297320"/>
            <a:ext cx="655560" cy="80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1720" y="5025960"/>
            <a:ext cx="411120" cy="404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0600" y="1285920"/>
            <a:ext cx="106056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3920" y="3648240"/>
            <a:ext cx="98424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430960"/>
            <a:ext cx="820800" cy="487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0040" y="5756400"/>
            <a:ext cx="914400" cy="8636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446640" y="2432160"/>
            <a:ext cx="1066680" cy="56664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1200" y="4214880"/>
            <a:ext cx="1231920" cy="730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1600" y="4459320"/>
            <a:ext cx="1230120" cy="647640"/>
          </a:xfrm>
          <a:prstGeom prst="line">
            <a:avLst/>
          </a:prstGeom>
          <a:ln w="38160">
            <a:solidFill>
              <a:srgbClr val="000000"/>
            </a:solidFill>
            <a:custDash>
              <a:ds d="399057" sp="3990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5840" y="3243240"/>
            <a:ext cx="1066680" cy="64764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380988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497720" y="409680"/>
            <a:ext cx="1009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71680" y="1596960"/>
            <a:ext cx="1009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56600" y="2706840"/>
            <a:ext cx="10778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03960" y="134928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62800" y="141588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07280" y="393372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21240" y="5081760"/>
            <a:ext cx="4176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27480" y="589284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92400" y="5145120"/>
            <a:ext cx="820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91000" y="246852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66960" y="449568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70200" y="344160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557680" y="319896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78280" y="4181400"/>
            <a:ext cx="582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449568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82760" y="562608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360" y="250524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8440" y="151452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59440" y="5019840"/>
            <a:ext cx="932040" cy="7444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19720" y="2733840"/>
            <a:ext cx="838080" cy="533520"/>
          </a:xfrm>
          <a:prstGeom prst="ellipse">
            <a:avLst/>
          </a:prstGeom>
          <a:solidFill>
            <a:srgbClr val="cecec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er-to-Peer DSBM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ers discovered using SBM_QUERY to SBM_GR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ation is cached with time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fter successful admission control, DSBM forwards a RESERVE to the peer on next hop towards LAN_P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error is sent back hop-by-hop using reservation state in intermediate DS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eas of Co-operation With IEEE 801.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 of a standard interface for accessing spanning tree (routing) information in 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s for traffic flow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. priori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SVP-based admission control combined with traffic flow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good approximation to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led Loa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-by-step mapping of int-serv capabilities over Etherne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rt-term solution should work with existing bridges, hubs/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 with IEEE 802.1? for Level-2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. traffic flow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 -- admission control for RSVP traffic and policing at en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I -- traffic flow separation at hubs/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II -- traffic control support in hubs/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bjectives for Step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ministrative control over max amount of multimedia traffic over any LAN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y on end-system policing and rate-adaptive applications for best effort traffi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ow star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ype congest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verage existing RSVP-signaling as much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ly architectura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from RSVP message processing rule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ocol details, packet formats, etc.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possibl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(Subnet Bandwidth Manager) responsible for admis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designated SBM (DSBM) for each LAN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SBM may act as DSBM for man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is a UDP-base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ft state in SBM with refresh ala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very from SBM restart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ynamic binding between SBM and end-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 multicast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the start, an RSVP node discovers and binds to its DSBM using IP multicast-based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 messages sent/forwarded to the session address (NO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going RESERVE over Ethernet interface unicast to DS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new LAN_PHOP object specifies the P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performs admission control and forwards RESERV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war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processing similar to conventional RSVP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ges reservations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ller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urns RESV_ERROR or RESV_CONFIRM (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61920" y="2200320"/>
            <a:ext cx="1523880" cy="1295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54400" y="1832040"/>
            <a:ext cx="2149920" cy="2196000"/>
          </a:xfrm>
          <a:custGeom>
            <a:avLst/>
            <a:gdLst/>
            <a:ahLst/>
            <a:rect l="0" t="0" r="r" b="b"/>
            <a:pathLst>
              <a:path w="5972" h="6100">
                <a:moveTo>
                  <a:pt x="0" y="1742"/>
                </a:moveTo>
                <a:lnTo>
                  <a:pt x="1822" y="0"/>
                </a:lnTo>
                <a:lnTo>
                  <a:pt x="4150" y="0"/>
                </a:lnTo>
                <a:lnTo>
                  <a:pt x="5972" y="1742"/>
                </a:lnTo>
                <a:lnTo>
                  <a:pt x="5972" y="4251"/>
                </a:lnTo>
                <a:lnTo>
                  <a:pt x="4150" y="6100"/>
                </a:lnTo>
                <a:lnTo>
                  <a:pt x="1822" y="6100"/>
                </a:lnTo>
                <a:lnTo>
                  <a:pt x="0" y="4251"/>
                </a:lnTo>
                <a:lnTo>
                  <a:pt x="0" y="174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99120" y="1979640"/>
            <a:ext cx="1860840" cy="1899000"/>
          </a:xfrm>
          <a:custGeom>
            <a:avLst/>
            <a:gdLst/>
            <a:ahLst/>
            <a:rect l="0" t="0" r="r" b="b"/>
            <a:pathLst>
              <a:path fill="none" w="5169" h="5275">
                <a:moveTo>
                  <a:pt x="0" y="1503"/>
                </a:moveTo>
                <a:lnTo>
                  <a:pt x="1578" y="0"/>
                </a:lnTo>
                <a:lnTo>
                  <a:pt x="3590" y="0"/>
                </a:lnTo>
                <a:lnTo>
                  <a:pt x="5169" y="1503"/>
                </a:lnTo>
                <a:lnTo>
                  <a:pt x="5169" y="3674"/>
                </a:lnTo>
                <a:lnTo>
                  <a:pt x="3590" y="5275"/>
                </a:lnTo>
                <a:lnTo>
                  <a:pt x="1578" y="5275"/>
                </a:lnTo>
                <a:lnTo>
                  <a:pt x="0" y="3674"/>
                </a:lnTo>
                <a:lnTo>
                  <a:pt x="0" y="1503"/>
                </a:lnTo>
              </a:path>
            </a:pathLst>
          </a:custGeom>
          <a:ln w="127080">
            <a:solidFill>
              <a:srgbClr val="0000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99120" y="1979640"/>
            <a:ext cx="1860840" cy="1899000"/>
          </a:xfrm>
          <a:custGeom>
            <a:avLst/>
            <a:gdLst/>
            <a:ahLst/>
            <a:rect l="0" t="0" r="r" b="b"/>
            <a:pathLst>
              <a:path fill="none" w="5169" h="5275">
                <a:moveTo>
                  <a:pt x="0" y="1503"/>
                </a:moveTo>
                <a:lnTo>
                  <a:pt x="1574" y="0"/>
                </a:lnTo>
                <a:lnTo>
                  <a:pt x="3586" y="0"/>
                </a:lnTo>
                <a:lnTo>
                  <a:pt x="5169" y="1503"/>
                </a:lnTo>
                <a:lnTo>
                  <a:pt x="5169" y="3674"/>
                </a:lnTo>
                <a:lnTo>
                  <a:pt x="3586" y="5275"/>
                </a:lnTo>
                <a:lnTo>
                  <a:pt x="1574" y="5275"/>
                </a:lnTo>
                <a:lnTo>
                  <a:pt x="0" y="3674"/>
                </a:lnTo>
                <a:lnTo>
                  <a:pt x="0" y="1503"/>
                </a:lnTo>
              </a:path>
            </a:pathLst>
          </a:custGeom>
          <a:ln w="76320">
            <a:solidFill>
              <a:srgbClr val="fffff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24840" y="2200320"/>
            <a:ext cx="1523880" cy="129528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320" y="6010200"/>
            <a:ext cx="8991720" cy="0"/>
          </a:xfrm>
          <a:prstGeom prst="line">
            <a:avLst/>
          </a:prstGeom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99120" y="60562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1320" y="1179360"/>
            <a:ext cx="1065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67840" y="34956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24040" y="34956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29360" y="3952800"/>
            <a:ext cx="0" cy="20574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10640" y="433404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362720" y="5400720"/>
            <a:ext cx="144792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97720" y="4821120"/>
            <a:ext cx="131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0200" y="4989600"/>
            <a:ext cx="1008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81240" y="4029120"/>
            <a:ext cx="0" cy="76212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81240" y="4791240"/>
            <a:ext cx="2514600" cy="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695840" y="4257720"/>
            <a:ext cx="0" cy="533520"/>
          </a:xfrm>
          <a:prstGeom prst="line">
            <a:avLst/>
          </a:prstGeom>
          <a:ln w="763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46280" y="3998880"/>
            <a:ext cx="126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3648240"/>
            <a:ext cx="0" cy="53316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91120" y="4181400"/>
            <a:ext cx="1371600" cy="0"/>
          </a:xfrm>
          <a:prstGeom prst="line">
            <a:avLst/>
          </a:prstGeom>
          <a:ln w="763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32480" y="3236760"/>
            <a:ext cx="126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22400" y="1560600"/>
            <a:ext cx="169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109000" y="1332000"/>
            <a:ext cx="1403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ortant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a centralized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SBMs can exist per LAN, each responsible for a separate portion of the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require maintenance of consistent, distributed state  across Hosts and S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tribution of responsibility among SBMs allows scalability and 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l Weinrib</dc:creator>
  <dc:description/>
  <dc:language>en-US</dc:language>
  <cp:lastModifiedBy>Abel Weinrib</cp:lastModifiedBy>
  <cp:revision>0</cp:revision>
  <dc:subject/>
  <dc:title>What Else is Going on in the Internet</dc:title>
</cp:coreProperties>
</file>