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848850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F5F713-274F-4D42-8695-0EE366BB9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848880" cy="7296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708120" cy="7294680"/>
            <a:chOff x="0" y="0"/>
            <a:chExt cx="708120" cy="729468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708120" cy="72946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279f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58680" y="6869160"/>
              <a:ext cx="541440" cy="29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33320" y="662004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0560" y="6620040"/>
            <a:ext cx="3048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3320" y="2428920"/>
            <a:ext cx="838188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ubnet Bandwidth Manager: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dmission Control over Eth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95440" y="4105440"/>
            <a:ext cx="6858000" cy="18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j Yavatkar, 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 Hoffman,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 algn="ctr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 Patki, In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n Alternative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ume one SBM per IP sub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H message sent to special SBM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cast to SBM group address (a new encaps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 inserts itself as a PHOP between sender and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ERVE automatically lands up at the S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ed to IEEE 801.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es not allow for multiple SBMs within a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SBM per hub/switch should be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Supporting Mech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covering  DSBM and binding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SBM listens to a well-known UDP mcast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SBM 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re than one active SBM for same segmen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ngle SBM is a DSBM at any time, elected using an election protoc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e of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_AM_DSBM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declarations via IP multicast and some tiebre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ers step in when DSBM fails or termin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pplication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der on a LAN not to transmit any traffic until at least one successful RESERVE reaches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going flow to be policed to be within maximum RESERV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r multicast flows, receivers must leave the session mcast group in case of RESV_ERR or PATH_T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blematic  in case of multiple s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est-effort traffic must be rate-ada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Handling Complex Physical Top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-hop topology consisting of bridges, hubs, and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ta flows traverse only a subset of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ple DSBMs, each for separate portion of LAN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to discover topology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to discover peer DSBMs and communicate with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iscovering LAN Top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chniques used by network management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tic configuration info works only in case of non-redundant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interface to spanning tree topology info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EEE 802.1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ETF hub MIB work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pology mappi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Topology Discovery Protoc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cing two endpoints on a map and identifying LAN segments betwee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dpoints identified using MAC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ll managed hubs in the collision domain to watch for packets with the endpoint MAC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d a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ING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 the endpoint to get it to trans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 then uses hub MIB interface to read the group/port of target MAC address from managed h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 then identifies affected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076720" y="1133640"/>
            <a:ext cx="1160640" cy="974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37360" y="1782720"/>
            <a:ext cx="903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842000" y="2108160"/>
            <a:ext cx="574560" cy="80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13320" y="2836800"/>
            <a:ext cx="493560" cy="4874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021200" y="3243240"/>
            <a:ext cx="574560" cy="728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92520" y="3890880"/>
            <a:ext cx="411120" cy="406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06880" y="3162240"/>
            <a:ext cx="12304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24440" y="3243240"/>
            <a:ext cx="1149480" cy="5666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119400" y="4297320"/>
            <a:ext cx="655560" cy="80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71720" y="5025960"/>
            <a:ext cx="411120" cy="4046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40600" y="1285920"/>
            <a:ext cx="1060560" cy="914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73920" y="3648240"/>
            <a:ext cx="984240" cy="91440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5430960"/>
            <a:ext cx="820800" cy="487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0040" y="5756400"/>
            <a:ext cx="914400" cy="86364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446640" y="2432160"/>
            <a:ext cx="1066680" cy="566640"/>
          </a:xfrm>
          <a:prstGeom prst="line">
            <a:avLst/>
          </a:prstGeom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21200" y="4214880"/>
            <a:ext cx="1231920" cy="730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41600" y="4459320"/>
            <a:ext cx="1230120" cy="647640"/>
          </a:xfrm>
          <a:prstGeom prst="line">
            <a:avLst/>
          </a:prstGeom>
          <a:ln w="38160">
            <a:solidFill>
              <a:srgbClr val="000000"/>
            </a:solidFill>
            <a:custDash>
              <a:ds d="399057" sp="3990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25840" y="3243240"/>
            <a:ext cx="1066680" cy="647640"/>
          </a:xfrm>
          <a:prstGeom prst="line">
            <a:avLst/>
          </a:prstGeom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5960" y="3809880"/>
            <a:ext cx="932040" cy="744480"/>
          </a:xfrm>
          <a:prstGeom prst="rect">
            <a:avLst/>
          </a:prstGeom>
          <a:noFill/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497720" y="409680"/>
            <a:ext cx="10098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71680" y="1596960"/>
            <a:ext cx="10098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356600" y="2706840"/>
            <a:ext cx="107784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03960" y="1349280"/>
            <a:ext cx="4348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462800" y="1415880"/>
            <a:ext cx="4348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407280" y="3933720"/>
            <a:ext cx="4348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21240" y="5081760"/>
            <a:ext cx="4176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227480" y="5892840"/>
            <a:ext cx="4348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92400" y="5145120"/>
            <a:ext cx="820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491000" y="2468520"/>
            <a:ext cx="54612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766960" y="4495680"/>
            <a:ext cx="54612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670200" y="3441600"/>
            <a:ext cx="54612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557680" y="3198960"/>
            <a:ext cx="5634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78280" y="4181400"/>
            <a:ext cx="5824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05320" y="4495680"/>
            <a:ext cx="5634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182760" y="5626080"/>
            <a:ext cx="5634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00360" y="2505240"/>
            <a:ext cx="932040" cy="744480"/>
          </a:xfrm>
          <a:prstGeom prst="rect">
            <a:avLst/>
          </a:prstGeom>
          <a:noFill/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38440" y="1514520"/>
            <a:ext cx="932040" cy="744480"/>
          </a:xfrm>
          <a:prstGeom prst="rect">
            <a:avLst/>
          </a:prstGeom>
          <a:noFill/>
          <a:ln w="25560">
            <a:solidFill>
              <a:srgbClr val="000000"/>
            </a:solidFill>
            <a:custDash>
              <a:ds d="397183" sp="397183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59440" y="5019840"/>
            <a:ext cx="932040" cy="7444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19720" y="2733840"/>
            <a:ext cx="838080" cy="533520"/>
          </a:xfrm>
          <a:prstGeom prst="ellipse">
            <a:avLst/>
          </a:prstGeom>
          <a:solidFill>
            <a:srgbClr val="cecece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eer-to-Peer DSBM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ers discovered using SBM_QUERY to SBM_GRP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ormation is cached with time-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fter successful admission control, DSBM forwards a RESERVE to the peer on next hop towards LAN_P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error is sent back hop-by-hop using reservation state in intermediate DS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Areas of Co-operation With IEEE 801.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nition of a standard interface for accessing spanning tree (routing) information in M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chanisms for traffic flow 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. priori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SVP-based admission control combined with traffic flow 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good approximation to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olled Load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ep-by-step mapping of int-serv capabilities over Ethernet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ort-term solution should work with existing bridges, hubs/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ork with IEEE 802.1? for Level-2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. traffic flow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ep I -- admission control for RSVP traffic and policing at en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ep II -- traffic flow separation at hubs/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ep III -- traffic control support in hubs/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bjectives for Step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ministrative control over max amount of multimedia traffic over any LAN seg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ly on end-system policing and rate-adaptive applications for best effort traffic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low start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ype congestion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verage existing RSVP-signaling as much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nly architectural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ariations from RSVP message processing rules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tocol details, packet formats, etc.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cuss possible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 (Subnet Bandwidth Manager) responsible for admiss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designated SBM (DSBM) for each LAN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SBM may act as DSBM for many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 is a UDP-based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ft state in SBM with refresh ala RSV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overy from SBM restart and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ynamic binding between SBM and end-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P multicast ba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verview (cont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the start, an RSVP node discovers and binds to its DSBM using IP multicast-based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H messages sent/forwarded to the session address (NO CH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going RESERVE over Ethernet interface unicast to DS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new LAN_PHOP object specifies the P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SBM performs admission control and forwards RESERV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ward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Overview (cont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SBM processing similar to conventional RSVP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rges reservations appropr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voids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iller re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07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turns RESV_ERROR or RESV_CONFIRM (if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61920" y="2200320"/>
            <a:ext cx="1523880" cy="129528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54400" y="1832040"/>
            <a:ext cx="2149920" cy="2196000"/>
          </a:xfrm>
          <a:custGeom>
            <a:avLst/>
            <a:gdLst/>
            <a:ahLst/>
            <a:rect l="0" t="0" r="r" b="b"/>
            <a:pathLst>
              <a:path w="5972" h="6100">
                <a:moveTo>
                  <a:pt x="0" y="1742"/>
                </a:moveTo>
                <a:lnTo>
                  <a:pt x="1822" y="0"/>
                </a:lnTo>
                <a:lnTo>
                  <a:pt x="4150" y="0"/>
                </a:lnTo>
                <a:lnTo>
                  <a:pt x="5972" y="1742"/>
                </a:lnTo>
                <a:lnTo>
                  <a:pt x="5972" y="4251"/>
                </a:lnTo>
                <a:lnTo>
                  <a:pt x="4150" y="6100"/>
                </a:lnTo>
                <a:lnTo>
                  <a:pt x="1822" y="6100"/>
                </a:lnTo>
                <a:lnTo>
                  <a:pt x="0" y="4251"/>
                </a:lnTo>
                <a:lnTo>
                  <a:pt x="0" y="174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99120" y="1979640"/>
            <a:ext cx="1860840" cy="1899000"/>
          </a:xfrm>
          <a:custGeom>
            <a:avLst/>
            <a:gdLst/>
            <a:ahLst/>
            <a:rect l="0" t="0" r="r" b="b"/>
            <a:pathLst>
              <a:path fill="none" w="5169" h="5275">
                <a:moveTo>
                  <a:pt x="0" y="1503"/>
                </a:moveTo>
                <a:lnTo>
                  <a:pt x="1578" y="0"/>
                </a:lnTo>
                <a:lnTo>
                  <a:pt x="3590" y="0"/>
                </a:lnTo>
                <a:lnTo>
                  <a:pt x="5169" y="1503"/>
                </a:lnTo>
                <a:lnTo>
                  <a:pt x="5169" y="3674"/>
                </a:lnTo>
                <a:lnTo>
                  <a:pt x="3590" y="5275"/>
                </a:lnTo>
                <a:lnTo>
                  <a:pt x="1578" y="5275"/>
                </a:lnTo>
                <a:lnTo>
                  <a:pt x="0" y="3674"/>
                </a:lnTo>
                <a:lnTo>
                  <a:pt x="0" y="1503"/>
                </a:lnTo>
              </a:path>
            </a:pathLst>
          </a:custGeom>
          <a:ln w="127080">
            <a:solidFill>
              <a:srgbClr val="000000"/>
            </a:solidFill>
            <a:round/>
          </a:ln>
        </p:spPr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99120" y="1979640"/>
            <a:ext cx="1860840" cy="1899000"/>
          </a:xfrm>
          <a:custGeom>
            <a:avLst/>
            <a:gdLst/>
            <a:ahLst/>
            <a:rect l="0" t="0" r="r" b="b"/>
            <a:pathLst>
              <a:path fill="none" w="5169" h="5275">
                <a:moveTo>
                  <a:pt x="0" y="1503"/>
                </a:moveTo>
                <a:lnTo>
                  <a:pt x="1574" y="0"/>
                </a:lnTo>
                <a:lnTo>
                  <a:pt x="3586" y="0"/>
                </a:lnTo>
                <a:lnTo>
                  <a:pt x="5169" y="1503"/>
                </a:lnTo>
                <a:lnTo>
                  <a:pt x="5169" y="3674"/>
                </a:lnTo>
                <a:lnTo>
                  <a:pt x="3586" y="5275"/>
                </a:lnTo>
                <a:lnTo>
                  <a:pt x="1574" y="5275"/>
                </a:lnTo>
                <a:lnTo>
                  <a:pt x="0" y="3674"/>
                </a:lnTo>
                <a:lnTo>
                  <a:pt x="0" y="1503"/>
                </a:lnTo>
              </a:path>
            </a:pathLst>
          </a:custGeom>
          <a:ln w="76320">
            <a:solidFill>
              <a:srgbClr val="fffff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124840" y="2200320"/>
            <a:ext cx="1523880" cy="1295280"/>
          </a:xfrm>
          <a:prstGeom prst="rect">
            <a:avLst/>
          </a:prstGeom>
          <a:solidFill>
            <a:srgbClr val="00ffff"/>
          </a:solidFill>
          <a:ln w="38160">
            <a:solidFill>
              <a:srgbClr val="ff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320" y="6010200"/>
            <a:ext cx="8991720" cy="0"/>
          </a:xfrm>
          <a:prstGeom prst="line">
            <a:avLst/>
          </a:prstGeom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99120" y="6056280"/>
            <a:ext cx="104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21320" y="1179360"/>
            <a:ext cx="10652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267840" y="3495600"/>
            <a:ext cx="0" cy="251460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24040" y="3495600"/>
            <a:ext cx="0" cy="251460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29360" y="3952800"/>
            <a:ext cx="0" cy="2057400"/>
          </a:xfrm>
          <a:prstGeom prst="line">
            <a:avLst/>
          </a:prstGeom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810640" y="4334040"/>
            <a:ext cx="0" cy="1066680"/>
          </a:xfrm>
          <a:prstGeom prst="line">
            <a:avLst/>
          </a:prstGeom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362720" y="5400720"/>
            <a:ext cx="1447920" cy="0"/>
          </a:xfrm>
          <a:prstGeom prst="line">
            <a:avLst/>
          </a:prstGeom>
          <a:ln w="7632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497720" y="4821120"/>
            <a:ext cx="13129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0200" y="4989600"/>
            <a:ext cx="10080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81240" y="4029120"/>
            <a:ext cx="0" cy="762120"/>
          </a:xfrm>
          <a:prstGeom prst="line">
            <a:avLst/>
          </a:prstGeom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81240" y="4791240"/>
            <a:ext cx="2514600" cy="0"/>
          </a:xfrm>
          <a:prstGeom prst="line">
            <a:avLst/>
          </a:prstGeom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695840" y="4257720"/>
            <a:ext cx="0" cy="533520"/>
          </a:xfrm>
          <a:prstGeom prst="line">
            <a:avLst/>
          </a:prstGeom>
          <a:ln w="763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46280" y="3998880"/>
            <a:ext cx="1268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RES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91120" y="3648240"/>
            <a:ext cx="0" cy="533160"/>
          </a:xfrm>
          <a:prstGeom prst="line">
            <a:avLst/>
          </a:prstGeom>
          <a:ln w="763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91120" y="4181400"/>
            <a:ext cx="1371600" cy="0"/>
          </a:xfrm>
          <a:prstGeom prst="line">
            <a:avLst/>
          </a:prstGeom>
          <a:ln w="76320">
            <a:solidFill>
              <a:srgbClr val="00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432480" y="3236760"/>
            <a:ext cx="1268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RES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22400" y="1560600"/>
            <a:ext cx="1695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109000" y="1332000"/>
            <a:ext cx="14032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38360" y="649440"/>
            <a:ext cx="83725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portant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38360" y="2352600"/>
            <a:ext cx="8372520" cy="41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 a centralized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y SBMs can exist per LAN, each responsible for a separate portion of the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es NOT require maintenance of consistent, distributed state  across Hosts and S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stribution of responsibility among SBMs allows scalability and fault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el Weinrib</dc:creator>
  <dc:description/>
  <dc:language>en-US</dc:language>
  <cp:lastModifiedBy>Abel Weinrib</cp:lastModifiedBy>
  <cp:revision>0</cp:revision>
  <dc:subject/>
  <dc:title>What Else is Going on in the Internet</dc:title>
</cp:coreProperties>
</file>