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03040"/>
            <a:ext cx="8839080" cy="6350040"/>
          </a:xfrm>
          <a:prstGeom prst="round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600" y="6603840"/>
            <a:ext cx="194472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7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rlisle Adams,  Nor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75720" y="6527880"/>
            <a:ext cx="3254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7000"/>
              </a:lnSpc>
            </a:pPr>
            <a:fld id="{120BC2AC-EF0F-48F4-867E-EB78165363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523880"/>
            <a:ext cx="74674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dependent Data Unit Protection GSS API (IDUP)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–  05.txt UPDATE 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05120"/>
            <a:ext cx="8153280" cy="40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isle M. Ad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tawa,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-28,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th Internet Engineering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éal, Qué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 Non-Rep.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ly compliant (some discrepanc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olicy_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policy at a time i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include_this_token_in_evidenc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Set_NR_Policy_Info()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uld be possible to write a CORBA-NR-compliant mechanism under I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38088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143000"/>
            <a:ext cx="716292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s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not* public-do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M-based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 on hold  (approx. half d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P-based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KCS #7-based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 code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S-based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? in progress ??   (not by Nort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testing encourag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6668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41008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127"/>
                </a:moveTo>
                <a:lnTo>
                  <a:pt x="0" y="508"/>
                </a:lnTo>
                <a:lnTo>
                  <a:pt x="593" y="508"/>
                </a:lnTo>
                <a:lnTo>
                  <a:pt x="593" y="636"/>
                </a:lnTo>
                <a:lnTo>
                  <a:pt x="848" y="317"/>
                </a:lnTo>
                <a:lnTo>
                  <a:pt x="593" y="0"/>
                </a:lnTo>
                <a:lnTo>
                  <a:pt x="593" y="127"/>
                </a:lnTo>
                <a:lnTo>
                  <a:pt x="0" y="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4792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 (why IDU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 of Changes for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1440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447920"/>
            <a:ext cx="84582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UP-GSS-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and flexible way to provide protection and unprotection services for a variety of store-and-forwar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ears to be suitable for a wide range of envelop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M, MSP, S/MIME, M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 from 04 to 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will be an 06 version (to clean up a couple of very minor p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uld be stable enough to be considered for pro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e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UP C-Bindings” draft is currently being aligned with I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M-Based IDUP Mech. (PIM)” will be moved to 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KCS #7-Based IDUP Mech. (p7im)” current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? “MOSS-Based IDUP Mech.” coming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6668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4792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 (why IDU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 of Changes for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295280"/>
            <a:ext cx="7162920" cy="47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API for the store-and-forwar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extension to the GSS-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s interface to general protec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origin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-repu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ual services provided by underly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al is to be able to swap mechanisms without affecting calling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4479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D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we have MOSS, or S/MIME, or PGP/MIME, or M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s will use whatever they want; no need for API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IETF doesn’t really “do”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SS was an exception (IETF does protocols)..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it provides functionality which we don’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henticity and confidentiality are all that are relevant to most app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it looks too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 many parameters; too much nesting in parameter bundle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447920"/>
            <a:ext cx="800100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D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have MOSS, or S/MIME, or PGP/MIME, or M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“and”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e IMC “Resolving E-Mail Sec. Comp. Workshop” minutes /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TF doesn’t really “do”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not separate from GSS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ason for separation is not to hold up v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provides functionality which we don’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“yet”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ider broader e-mail, and esp. e-commerce,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looks too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many default values / “don’t cares”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e Appendix, mech. spec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66680" y="4572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66688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127"/>
                </a:moveTo>
                <a:lnTo>
                  <a:pt x="0" y="508"/>
                </a:lnTo>
                <a:lnTo>
                  <a:pt x="593" y="508"/>
                </a:lnTo>
                <a:lnTo>
                  <a:pt x="593" y="636"/>
                </a:lnTo>
                <a:lnTo>
                  <a:pt x="848" y="317"/>
                </a:lnTo>
                <a:lnTo>
                  <a:pt x="593" y="0"/>
                </a:lnTo>
                <a:lnTo>
                  <a:pt x="593" y="127"/>
                </a:lnTo>
                <a:lnTo>
                  <a:pt x="0" y="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4792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 (why IDU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 of Changes for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ges for 05.t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175248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rly minor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n by ease-of-use considerations, necessity for certain mechanis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u_Information:  idu_type is now idu_type_oid, idu_type_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_Information added to End_Unprotect()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() output_buffer can be non-zero length for encap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_again_before, call_again_after added to Form_Complete_PI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UP_S_INCOMPLETE major statu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UP_S_INAPPROPRIATE_CRED major statu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IDUP_File_Protect() and IDUP_File_Unprotect()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IDUP_Get_Policy_Info()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6668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58128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127"/>
                </a:moveTo>
                <a:lnTo>
                  <a:pt x="0" y="508"/>
                </a:lnTo>
                <a:lnTo>
                  <a:pt x="593" y="508"/>
                </a:lnTo>
                <a:lnTo>
                  <a:pt x="593" y="636"/>
                </a:lnTo>
                <a:lnTo>
                  <a:pt x="848" y="317"/>
                </a:lnTo>
                <a:lnTo>
                  <a:pt x="593" y="0"/>
                </a:lnTo>
                <a:lnTo>
                  <a:pt x="593" y="127"/>
                </a:lnTo>
                <a:lnTo>
                  <a:pt x="0" y="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792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 (why IDU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 of Changes for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600200"/>
            <a:ext cx="716292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sm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M-Based IDUP Mechanism (P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 move to Experimental R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P-Based IDUP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el internal sp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S-Based IDUP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? coming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KCS #7-Based IDUP Mechanism (p7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-enabling mechanism; just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