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648320" y="5935680"/>
            <a:ext cx="411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IPPM-BMWG / 25-Jun-96 / Page </a:t>
            </a:r>
            <a:fld id="{D063E259-0AC0-4845-9777-A42BA95F9129}" type="slidenum">
              <a:rPr b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990720" y="5935680"/>
            <a:ext cx="3581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</a:t>
            </a:r>
            <a:r>
              <a:rPr b="1" i="1" lang="en-US" sz="1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DVANCED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N</a:t>
            </a:r>
            <a:r>
              <a:rPr b="1" i="1" lang="en-US" sz="1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ETWORK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&amp;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S</a:t>
            </a:r>
            <a:r>
              <a:rPr b="1" i="1" lang="en-US" sz="1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ERVICES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, </a:t>
            </a:r>
            <a:r>
              <a:rPr b="1" i="1" lang="en-US" sz="1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I</a:t>
            </a:r>
            <a:r>
              <a:rPr b="1" i="1" lang="en-US" sz="1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NC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PPM Session of BM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real IE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Jun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mpirically-specified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key notions d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t into the A-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flow capacity along a path while observing RFC-1122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realistic way to specify such a metric is by specifying a measurement methodology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re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nalytical vs Empirical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 with analytically-specifi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aively be considered simpler than it is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transmission time of a lin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easy to specify but hard to measur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instantaneous route of a pat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 with empirically-specifi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tion tied to one concrete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 to reason abou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rrors and Uncertain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tool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ocks, will introduce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specify methodologies so that implications of tool errors are well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separate packet observer from packet generato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i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d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Measurement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vs Passive measu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vs Soft degree of Coope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Metric with multiple method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wo Forms of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tial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lay metric applied to router vs path vs subpa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l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lay metric at T compared to delay at times near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attern of RF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metric defined using R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ies defined in separate R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mpirical metric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lude a companion methodology with reference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s in methodologies remedied by superseding R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losing Administrat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eers to define specific analytic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eers to define specific empirical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continue to refine the framework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gend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and Agenda-b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of the Draft Framework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of an Analytic Metric: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of an Empirical Metric: Flow Capacity via Tr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s for specific Metric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an Jose, we want to do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IDs defining some analytic metrics, including for delay and packe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IDs defining some empirical metrics, including for flow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experience to refine the framework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the framework document as an informational R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sentation of the Draft Framework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 for IP Provider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ology for Paths and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Fundamental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ics and the Analytic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irically Defin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Forms of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riteria for IP Provider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e of careful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properties related to measuremen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ance of bias and of artificial performance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to dynamics between users and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erminology for Paths and Clou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, link, and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: &lt; h0, l1, h1, …, ln, hn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: graph of routers connected by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: links that connect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 subpath: &lt; hi, li+1, …, lj, hj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 digest: &lt; h0, e1, C1, …, Cn-1, en, hn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hree Fundamental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ic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perty of an Internet component, carefully defined and quantified using standard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Methodolog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atized way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tric.  There can be multiple methodologies for a me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 of applying a methodology.  In general, a measurement h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ertain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Metrics and the Analytical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et has a rich analytical framework (A-fr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dvantages to any notions described using the fra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verage A-fram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some hope of generality,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’ll specify metrics in A-frame terms whe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uch metrics are called analytically-specified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ion time of a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 of a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bandwidth along a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roduction of an analytical metric will often require the refinement of A-frame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refinements form an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y T Almes</dc:creator>
  <dc:description>for Los Angeles IETF BMWG meeting, 4-Mar-96</dc:description>
  <dc:language>en-US</dc:language>
  <cp:lastModifiedBy>Guy T Almes</cp:lastModifiedBy>
  <cp:revision>0</cp:revision>
  <dc:subject/>
  <dc:title>Los Angeles IETF Slides</dc:title>
</cp:coreProperties>
</file>