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648320" y="5935680"/>
            <a:ext cx="411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PPM-BMWG / 25-Jun-96 / Page </a:t>
            </a:r>
            <a:fld id="{36CC077C-BBAA-4F9C-885F-70A004C0BD60}" type="slidenum">
              <a:rPr b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990720" y="5935680"/>
            <a:ext cx="3581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A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DVANCED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TWORK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amp;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S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ERVICES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, </a:t>
            </a:r>
            <a:r>
              <a:rPr b="1" i="1" lang="en-US" sz="14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I</a:t>
            </a:r>
            <a:r>
              <a:rPr b="1" i="1" lang="en-US" sz="1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NC</a:t>
            </a:r>
            <a:r>
              <a:rPr b="1" i="1" lang="en-US" sz="16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IPPM Session of BM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 IE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mpir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key notions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t into the A-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flow capacity along a path while observing RFC-1122 congestio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realistic way to specify such a metric is by specifying a measurement methodology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re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nalytical vs Empirical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analyt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aively be considered simpler than it is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transmission time of a lin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easy to specify but hard to measur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instantaneous route of a pa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s with empirically-specifi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tion tied to one concret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to reason abou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Errors and Uncertai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tool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locks, will introduce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pecify methodologies so that implications of tool errors are well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separate packet observer from packet generator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ia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cpd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asure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vs Passive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vs Soft degree of Coop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Metric with multiple method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pplied to router vs path vs subpath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l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lay metric at T compared to delay at times near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attern of RF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metric defined us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ies defined in separate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mpirical metric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lude a companion methodology with referenc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 in methodologies remedied by superseding RF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losing Administrati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analytic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eers to define specific empirical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continue to refine the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Agend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and Agenda-b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Analytic Metric: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ion of an Empirical Metric: Flow Capacity via Tre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s for specific Metric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an Jose, we want to do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analytic metrics, including for delay and packet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IDs defining some empirical metrics, including for flow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experience to refine the framework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he framework document as an informational R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Presentation of the Draft Framework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irically Defin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orms of 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Criteria for IP Provider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careful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roperties related to measurement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ance of bias and of artificial performance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to dynamics between users and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erminology for Paths and Clou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, link, an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: &lt; h0, l1, h1, …, l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: graph of routers connected by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: links that connect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ud subpath: &lt; hi, li+1, …, lj, hj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 digest: &lt; h0, e1, C1, …, Cn-1, en, hn 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Three Fundament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ic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perty of an Internet component, carefully defined and quantified using standard un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 Methodolog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stematized way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tric.  There can be multiple methodologies for a 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 of applying a methodology.  In general, a measurement h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ertain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Metrics and the Analytical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 has a rich analytical framework (A-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dvantages to any notions described using the frame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verage A-fram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some hope of generality,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specify metrics in A-frame terms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Such metrics are called analytically-specifi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time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of 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bandwidth along a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roduction of an analytical metric will often require the refinement of A-fram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refinements form an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y T Almes</dc:creator>
  <dc:description>for Los Angeles IETF BMWG meeting, 4-Mar-96</dc:description>
  <dc:language>en-US</dc:language>
  <cp:lastModifiedBy>Guy T Almes</cp:lastModifiedBy>
  <cp:revision>0</cp:revision>
  <dc:subject/>
  <dc:title>Los Angeles IETF Slides</dc:title>
</cp:coreProperties>
</file>