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TR Resource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 Dan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hael Me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tand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NSS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and not s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possible threat mod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s can we do someth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of names and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do when exceptions are the rule instead of the excep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publication and software to manage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standing Issu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ing D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things we would like to see in a registry optimized for UR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hey be put into D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ersistance/movement of DNS doma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v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685800" y="1981080"/>
            <a:ext cx="7772400" cy="41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Principle of Knoxville Framework - Separation of Name Assignment and Resolution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es that we need to be able to change form of names into what is needed for various resolu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is a good candidate for an early resolution system since it is so widely deplo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PT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main TTL Class Order Flags Servic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in which to process multiple responses, used for delegating portions of name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rs for the resolution process, typically for optimiz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to speak and resolution services that will be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write rule for URN - replacement or regexp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1 - CID Name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urn:cid:199606121851.1@gatech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NS Que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up(type=NAPTR, “cid.urn.net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DNS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;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der flags service (patt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id.urn.net IN NAPTR 10  ""      "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/.+@([^@]+)/\1/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1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NS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up(type=NAPTR, “gatech.edu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NS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atech.edu IN NAPT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0 "s" "z39.50+N2L+N2C"   "_z3950._tcp.gatech.edu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0 "s" "rcds+N2C"         "_rcds._udp.gatech.edu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0 "s" "http+N2L+N2C+N2R" "_http._tcp.gatech.edu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1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DNS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up(SRV,” _z3950._tcp.gatech.edu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rd DNS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_z3950._tcp.gatech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SRV 0 0 1000 z3950.gatech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SRV 0 0 1000 z3950.cc.gatech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 SRV 0 0 1000 z3950.uga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via protocol:port and query the service for information about the 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rn:duns:002372413:annual-report-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DNS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up (NAPTR,”duns.urn.net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DNS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order flags service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uns.urn.net NAPT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 "s" "dunslink+N2L+N2C" "_dunslink._udp.isi.dandb.com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10 "s" "rcds+N2C"         "_rcds._udp.isi.dandb.com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2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NS 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up(SRV,” rcds._udp.isi.dandb.com“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NS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;       Pref Weight Port 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cds._udp.isi.dandb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RV 0    0      1000  defduns.isi.dandb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RV 0    0      1000  dbmirror.com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RV 0    0      1000  ukmirror.com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contact the service on the host: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lishments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n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4.9.5 code availabl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Library for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che caching proxy support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QTR</dc:creator>
  <dc:description/>
  <dc:language>en-US</dc:language>
  <cp:lastModifiedBy>UQTR</cp:lastModifiedBy>
  <cp:revision>0</cp:revision>
  <dc:subject/>
  <dc:title>NAPTR Resource Record</dc:title>
</cp:coreProperties>
</file>