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xville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differences ob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Discu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xville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Monaco"/>
                <a:ea typeface="Monaco"/>
              </a:rPr>
              <a:t>URN:&lt;NA&gt;[:&lt;LUI&gt;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aming Authority is resolved to records which describes current resolution services for that Naming 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tocol used to resolve the name is independent of the name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space ID Spec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8600" y="137160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Monaco"/>
                <a:ea typeface="Monaco"/>
              </a:rPr>
              <a:t>URN:&lt;NID&gt;:&lt;NSS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space ID governs syntactic interpretation of the Namespace Specific 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S includes Naming Authority (if avail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D[+NA] governs location of resolution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tocol used to resolve the name is independent of the name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incorporation of different name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09480" y="1371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URN:</a:t>
            </a:r>
            <a:r>
              <a:rPr b="0" i="1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ISBN</a:t>
            </a:r>
            <a:r>
              <a:rPr b="1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Monaco"/>
                <a:ea typeface="Monaco"/>
              </a:rPr>
              <a:t>9142</a:t>
            </a:r>
            <a:r>
              <a:rPr b="1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56789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URN:</a:t>
            </a:r>
            <a:r>
              <a:rPr b="0" i="1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MID</a:t>
            </a:r>
            <a:r>
              <a:rPr b="1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:199512020720@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Monaco"/>
                <a:ea typeface="Monaco"/>
              </a:rPr>
              <a:t>muddcs.cs.hmc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URN:</a:t>
            </a:r>
            <a:r>
              <a:rPr b="0" i="1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INET</a:t>
            </a:r>
            <a:r>
              <a:rPr b="1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Monaco"/>
                <a:ea typeface="Monaco"/>
              </a:rPr>
              <a:t>acme.com</a:t>
            </a:r>
            <a:r>
              <a:rPr b="1" lang="en-US" sz="2400" spc="-1" strike="noStrike">
                <a:solidFill>
                  <a:srgbClr val="000000"/>
                </a:solidFill>
                <a:latin typeface="Monaco"/>
                <a:ea typeface="Monaco"/>
              </a:rPr>
              <a:t>:wel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3124080"/>
            <a:ext cx="3352680" cy="33526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3505320"/>
            <a:ext cx="1143000" cy="1371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4419720" y="4267080"/>
            <a:ext cx="1523880" cy="609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4419720" y="4876920"/>
            <a:ext cx="380880" cy="1523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175280" y="3565440"/>
            <a:ext cx="878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B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784760" y="5165640"/>
            <a:ext cx="776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803680" y="4556160"/>
            <a:ext cx="878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048120" y="4876920"/>
            <a:ext cx="1371600" cy="990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4876920"/>
            <a:ext cx="1752840" cy="1600560"/>
          </a:xfrm>
          <a:custGeom>
            <a:avLst/>
            <a:gdLst/>
            <a:ahLst/>
            <a:rect l="0" t="0" r="r" b="b"/>
            <a:pathLst>
              <a:path w="4869" h="4446">
                <a:moveTo>
                  <a:pt x="0" y="2752"/>
                </a:moveTo>
                <a:lnTo>
                  <a:pt x="3810" y="0"/>
                </a:lnTo>
                <a:lnTo>
                  <a:pt x="4869" y="4234"/>
                </a:lnTo>
                <a:lnTo>
                  <a:pt x="4445" y="4446"/>
                </a:lnTo>
                <a:lnTo>
                  <a:pt x="4234" y="4446"/>
                </a:lnTo>
                <a:lnTo>
                  <a:pt x="3810" y="4446"/>
                </a:lnTo>
                <a:lnTo>
                  <a:pt x="3175" y="4446"/>
                </a:lnTo>
                <a:lnTo>
                  <a:pt x="2116" y="4234"/>
                </a:lnTo>
                <a:lnTo>
                  <a:pt x="1481" y="4022"/>
                </a:lnTo>
                <a:lnTo>
                  <a:pt x="846" y="3599"/>
                </a:lnTo>
                <a:lnTo>
                  <a:pt x="423" y="3176"/>
                </a:lnTo>
                <a:lnTo>
                  <a:pt x="0" y="2752"/>
                </a:lnTo>
                <a:close/>
              </a:path>
            </a:pathLst>
          </a:cu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 flipV="1">
            <a:off x="6629400" y="5486400"/>
            <a:ext cx="76212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4800600"/>
            <a:ext cx="2362320" cy="129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38480" y="4952880"/>
            <a:ext cx="2362320" cy="129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91120" y="5105520"/>
            <a:ext cx="2362320" cy="1295280"/>
          </a:xfrm>
          <a:prstGeom prst="rect">
            <a:avLst/>
          </a:prstGeom>
          <a:solidFill>
            <a:srgbClr val="919191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5257800"/>
            <a:ext cx="2362320" cy="129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62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URN to re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898560" y="1355760"/>
            <a:ext cx="2786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N:&lt;NID&gt;:&lt;N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16002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708440" y="1203480"/>
            <a:ext cx="22924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tch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NSS in N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20120" y="16002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10280" y="16002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35040" y="295596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up NID+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358128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41560" y="4861080"/>
            <a:ext cx="150480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85800" y="487692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876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60199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48769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4876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971800" y="60199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5486400"/>
            <a:ext cx="106704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799160" y="5318280"/>
            <a:ext cx="150480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375680" y="5241960"/>
            <a:ext cx="96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64480" y="2727360"/>
            <a:ext cx="16398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we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477120" y="2438280"/>
            <a:ext cx="1143000" cy="609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7620120" y="3048120"/>
            <a:ext cx="1218960" cy="53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20120" y="2438280"/>
            <a:ext cx="1218960" cy="609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77120" y="3048120"/>
            <a:ext cx="1143000" cy="533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8120" y="3048120"/>
            <a:ext cx="3429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851440" y="2575080"/>
            <a:ext cx="658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35440" y="3794040"/>
            <a:ext cx="1751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up N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3657600"/>
            <a:ext cx="205740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20120" y="3581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715000" y="39625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362320" y="4038480"/>
            <a:ext cx="1295280" cy="838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2819520"/>
            <a:ext cx="236232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604280" y="3565440"/>
            <a:ext cx="557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1219320"/>
            <a:ext cx="251460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his framework relates to RFC 173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s are divided in three grou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d by the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d by the participating NS (requi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d by the participating NS 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d by the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is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ence from particular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ility to migrate from one protocol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gacy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cipating Namespac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provide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Uniqu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icipating Namespaces may vary in how they provide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is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ility to migrate from one service location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