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9F8BBF-7B77-4360-AB85-8FE5EE6FC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50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Geneva"/>
              </a:rPr>
              <a:t>Publish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Geneva"/>
              </a:rPr>
              <a:t>make URNs 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Geneva"/>
              </a:rPr>
              <a:t>choose among variety of URN res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Geneva"/>
              </a:rPr>
              <a:t>change URN res service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Geneva"/>
                <a:ea typeface="Geneva"/>
              </a:rPr>
              <a:t>eas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Geneva"/>
              </a:rPr>
              <a:t>determine availability of resources, distribution, return of different hints based on variety of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Geneva"/>
              </a:rPr>
              <a:t>long and short-term h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Geneva"/>
              </a:rPr>
              <a:t>easy to install hint information in mg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Geneva"/>
              </a:rPr>
              <a:t>easy to verify or at least have confidence that corr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Geneva"/>
              </a:rPr>
              <a:t>Cli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Geneva"/>
              </a:rPr>
              <a:t>simplicity &amp; usability - easy and efficient to use, build interfaces, run quickly - only one step of m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Geneva"/>
              </a:rPr>
              <a:t>Manag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Geneva"/>
              </a:rPr>
              <a:t>provide 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Geneva"/>
              </a:rPr>
              <a:t>be as unobtrusive to clients, publishers and other network us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Geneva"/>
              </a:rPr>
              <a:t>may need economic incentives and disincentives to cause publishers not to overuse and possibly recover c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Geneva"/>
              </a:rPr>
              <a:t>must be easy to configure services and verify that corr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3520" y="685800"/>
            <a:ext cx="0" cy="59436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93640" y="6491160"/>
            <a:ext cx="1265400" cy="2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  <a:ea typeface="Geneva"/>
              </a:rPr>
              <a:t>KRSollins;URNRes1; </a:t>
            </a:r>
            <a:fld id="{152A06E3-930C-4E85-A028-9C729A45D71C}" type="datetime">
              <a:rPr b="0" lang="en-US" sz="800" spc="-1" strike="noStrike">
                <a:solidFill>
                  <a:srgbClr val="000000"/>
                </a:solidFill>
                <a:latin typeface="Geneva"/>
                <a:ea typeface="Geneva"/>
              </a:rPr>
              <a:t>7/30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8231040" y="6491160"/>
            <a:ext cx="318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B69931FC-56FA-4AAB-A190-C4E19786D4CB}" type="slidenum">
              <a:rPr b="0" lang="en-US" sz="800" spc="-1" strike="noStrike">
                <a:solidFill>
                  <a:srgbClr val="000000"/>
                </a:solidFill>
                <a:latin typeface="Geneva"/>
                <a:ea typeface="Genev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286000"/>
            <a:ext cx="77724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  <a:ea typeface="Geneva"/>
              </a:rPr>
              <a:t>URN Resolution Requirement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eneva"/>
                <a:ea typeface="Geneva"/>
              </a:rPr>
              <a:t>and Pl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71600" y="3886200"/>
            <a:ext cx="6400800" cy="184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Lewis Gir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Karen Soll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MIT Laboratory for Computer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June 27,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  <a:ea typeface="Geneva"/>
              </a:rPr>
              <a:t>Quick Look at Fixing NAPT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143000"/>
            <a:ext cx="7772400" cy="583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Require additional client gateway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clients running the current DNS-based protocol cannot easily escape to a new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Build authentication into the new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DNSSEC can auth. at the granularity of a zone but cannot separately auth. individual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Confusing rewrite rules -&gt; mgmt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need software that takes namespace map as input, produces system of rewri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software can implement security policies, prevent publishers’ rules from interf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can easily include simple &amp; secure publisher interface to rewrite rul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  <a:ea typeface="Geneva"/>
              </a:rPr>
              <a:t>URN Re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143000"/>
            <a:ext cx="7924680" cy="22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Hints help find resources, mutable and non-authori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Generally, hints will be cached in lots of 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If there are none, or they fail, then we must resort to a backup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3657600"/>
            <a:ext cx="3886560" cy="2057760"/>
          </a:xfrm>
          <a:custGeom>
            <a:avLst/>
            <a:gdLst/>
            <a:ahLst/>
            <a:rect l="0" t="0" r="r" b="b"/>
            <a:pathLst>
              <a:path w="10796" h="5716">
                <a:moveTo>
                  <a:pt x="0" y="1903"/>
                </a:moveTo>
                <a:lnTo>
                  <a:pt x="0" y="3807"/>
                </a:lnTo>
                <a:lnTo>
                  <a:pt x="7557" y="3807"/>
                </a:lnTo>
                <a:lnTo>
                  <a:pt x="7557" y="5716"/>
                </a:lnTo>
                <a:lnTo>
                  <a:pt x="10796" y="2857"/>
                </a:lnTo>
                <a:lnTo>
                  <a:pt x="7557" y="0"/>
                </a:lnTo>
                <a:lnTo>
                  <a:pt x="7557" y="1903"/>
                </a:lnTo>
                <a:lnTo>
                  <a:pt x="0" y="1903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2120" y="44197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URN to hint mapping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181480" y="2743200"/>
            <a:ext cx="2667600" cy="1905480"/>
            <a:chOff x="5181480" y="2743200"/>
            <a:chExt cx="2667600" cy="1905480"/>
          </a:xfrm>
        </p:grpSpPr>
        <p:grpSp>
          <p:nvGrpSpPr>
            <p:cNvPr id="55" name=""/>
            <p:cNvGrpSpPr/>
            <p:nvPr/>
          </p:nvGrpSpPr>
          <p:grpSpPr>
            <a:xfrm>
              <a:off x="5181480" y="2743200"/>
              <a:ext cx="2362680" cy="1600560"/>
              <a:chOff x="5181480" y="2743200"/>
              <a:chExt cx="2362680" cy="1600560"/>
            </a:xfrm>
          </p:grpSpPr>
          <p:sp>
            <p:nvSpPr>
              <p:cNvPr id="56" name=""/>
              <p:cNvSpPr/>
              <p:nvPr/>
            </p:nvSpPr>
            <p:spPr>
              <a:xfrm>
                <a:off x="5181480" y="2743200"/>
                <a:ext cx="2362680" cy="1600560"/>
              </a:xfrm>
              <a:custGeom>
                <a:avLst/>
                <a:gdLst/>
                <a:ahLst/>
                <a:rect l="0" t="0" r="r" b="b"/>
                <a:pathLst>
                  <a:path w="6563" h="4446">
                    <a:moveTo>
                      <a:pt x="3281" y="0"/>
                    </a:moveTo>
                    <a:lnTo>
                      <a:pt x="3609" y="1271"/>
                    </a:lnTo>
                    <a:lnTo>
                      <a:pt x="4899" y="311"/>
                    </a:lnTo>
                    <a:lnTo>
                      <a:pt x="4305" y="1520"/>
                    </a:lnTo>
                    <a:lnTo>
                      <a:pt x="6137" y="1115"/>
                    </a:lnTo>
                    <a:lnTo>
                      <a:pt x="4716" y="1984"/>
                    </a:lnTo>
                    <a:lnTo>
                      <a:pt x="6563" y="2222"/>
                    </a:lnTo>
                    <a:lnTo>
                      <a:pt x="4716" y="2461"/>
                    </a:lnTo>
                    <a:lnTo>
                      <a:pt x="6137" y="3334"/>
                    </a:lnTo>
                    <a:lnTo>
                      <a:pt x="4304" y="2959"/>
                    </a:lnTo>
                    <a:lnTo>
                      <a:pt x="4899" y="4156"/>
                    </a:lnTo>
                    <a:lnTo>
                      <a:pt x="3662" y="3195"/>
                    </a:lnTo>
                    <a:lnTo>
                      <a:pt x="3249" y="4446"/>
                    </a:lnTo>
                    <a:lnTo>
                      <a:pt x="2888" y="3195"/>
                    </a:lnTo>
                    <a:lnTo>
                      <a:pt x="1648" y="4157"/>
                    </a:lnTo>
                    <a:lnTo>
                      <a:pt x="2243" y="2946"/>
                    </a:lnTo>
                    <a:lnTo>
                      <a:pt x="413" y="3350"/>
                    </a:lnTo>
                    <a:lnTo>
                      <a:pt x="1831" y="2481"/>
                    </a:lnTo>
                    <a:lnTo>
                      <a:pt x="0" y="2232"/>
                    </a:lnTo>
                    <a:lnTo>
                      <a:pt x="1831" y="1984"/>
                    </a:lnTo>
                    <a:lnTo>
                      <a:pt x="413" y="1116"/>
                    </a:lnTo>
                    <a:lnTo>
                      <a:pt x="2243" y="1519"/>
                    </a:lnTo>
                    <a:lnTo>
                      <a:pt x="1648" y="306"/>
                    </a:lnTo>
                    <a:lnTo>
                      <a:pt x="2884" y="1271"/>
                    </a:lnTo>
                    <a:lnTo>
                      <a:pt x="3281" y="0"/>
                    </a:lnTo>
                    <a:close/>
                  </a:path>
                </a:pathLst>
              </a:custGeom>
              <a:solidFill>
                <a:srgbClr val="fda4b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 txBox="1"/>
              <p:nvPr/>
            </p:nvSpPr>
            <p:spPr>
              <a:xfrm>
                <a:off x="5410080" y="3048120"/>
                <a:ext cx="1905120" cy="1004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eneva"/>
                    <a:ea typeface="Geneva"/>
                  </a:rPr>
                  <a:t>UR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eneva"/>
                    <a:ea typeface="Geneva"/>
                  </a:rPr>
                  <a:t>Resolu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5334120" y="2895480"/>
              <a:ext cx="2362680" cy="1600560"/>
              <a:chOff x="5334120" y="2895480"/>
              <a:chExt cx="2362680" cy="1600560"/>
            </a:xfrm>
          </p:grpSpPr>
          <p:sp>
            <p:nvSpPr>
              <p:cNvPr id="59" name=""/>
              <p:cNvSpPr/>
              <p:nvPr/>
            </p:nvSpPr>
            <p:spPr>
              <a:xfrm>
                <a:off x="5334120" y="2895480"/>
                <a:ext cx="2362680" cy="1600560"/>
              </a:xfrm>
              <a:custGeom>
                <a:avLst/>
                <a:gdLst/>
                <a:ahLst/>
                <a:rect l="0" t="0" r="r" b="b"/>
                <a:pathLst>
                  <a:path w="6563" h="4446">
                    <a:moveTo>
                      <a:pt x="3281" y="0"/>
                    </a:moveTo>
                    <a:lnTo>
                      <a:pt x="3609" y="1271"/>
                    </a:lnTo>
                    <a:lnTo>
                      <a:pt x="4899" y="311"/>
                    </a:lnTo>
                    <a:lnTo>
                      <a:pt x="4305" y="1520"/>
                    </a:lnTo>
                    <a:lnTo>
                      <a:pt x="6137" y="1115"/>
                    </a:lnTo>
                    <a:lnTo>
                      <a:pt x="4716" y="1984"/>
                    </a:lnTo>
                    <a:lnTo>
                      <a:pt x="6563" y="2222"/>
                    </a:lnTo>
                    <a:lnTo>
                      <a:pt x="4716" y="2461"/>
                    </a:lnTo>
                    <a:lnTo>
                      <a:pt x="6137" y="3334"/>
                    </a:lnTo>
                    <a:lnTo>
                      <a:pt x="4304" y="2959"/>
                    </a:lnTo>
                    <a:lnTo>
                      <a:pt x="4899" y="4156"/>
                    </a:lnTo>
                    <a:lnTo>
                      <a:pt x="3662" y="3195"/>
                    </a:lnTo>
                    <a:lnTo>
                      <a:pt x="3249" y="4446"/>
                    </a:lnTo>
                    <a:lnTo>
                      <a:pt x="2888" y="3195"/>
                    </a:lnTo>
                    <a:lnTo>
                      <a:pt x="1648" y="4157"/>
                    </a:lnTo>
                    <a:lnTo>
                      <a:pt x="2243" y="2946"/>
                    </a:lnTo>
                    <a:lnTo>
                      <a:pt x="413" y="3350"/>
                    </a:lnTo>
                    <a:lnTo>
                      <a:pt x="1831" y="2481"/>
                    </a:lnTo>
                    <a:lnTo>
                      <a:pt x="0" y="2232"/>
                    </a:lnTo>
                    <a:lnTo>
                      <a:pt x="1831" y="1984"/>
                    </a:lnTo>
                    <a:lnTo>
                      <a:pt x="413" y="1116"/>
                    </a:lnTo>
                    <a:lnTo>
                      <a:pt x="2243" y="1519"/>
                    </a:lnTo>
                    <a:lnTo>
                      <a:pt x="1648" y="306"/>
                    </a:lnTo>
                    <a:lnTo>
                      <a:pt x="2884" y="1271"/>
                    </a:lnTo>
                    <a:lnTo>
                      <a:pt x="3281" y="0"/>
                    </a:lnTo>
                    <a:close/>
                  </a:path>
                </a:pathLst>
              </a:custGeom>
              <a:solidFill>
                <a:srgbClr val="fda4b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 txBox="1"/>
              <p:nvPr/>
            </p:nvSpPr>
            <p:spPr>
              <a:xfrm>
                <a:off x="5562720" y="3200400"/>
                <a:ext cx="1905120" cy="1004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eneva"/>
                    <a:ea typeface="Geneva"/>
                  </a:rPr>
                  <a:t>UR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eneva"/>
                    <a:ea typeface="Geneva"/>
                  </a:rPr>
                  <a:t>Resolu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5486400" y="3048120"/>
              <a:ext cx="2362680" cy="1600560"/>
              <a:chOff x="5486400" y="3048120"/>
              <a:chExt cx="2362680" cy="1600560"/>
            </a:xfrm>
          </p:grpSpPr>
          <p:sp>
            <p:nvSpPr>
              <p:cNvPr id="62" name=""/>
              <p:cNvSpPr/>
              <p:nvPr/>
            </p:nvSpPr>
            <p:spPr>
              <a:xfrm>
                <a:off x="5486400" y="3048120"/>
                <a:ext cx="2362680" cy="1600560"/>
              </a:xfrm>
              <a:custGeom>
                <a:avLst/>
                <a:gdLst/>
                <a:ahLst/>
                <a:rect l="0" t="0" r="r" b="b"/>
                <a:pathLst>
                  <a:path w="6563" h="4446">
                    <a:moveTo>
                      <a:pt x="3281" y="0"/>
                    </a:moveTo>
                    <a:lnTo>
                      <a:pt x="3609" y="1272"/>
                    </a:lnTo>
                    <a:lnTo>
                      <a:pt x="4899" y="311"/>
                    </a:lnTo>
                    <a:lnTo>
                      <a:pt x="4305" y="1521"/>
                    </a:lnTo>
                    <a:lnTo>
                      <a:pt x="6137" y="1116"/>
                    </a:lnTo>
                    <a:lnTo>
                      <a:pt x="4716" y="1985"/>
                    </a:lnTo>
                    <a:lnTo>
                      <a:pt x="6563" y="2223"/>
                    </a:lnTo>
                    <a:lnTo>
                      <a:pt x="4716" y="2461"/>
                    </a:lnTo>
                    <a:lnTo>
                      <a:pt x="6137" y="3335"/>
                    </a:lnTo>
                    <a:lnTo>
                      <a:pt x="4304" y="2959"/>
                    </a:lnTo>
                    <a:lnTo>
                      <a:pt x="4899" y="4157"/>
                    </a:lnTo>
                    <a:lnTo>
                      <a:pt x="3662" y="3195"/>
                    </a:lnTo>
                    <a:lnTo>
                      <a:pt x="3249" y="4446"/>
                    </a:lnTo>
                    <a:lnTo>
                      <a:pt x="2888" y="3195"/>
                    </a:lnTo>
                    <a:lnTo>
                      <a:pt x="1648" y="4158"/>
                    </a:lnTo>
                    <a:lnTo>
                      <a:pt x="2243" y="2946"/>
                    </a:lnTo>
                    <a:lnTo>
                      <a:pt x="413" y="3351"/>
                    </a:lnTo>
                    <a:lnTo>
                      <a:pt x="1831" y="2481"/>
                    </a:lnTo>
                    <a:lnTo>
                      <a:pt x="0" y="2232"/>
                    </a:lnTo>
                    <a:lnTo>
                      <a:pt x="1831" y="1985"/>
                    </a:lnTo>
                    <a:lnTo>
                      <a:pt x="413" y="1117"/>
                    </a:lnTo>
                    <a:lnTo>
                      <a:pt x="2243" y="1520"/>
                    </a:lnTo>
                    <a:lnTo>
                      <a:pt x="1648" y="306"/>
                    </a:lnTo>
                    <a:lnTo>
                      <a:pt x="2884" y="1272"/>
                    </a:lnTo>
                    <a:lnTo>
                      <a:pt x="3281" y="0"/>
                    </a:lnTo>
                    <a:close/>
                  </a:path>
                </a:pathLst>
              </a:custGeom>
              <a:solidFill>
                <a:srgbClr val="fda4b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 txBox="1"/>
              <p:nvPr/>
            </p:nvSpPr>
            <p:spPr>
              <a:xfrm>
                <a:off x="5715000" y="3352680"/>
                <a:ext cx="1905120" cy="1004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eneva"/>
                    <a:ea typeface="Geneva"/>
                  </a:rPr>
                  <a:t>UR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eneva"/>
                    <a:ea typeface="Geneva"/>
                  </a:rPr>
                  <a:t>Resolu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"/>
          <p:cNvGrpSpPr/>
          <p:nvPr/>
        </p:nvGrpSpPr>
        <p:grpSpPr>
          <a:xfrm>
            <a:off x="5334120" y="4800600"/>
            <a:ext cx="2743560" cy="1981440"/>
            <a:chOff x="5334120" y="4800600"/>
            <a:chExt cx="2743560" cy="1981440"/>
          </a:xfrm>
        </p:grpSpPr>
        <p:sp>
          <p:nvSpPr>
            <p:cNvPr id="65" name=""/>
            <p:cNvSpPr/>
            <p:nvPr/>
          </p:nvSpPr>
          <p:spPr>
            <a:xfrm>
              <a:off x="5334120" y="4800600"/>
              <a:ext cx="2743560" cy="1981440"/>
            </a:xfrm>
            <a:custGeom>
              <a:avLst/>
              <a:gdLst/>
              <a:ahLst/>
              <a:rect l="0" t="0" r="r" b="b"/>
              <a:pathLst>
                <a:path w="7621" h="5504">
                  <a:moveTo>
                    <a:pt x="3811" y="0"/>
                  </a:moveTo>
                  <a:lnTo>
                    <a:pt x="2918" y="2107"/>
                  </a:lnTo>
                  <a:lnTo>
                    <a:pt x="0" y="2107"/>
                  </a:lnTo>
                  <a:lnTo>
                    <a:pt x="2371" y="3413"/>
                  </a:lnTo>
                  <a:lnTo>
                    <a:pt x="1480" y="5504"/>
                  </a:lnTo>
                  <a:lnTo>
                    <a:pt x="3811" y="4293"/>
                  </a:lnTo>
                  <a:lnTo>
                    <a:pt x="6139" y="5504"/>
                  </a:lnTo>
                  <a:lnTo>
                    <a:pt x="5243" y="3413"/>
                  </a:lnTo>
                  <a:lnTo>
                    <a:pt x="7621" y="2103"/>
                  </a:lnTo>
                  <a:lnTo>
                    <a:pt x="4700" y="2103"/>
                  </a:lnTo>
                  <a:lnTo>
                    <a:pt x="3811" y="0"/>
                  </a:lnTo>
                  <a:close/>
                </a:path>
              </a:pathLst>
            </a:custGeom>
            <a:solidFill>
              <a:srgbClr val="eaec5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 txBox="1"/>
            <p:nvPr/>
          </p:nvSpPr>
          <p:spPr>
            <a:xfrm>
              <a:off x="5943600" y="5562720"/>
              <a:ext cx="1600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Geneva"/>
                  <a:ea typeface="Geneva"/>
                </a:rPr>
                <a:t>Resour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 flipV="1">
            <a:off x="4572000" y="3809880"/>
            <a:ext cx="1523880" cy="8384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4724280"/>
            <a:ext cx="2057400" cy="7621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858000" y="4343400"/>
            <a:ext cx="152280" cy="11430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69960" y="5996160"/>
            <a:ext cx="4740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Geneva"/>
                <a:ea typeface="Geneva"/>
              </a:rPr>
              <a:t>* This is the service under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  <a:ea typeface="Geneva"/>
              </a:rPr>
              <a:t>From NAPTR framework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14300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Persistence/longe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flexibility in choice of resolution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modularity of layers of informatio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Name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resolution should be independent of 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verifiable checklist of requirements (URN Requirements list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distribute to keep information maintenance close to authority fo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  <a:ea typeface="Geneva"/>
              </a:rPr>
              <a:t>Cave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14300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URN namespaces must conform to URN Requirements do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Syntax: URN:&lt;NID&gt;:&lt;N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We must be able to convince the community that the proposal is reasonable - we are already getting negative p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  <a:ea typeface="Geneva"/>
              </a:rPr>
              <a:t>Our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143000"/>
            <a:ext cx="7772400" cy="54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U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Geneva"/>
              </a:rPr>
              <a:t>publis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Geneva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Geneva"/>
              </a:rPr>
              <a:t>information mg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Security &amp; Priv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Geneva"/>
              </a:rPr>
              <a:t>access control on updating hi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Geneva"/>
              </a:rPr>
              <a:t>server authent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Geneva"/>
              </a:rPr>
              <a:t>server availability: resistence to denial of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Geneva"/>
              </a:rPr>
              <a:t>some degree of priv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Geneva"/>
              </a:rPr>
              <a:t>new NIDs (URN sche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Geneva"/>
              </a:rPr>
              <a:t>new resolution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Geneva"/>
              </a:rPr>
              <a:t>authentication and other security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Geneva"/>
              </a:rPr>
              <a:t>new or multiple top level models for URN to hint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  <a:ea typeface="Geneva"/>
              </a:rPr>
              <a:t>Quick Look at Fixing NAPT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743200" y="1600200"/>
            <a:ext cx="5715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Ev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Require additional client gateway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Secur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Build authentication into the new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Usa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Rewrite rules should be generated by special management software that implements a set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1523880"/>
            <a:ext cx="686160" cy="838440"/>
          </a:xfrm>
          <a:custGeom>
            <a:avLst/>
            <a:gdLst/>
            <a:ahLst/>
            <a:rect l="0" t="0" r="r" b="b"/>
            <a:pathLst>
              <a:path w="1906" h="2329">
                <a:moveTo>
                  <a:pt x="381" y="2329"/>
                </a:moveTo>
                <a:lnTo>
                  <a:pt x="1525" y="2329"/>
                </a:lnTo>
                <a:lnTo>
                  <a:pt x="1524" y="698"/>
                </a:lnTo>
                <a:lnTo>
                  <a:pt x="1906" y="698"/>
                </a:lnTo>
                <a:lnTo>
                  <a:pt x="952" y="0"/>
                </a:lnTo>
                <a:lnTo>
                  <a:pt x="0" y="698"/>
                </a:lnTo>
                <a:lnTo>
                  <a:pt x="381" y="698"/>
                </a:lnTo>
                <a:lnTo>
                  <a:pt x="381" y="2329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3048120"/>
            <a:ext cx="991080" cy="991080"/>
          </a:xfrm>
          <a:custGeom>
            <a:avLst/>
            <a:gdLst/>
            <a:ahLst/>
            <a:rect l="0" t="0" r="r" b="b"/>
            <a:pathLst>
              <a:path w="2753" h="2753">
                <a:moveTo>
                  <a:pt x="1376" y="0"/>
                </a:moveTo>
                <a:lnTo>
                  <a:pt x="1514" y="787"/>
                </a:lnTo>
                <a:lnTo>
                  <a:pt x="2055" y="192"/>
                </a:lnTo>
                <a:lnTo>
                  <a:pt x="1806" y="942"/>
                </a:lnTo>
                <a:lnTo>
                  <a:pt x="2574" y="691"/>
                </a:lnTo>
                <a:lnTo>
                  <a:pt x="1978" y="1229"/>
                </a:lnTo>
                <a:lnTo>
                  <a:pt x="2753" y="1376"/>
                </a:lnTo>
                <a:lnTo>
                  <a:pt x="1978" y="1524"/>
                </a:lnTo>
                <a:lnTo>
                  <a:pt x="2574" y="2064"/>
                </a:lnTo>
                <a:lnTo>
                  <a:pt x="1805" y="1832"/>
                </a:lnTo>
                <a:lnTo>
                  <a:pt x="2055" y="2574"/>
                </a:lnTo>
                <a:lnTo>
                  <a:pt x="1536" y="1978"/>
                </a:lnTo>
                <a:lnTo>
                  <a:pt x="1363" y="2753"/>
                </a:lnTo>
                <a:lnTo>
                  <a:pt x="1211" y="1978"/>
                </a:lnTo>
                <a:lnTo>
                  <a:pt x="691" y="2574"/>
                </a:lnTo>
                <a:lnTo>
                  <a:pt x="941" y="1824"/>
                </a:lnTo>
                <a:lnTo>
                  <a:pt x="173" y="2075"/>
                </a:lnTo>
                <a:lnTo>
                  <a:pt x="768" y="1536"/>
                </a:lnTo>
                <a:lnTo>
                  <a:pt x="0" y="1382"/>
                </a:lnTo>
                <a:lnTo>
                  <a:pt x="768" y="1229"/>
                </a:lnTo>
                <a:lnTo>
                  <a:pt x="173" y="691"/>
                </a:lnTo>
                <a:lnTo>
                  <a:pt x="941" y="941"/>
                </a:lnTo>
                <a:lnTo>
                  <a:pt x="691" y="189"/>
                </a:lnTo>
                <a:lnTo>
                  <a:pt x="1210" y="787"/>
                </a:lnTo>
                <a:lnTo>
                  <a:pt x="1376" y="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4648320"/>
            <a:ext cx="838440" cy="991080"/>
          </a:xfrm>
          <a:custGeom>
            <a:avLst/>
            <a:gdLst/>
            <a:ahLst/>
            <a:rect l="0" t="0" r="r" b="b"/>
            <a:pathLst>
              <a:path w="2329" h="2753">
                <a:moveTo>
                  <a:pt x="0" y="275"/>
                </a:moveTo>
                <a:lnTo>
                  <a:pt x="0" y="2203"/>
                </a:lnTo>
                <a:lnTo>
                  <a:pt x="232" y="2478"/>
                </a:lnTo>
                <a:lnTo>
                  <a:pt x="465" y="2478"/>
                </a:lnTo>
                <a:lnTo>
                  <a:pt x="232" y="2753"/>
                </a:lnTo>
                <a:lnTo>
                  <a:pt x="698" y="2478"/>
                </a:lnTo>
                <a:lnTo>
                  <a:pt x="2096" y="2478"/>
                </a:lnTo>
                <a:lnTo>
                  <a:pt x="2329" y="2203"/>
                </a:lnTo>
                <a:lnTo>
                  <a:pt x="2329" y="275"/>
                </a:lnTo>
                <a:lnTo>
                  <a:pt x="2096" y="0"/>
                </a:lnTo>
                <a:lnTo>
                  <a:pt x="232" y="0"/>
                </a:lnTo>
                <a:lnTo>
                  <a:pt x="0" y="275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04800" y="4784760"/>
            <a:ext cx="572040" cy="549720"/>
          </a:xfrm>
          <a:custGeom>
            <a:avLst/>
            <a:gdLst/>
            <a:ahLst/>
            <a:rect l="0" t="0" r="r" b="b"/>
            <a:pathLst>
              <a:path w="1589" h="1527">
                <a:moveTo>
                  <a:pt x="794" y="0"/>
                </a:moveTo>
                <a:lnTo>
                  <a:pt x="609" y="585"/>
                </a:lnTo>
                <a:lnTo>
                  <a:pt x="0" y="585"/>
                </a:lnTo>
                <a:lnTo>
                  <a:pt x="495" y="946"/>
                </a:lnTo>
                <a:lnTo>
                  <a:pt x="308" y="1527"/>
                </a:lnTo>
                <a:lnTo>
                  <a:pt x="794" y="1192"/>
                </a:lnTo>
                <a:lnTo>
                  <a:pt x="1280" y="1527"/>
                </a:lnTo>
                <a:lnTo>
                  <a:pt x="1093" y="946"/>
                </a:lnTo>
                <a:lnTo>
                  <a:pt x="1589" y="584"/>
                </a:lnTo>
                <a:lnTo>
                  <a:pt x="980" y="584"/>
                </a:lnTo>
                <a:lnTo>
                  <a:pt x="794" y="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  <a:ea typeface="Geneva"/>
              </a:rPr>
              <a:t>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143000"/>
            <a:ext cx="7772400" cy="52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The NAPTR proposal can be implemented quickly because it uses the D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This may mean that it is the only resolution method when some clients are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We should explicitly require clients to support an additional gateway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clients running a DNS-based protocol cannot easily escape to a new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therefore, require a simple protocol that sends the whole URN to a gateway address and waits for a list of hints to come back (i.e. SRV, A, or NAPTR records, or whatever clients underst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  <a:ea typeface="Geneva"/>
              </a:rPr>
              <a:t>Secu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143000"/>
            <a:ext cx="7772400" cy="583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DNSSEC will make the DNS more 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It gives each zone a private key; each record in that zone has an associated SIG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Public keys for zones can be acquired from the parent and child 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mods to the DNS DB must be author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NAPTR, SRV should still have extra auth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DNSSEC cannot authenticate resolution information except at granularity of 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there are other security issues that are part of the policies set by individual 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ex. interference between publishers’ rules vs. restrictions on types of rules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  <a:ea typeface="Geneva"/>
              </a:rPr>
              <a:t>Usability and 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143000"/>
            <a:ext cx="7772400" cy="583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Large systems of rewrite rules are ha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Difficult to understand, verify, main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Hard to translate for use by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Many problems with rewrite rules can be solved     with management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need software that takes namespace map as input, produces system of rewri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forces security policies to be clearly defined and implemented in the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easy to add a simple &amp; secure publisher’s interface to rewrite rul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``source files’’ can be moved over to future systems, updates can be mirr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aren R. Sollins</dc:creator>
  <dc:description/>
  <dc:language>en-US</dc:language>
  <cp:lastModifiedBy>Advanced Network Architecture Group</cp:lastModifiedBy>
  <cp:revision>0</cp:revision>
  <dc:subject/>
  <dc:title>URN Resolution Requirements and Plans</dc:title>
</cp:coreProperties>
</file>