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E497C2-6947-4158-818E-687F9CB36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Publis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ke URNs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hoose among variety of URN res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hange URN res servic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eneva"/>
                <a:ea typeface="Geneva"/>
              </a:rPr>
              <a:t>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determine availability of resources, distribution, return of different hints based on variety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long and short-term h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easy to install hint information in m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easy to verify or at least have confidence that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li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simplicity &amp; usability - easy and efficient to use, build interfaces, run quickly - only one step of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nag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provide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be as unobtrusive to clients, publishers and other network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y need economic incentives and disincentives to cause publishers not to overuse and possibly recover c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ust be easy to configure services and verify that cor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685800"/>
            <a:ext cx="0" cy="59436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6491160"/>
            <a:ext cx="126540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KRSollins;URNRes1; </a:t>
            </a:r>
            <a:fld id="{F7D6FF7D-E983-4D77-B4B7-7ADB2912B7A9}" type="datetime"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231040" y="6491160"/>
            <a:ext cx="318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58D69029-8E00-4729-9CD3-A4DB773F7541}" type="slidenum"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RN Resolution Require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and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8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Lewis Gi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Karen S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IT Laboratory for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June 27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Quick Look at Fixing NAP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quire additional client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lients running the current DNS-based protocol cannot easily escape to a new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Build authentication into the new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can auth. at the granularity of a zone but cannot separately auth. individua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onfusing rewrite rules -&gt; mgm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eed software that takes namespace map as input, produces system of rewri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oftware can implement security policies, prevent publishers’ rules from inter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an easily include simple &amp; secure publisher interface to rewrite ru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R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143000"/>
            <a:ext cx="7924680" cy="22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Hints help find resources, mutable and non-author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Generally, hints will be cached in lots of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If there are none, or they fail, then we must resort to a backup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657600"/>
            <a:ext cx="3886560" cy="2057760"/>
          </a:xfrm>
          <a:custGeom>
            <a:avLst/>
            <a:gdLst/>
            <a:ahLst/>
            <a:rect l="0" t="0" r="r" b="b"/>
            <a:pathLst>
              <a:path w="10796" h="5716">
                <a:moveTo>
                  <a:pt x="0" y="1903"/>
                </a:moveTo>
                <a:lnTo>
                  <a:pt x="0" y="3807"/>
                </a:lnTo>
                <a:lnTo>
                  <a:pt x="7557" y="3807"/>
                </a:lnTo>
                <a:lnTo>
                  <a:pt x="7557" y="5716"/>
                </a:lnTo>
                <a:lnTo>
                  <a:pt x="10796" y="2857"/>
                </a:lnTo>
                <a:lnTo>
                  <a:pt x="7557" y="0"/>
                </a:lnTo>
                <a:lnTo>
                  <a:pt x="7557" y="1903"/>
                </a:lnTo>
                <a:lnTo>
                  <a:pt x="0" y="1903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4197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RN to hint mapping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81480" y="2743200"/>
            <a:ext cx="2667600" cy="1905480"/>
            <a:chOff x="5181480" y="2743200"/>
            <a:chExt cx="2667600" cy="1905480"/>
          </a:xfrm>
        </p:grpSpPr>
        <p:grpSp>
          <p:nvGrpSpPr>
            <p:cNvPr id="55" name=""/>
            <p:cNvGrpSpPr/>
            <p:nvPr/>
          </p:nvGrpSpPr>
          <p:grpSpPr>
            <a:xfrm>
              <a:off x="5181480" y="2743200"/>
              <a:ext cx="2362680" cy="1600560"/>
              <a:chOff x="5181480" y="2743200"/>
              <a:chExt cx="2362680" cy="1600560"/>
            </a:xfrm>
          </p:grpSpPr>
          <p:sp>
            <p:nvSpPr>
              <p:cNvPr id="56" name=""/>
              <p:cNvSpPr/>
              <p:nvPr/>
            </p:nvSpPr>
            <p:spPr>
              <a:xfrm>
                <a:off x="5181480" y="274320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1"/>
                    </a:lnTo>
                    <a:lnTo>
                      <a:pt x="4899" y="311"/>
                    </a:lnTo>
                    <a:lnTo>
                      <a:pt x="4305" y="1520"/>
                    </a:lnTo>
                    <a:lnTo>
                      <a:pt x="6137" y="1115"/>
                    </a:lnTo>
                    <a:lnTo>
                      <a:pt x="4716" y="1984"/>
                    </a:lnTo>
                    <a:lnTo>
                      <a:pt x="6563" y="2222"/>
                    </a:lnTo>
                    <a:lnTo>
                      <a:pt x="4716" y="2461"/>
                    </a:lnTo>
                    <a:lnTo>
                      <a:pt x="6137" y="3334"/>
                    </a:lnTo>
                    <a:lnTo>
                      <a:pt x="4304" y="2959"/>
                    </a:lnTo>
                    <a:lnTo>
                      <a:pt x="4899" y="4156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7"/>
                    </a:lnTo>
                    <a:lnTo>
                      <a:pt x="2243" y="2946"/>
                    </a:lnTo>
                    <a:lnTo>
                      <a:pt x="413" y="3350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4"/>
                    </a:lnTo>
                    <a:lnTo>
                      <a:pt x="413" y="1116"/>
                    </a:lnTo>
                    <a:lnTo>
                      <a:pt x="2243" y="1519"/>
                    </a:lnTo>
                    <a:lnTo>
                      <a:pt x="1648" y="306"/>
                    </a:lnTo>
                    <a:lnTo>
                      <a:pt x="2884" y="1271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410080" y="304812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334120" y="2895480"/>
              <a:ext cx="2362680" cy="1600560"/>
              <a:chOff x="5334120" y="2895480"/>
              <a:chExt cx="2362680" cy="1600560"/>
            </a:xfrm>
          </p:grpSpPr>
          <p:sp>
            <p:nvSpPr>
              <p:cNvPr id="59" name=""/>
              <p:cNvSpPr/>
              <p:nvPr/>
            </p:nvSpPr>
            <p:spPr>
              <a:xfrm>
                <a:off x="5334120" y="289548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1"/>
                    </a:lnTo>
                    <a:lnTo>
                      <a:pt x="4899" y="311"/>
                    </a:lnTo>
                    <a:lnTo>
                      <a:pt x="4305" y="1520"/>
                    </a:lnTo>
                    <a:lnTo>
                      <a:pt x="6137" y="1115"/>
                    </a:lnTo>
                    <a:lnTo>
                      <a:pt x="4716" y="1984"/>
                    </a:lnTo>
                    <a:lnTo>
                      <a:pt x="6563" y="2222"/>
                    </a:lnTo>
                    <a:lnTo>
                      <a:pt x="4716" y="2461"/>
                    </a:lnTo>
                    <a:lnTo>
                      <a:pt x="6137" y="3334"/>
                    </a:lnTo>
                    <a:lnTo>
                      <a:pt x="4304" y="2959"/>
                    </a:lnTo>
                    <a:lnTo>
                      <a:pt x="4899" y="4156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7"/>
                    </a:lnTo>
                    <a:lnTo>
                      <a:pt x="2243" y="2946"/>
                    </a:lnTo>
                    <a:lnTo>
                      <a:pt x="413" y="3350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4"/>
                    </a:lnTo>
                    <a:lnTo>
                      <a:pt x="413" y="1116"/>
                    </a:lnTo>
                    <a:lnTo>
                      <a:pt x="2243" y="1519"/>
                    </a:lnTo>
                    <a:lnTo>
                      <a:pt x="1648" y="306"/>
                    </a:lnTo>
                    <a:lnTo>
                      <a:pt x="2884" y="1271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5562720" y="320040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486400" y="3048120"/>
              <a:ext cx="2362680" cy="1600560"/>
              <a:chOff x="5486400" y="3048120"/>
              <a:chExt cx="2362680" cy="1600560"/>
            </a:xfrm>
          </p:grpSpPr>
          <p:sp>
            <p:nvSpPr>
              <p:cNvPr id="62" name=""/>
              <p:cNvSpPr/>
              <p:nvPr/>
            </p:nvSpPr>
            <p:spPr>
              <a:xfrm>
                <a:off x="5486400" y="304812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2"/>
                    </a:lnTo>
                    <a:lnTo>
                      <a:pt x="4899" y="311"/>
                    </a:lnTo>
                    <a:lnTo>
                      <a:pt x="4305" y="1521"/>
                    </a:lnTo>
                    <a:lnTo>
                      <a:pt x="6137" y="1116"/>
                    </a:lnTo>
                    <a:lnTo>
                      <a:pt x="4716" y="1985"/>
                    </a:lnTo>
                    <a:lnTo>
                      <a:pt x="6563" y="2223"/>
                    </a:lnTo>
                    <a:lnTo>
                      <a:pt x="4716" y="2461"/>
                    </a:lnTo>
                    <a:lnTo>
                      <a:pt x="6137" y="3335"/>
                    </a:lnTo>
                    <a:lnTo>
                      <a:pt x="4304" y="2959"/>
                    </a:lnTo>
                    <a:lnTo>
                      <a:pt x="4899" y="4157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8"/>
                    </a:lnTo>
                    <a:lnTo>
                      <a:pt x="2243" y="2946"/>
                    </a:lnTo>
                    <a:lnTo>
                      <a:pt x="413" y="3351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5"/>
                    </a:lnTo>
                    <a:lnTo>
                      <a:pt x="413" y="1117"/>
                    </a:lnTo>
                    <a:lnTo>
                      <a:pt x="2243" y="1520"/>
                    </a:lnTo>
                    <a:lnTo>
                      <a:pt x="1648" y="306"/>
                    </a:lnTo>
                    <a:lnTo>
                      <a:pt x="2884" y="1272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5715000" y="335268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5334120" y="4800600"/>
            <a:ext cx="2743560" cy="1981440"/>
            <a:chOff x="5334120" y="4800600"/>
            <a:chExt cx="2743560" cy="1981440"/>
          </a:xfrm>
        </p:grpSpPr>
        <p:sp>
          <p:nvSpPr>
            <p:cNvPr id="65" name=""/>
            <p:cNvSpPr/>
            <p:nvPr/>
          </p:nvSpPr>
          <p:spPr>
            <a:xfrm>
              <a:off x="5334120" y="4800600"/>
              <a:ext cx="2743560" cy="1981440"/>
            </a:xfrm>
            <a:custGeom>
              <a:avLst/>
              <a:gdLst/>
              <a:ahLst/>
              <a:rect l="0" t="0" r="r" b="b"/>
              <a:pathLst>
                <a:path w="7621" h="5504">
                  <a:moveTo>
                    <a:pt x="3811" y="0"/>
                  </a:moveTo>
                  <a:lnTo>
                    <a:pt x="2918" y="2107"/>
                  </a:lnTo>
                  <a:lnTo>
                    <a:pt x="0" y="2107"/>
                  </a:lnTo>
                  <a:lnTo>
                    <a:pt x="2371" y="3413"/>
                  </a:lnTo>
                  <a:lnTo>
                    <a:pt x="1480" y="5504"/>
                  </a:lnTo>
                  <a:lnTo>
                    <a:pt x="3811" y="4293"/>
                  </a:lnTo>
                  <a:lnTo>
                    <a:pt x="6139" y="5504"/>
                  </a:lnTo>
                  <a:lnTo>
                    <a:pt x="5243" y="3413"/>
                  </a:lnTo>
                  <a:lnTo>
                    <a:pt x="7621" y="2103"/>
                  </a:lnTo>
                  <a:lnTo>
                    <a:pt x="4700" y="2103"/>
                  </a:lnTo>
                  <a:lnTo>
                    <a:pt x="3811" y="0"/>
                  </a:lnTo>
                  <a:close/>
                </a:path>
              </a:pathLst>
            </a:custGeom>
            <a:solidFill>
              <a:srgbClr val="eaec5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5943600" y="556272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4572000" y="3809880"/>
            <a:ext cx="1523880" cy="838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205740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858000" y="4343400"/>
            <a:ext cx="152280" cy="1143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9960" y="5996160"/>
            <a:ext cx="474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* This is the service unde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From NAPTR framework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Persistence/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flexibility in choice of resolu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ularity of layers of inform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am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solution should be independent of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verifiable checklist of requirements (URN Requirements lis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istribute to keep information maintenance close to authority 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Cav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RN namespaces must conform to URN Requirements d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yntax: URN:&lt;NID&gt;:&lt;N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We must be able to convince the community that the proposal is reasonable - we are already getting negative 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Our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143000"/>
            <a:ext cx="77724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publi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information mg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ecurity &amp;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access control on updating hi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erver authen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erver availability: resistence to 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ome degree of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NIDs (URN sche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resolu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authentication and other securit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or multiple top level models for URN to hin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Quick Look at Fixing NAP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43200" y="160020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quire additional client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e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Build authentication into the new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s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write rules should be generated by special management software that implements a se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1523880"/>
            <a:ext cx="686160" cy="838440"/>
          </a:xfrm>
          <a:custGeom>
            <a:avLst/>
            <a:gdLst/>
            <a:ahLst/>
            <a:rect l="0" t="0" r="r" b="b"/>
            <a:pathLst>
              <a:path w="1906" h="2329">
                <a:moveTo>
                  <a:pt x="381" y="2329"/>
                </a:moveTo>
                <a:lnTo>
                  <a:pt x="1525" y="2329"/>
                </a:lnTo>
                <a:lnTo>
                  <a:pt x="1524" y="698"/>
                </a:lnTo>
                <a:lnTo>
                  <a:pt x="1906" y="698"/>
                </a:lnTo>
                <a:lnTo>
                  <a:pt x="952" y="0"/>
                </a:lnTo>
                <a:lnTo>
                  <a:pt x="0" y="698"/>
                </a:lnTo>
                <a:lnTo>
                  <a:pt x="381" y="698"/>
                </a:lnTo>
                <a:lnTo>
                  <a:pt x="381" y="232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048120"/>
            <a:ext cx="991080" cy="991080"/>
          </a:xfrm>
          <a:custGeom>
            <a:avLst/>
            <a:gdLst/>
            <a:ahLst/>
            <a:rect l="0" t="0" r="r" b="b"/>
            <a:pathLst>
              <a:path w="2753" h="2753">
                <a:moveTo>
                  <a:pt x="1376" y="0"/>
                </a:moveTo>
                <a:lnTo>
                  <a:pt x="1514" y="787"/>
                </a:lnTo>
                <a:lnTo>
                  <a:pt x="2055" y="192"/>
                </a:lnTo>
                <a:lnTo>
                  <a:pt x="1806" y="942"/>
                </a:lnTo>
                <a:lnTo>
                  <a:pt x="2574" y="691"/>
                </a:lnTo>
                <a:lnTo>
                  <a:pt x="1978" y="1229"/>
                </a:lnTo>
                <a:lnTo>
                  <a:pt x="2753" y="1376"/>
                </a:lnTo>
                <a:lnTo>
                  <a:pt x="1978" y="1524"/>
                </a:lnTo>
                <a:lnTo>
                  <a:pt x="2574" y="2064"/>
                </a:lnTo>
                <a:lnTo>
                  <a:pt x="1805" y="1832"/>
                </a:lnTo>
                <a:lnTo>
                  <a:pt x="2055" y="2574"/>
                </a:lnTo>
                <a:lnTo>
                  <a:pt x="1536" y="1978"/>
                </a:lnTo>
                <a:lnTo>
                  <a:pt x="1363" y="2753"/>
                </a:lnTo>
                <a:lnTo>
                  <a:pt x="1211" y="1978"/>
                </a:lnTo>
                <a:lnTo>
                  <a:pt x="691" y="2574"/>
                </a:lnTo>
                <a:lnTo>
                  <a:pt x="941" y="1824"/>
                </a:lnTo>
                <a:lnTo>
                  <a:pt x="173" y="2075"/>
                </a:lnTo>
                <a:lnTo>
                  <a:pt x="768" y="1536"/>
                </a:lnTo>
                <a:lnTo>
                  <a:pt x="0" y="1382"/>
                </a:lnTo>
                <a:lnTo>
                  <a:pt x="768" y="1229"/>
                </a:lnTo>
                <a:lnTo>
                  <a:pt x="173" y="691"/>
                </a:lnTo>
                <a:lnTo>
                  <a:pt x="941" y="941"/>
                </a:lnTo>
                <a:lnTo>
                  <a:pt x="691" y="189"/>
                </a:lnTo>
                <a:lnTo>
                  <a:pt x="1210" y="787"/>
                </a:lnTo>
                <a:lnTo>
                  <a:pt x="1376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648320"/>
            <a:ext cx="838440" cy="991080"/>
          </a:xfrm>
          <a:custGeom>
            <a:avLst/>
            <a:gdLst/>
            <a:ahLst/>
            <a:rect l="0" t="0" r="r" b="b"/>
            <a:pathLst>
              <a:path w="2329" h="2753">
                <a:moveTo>
                  <a:pt x="0" y="275"/>
                </a:moveTo>
                <a:lnTo>
                  <a:pt x="0" y="2203"/>
                </a:lnTo>
                <a:lnTo>
                  <a:pt x="232" y="2478"/>
                </a:lnTo>
                <a:lnTo>
                  <a:pt x="465" y="2478"/>
                </a:lnTo>
                <a:lnTo>
                  <a:pt x="232" y="2753"/>
                </a:lnTo>
                <a:lnTo>
                  <a:pt x="698" y="2478"/>
                </a:lnTo>
                <a:lnTo>
                  <a:pt x="2096" y="2478"/>
                </a:lnTo>
                <a:lnTo>
                  <a:pt x="2329" y="2203"/>
                </a:lnTo>
                <a:lnTo>
                  <a:pt x="2329" y="275"/>
                </a:lnTo>
                <a:lnTo>
                  <a:pt x="2096" y="0"/>
                </a:lnTo>
                <a:lnTo>
                  <a:pt x="232" y="0"/>
                </a:lnTo>
                <a:lnTo>
                  <a:pt x="0" y="27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04800" y="4784760"/>
            <a:ext cx="572040" cy="549720"/>
          </a:xfrm>
          <a:custGeom>
            <a:avLst/>
            <a:gdLst/>
            <a:ahLst/>
            <a:rect l="0" t="0" r="r" b="b"/>
            <a:pathLst>
              <a:path w="1589" h="1527">
                <a:moveTo>
                  <a:pt x="794" y="0"/>
                </a:moveTo>
                <a:lnTo>
                  <a:pt x="609" y="585"/>
                </a:lnTo>
                <a:lnTo>
                  <a:pt x="0" y="585"/>
                </a:lnTo>
                <a:lnTo>
                  <a:pt x="495" y="946"/>
                </a:lnTo>
                <a:lnTo>
                  <a:pt x="308" y="1527"/>
                </a:lnTo>
                <a:lnTo>
                  <a:pt x="794" y="1192"/>
                </a:lnTo>
                <a:lnTo>
                  <a:pt x="1280" y="1527"/>
                </a:lnTo>
                <a:lnTo>
                  <a:pt x="1093" y="946"/>
                </a:lnTo>
                <a:lnTo>
                  <a:pt x="1589" y="584"/>
                </a:lnTo>
                <a:lnTo>
                  <a:pt x="980" y="584"/>
                </a:lnTo>
                <a:lnTo>
                  <a:pt x="794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143000"/>
            <a:ext cx="7772400" cy="52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 NAPTR proposal can be implemented quickly because it uses the D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is may mean that it is the only resolution method when some clients a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We should explicitly require clients to support an additional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lients running a DNS-based protocol cannot easily escape to a new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refore, require a simple protocol that sends the whole URN to a gateway address and waits for a list of hints to come back (i.e. SRV, A, or NAPTR records, or whatever clients underst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will make the DNS more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It gives each zone a private key; each record in that zone has an associated SI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Public keys for zones can be acquired from the parent and chil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s to the DNS DB must be autho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APTR, SRV should still have extra auth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cannot authenticate resolution information except at granularity of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re are other security issues that are part of the policies set by individual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x. interference between publishers’ rules vs. restrictions on types of rule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sability and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Large systems of rewrite rules are ha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ifficult to understand, verify,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Hard to translate for use by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any problems with rewrite rules can be solved     with managem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eed software that takes namespace map as input, produces system of rewri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forces security policies to be clearly defined and implemented in th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asy to add a simple &amp; secure publisher’s interface to rewrite ru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``source files’’ can be moved over to future systems, updates can be mirr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n R. Sollins</dc:creator>
  <dc:description/>
  <dc:language>en-US</dc:language>
  <cp:lastModifiedBy>Advanced Network Architecture Group</cp:lastModifiedBy>
  <cp:revision>0</cp:revision>
  <dc:subject/>
  <dc:title>URN Resolution Requirements and Plans</dc:title>
</cp:coreProperties>
</file>