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08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  <a:ea typeface="Times New Roman"/>
              </a:rPr>
              <a:t>IP Address Allocation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ul Res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ve Bello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akov Rek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Use of IPv4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al tradeoffs with renu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dr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monstration of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repeat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perty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lusiv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s and Instit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 of d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 conven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rs and spe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 about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fect pr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66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Resnick</dc:creator>
  <dc:description/>
  <dc:language>en-US</dc:language>
  <cp:lastModifiedBy>Paul Resnick</cp:lastModifiedBy>
  <cp:revision>0</cp:revision>
  <dc:subject/>
  <dc:title>Selling an Idea or a Product</dc:title>
</cp:coreProperties>
</file>