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2560" cy="685656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A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en Zorn (glennz@microsoft.co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ft-zorn-yaap-00.t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a new protoco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CACS+ perceived as propriet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US popular, but fla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not just extend RADIU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ws are fundame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ably end up with a new protocol any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rouble with RADI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-protocol support we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ribute space too sm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support for complex user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orization we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entication and authorization comb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unting we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sour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-server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xt Generation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arate authentication, authorization and accou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NAS resour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htw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xt Generation Requirements (continu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ia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for all levels of 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ggestion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ily prox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dial-up roa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e server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xt Generation Requirements (continu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e message convers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e authentication metho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port indepen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 attribute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arate protocol and payload specif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xt Generation Requirements (continu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-defined or self-defining attribute identifi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form attribute form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er-to-peer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 design direction from the user communit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len Zorn.</dc:creator>
  <dc:description/>
  <dc:language>en-US</dc:language>
  <cp:lastModifiedBy>Glen Zorn.</cp:lastModifiedBy>
  <cp:revision>0</cp:revision>
  <dc:subject/>
  <dc:title>YAAP</dc:title>
</cp:coreProperties>
</file>