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782300" cy="80899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920" y="434376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1124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996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0100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892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996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0100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8920" y="322560"/>
            <a:ext cx="9703440" cy="62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1124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000" y="1949400"/>
            <a:ext cx="9132840" cy="133200"/>
          </a:xfrm>
          <a:prstGeom prst="rect">
            <a:avLst/>
          </a:prstGeom>
          <a:solidFill>
            <a:srgbClr val="0f0f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793880" y="6943680"/>
            <a:ext cx="1768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CA0B11E-3964-4B14-82C5-2A356533993D}" type="slidenum"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&lt;number&gt;</a:t>
            </a:fld>
            <a:r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,  mpv   </a:t>
            </a:r>
            <a:fld id="{EECF926D-AC5A-4B02-B75D-59640FD6A849}" type="datetime"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7/30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32160" y="6726240"/>
            <a:ext cx="1843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299360" y="6912000"/>
            <a:ext cx="18208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The Excalibur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6e0043"/>
                </a:solidFill>
                <a:latin typeface="Palatino"/>
                <a:ea typeface="Palatino"/>
              </a:rPr>
              <a:t>A Time Warner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692280"/>
            <a:ext cx="8991720" cy="6705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5.pct"/><Relationship Id="rId11" Type="http://schemas.openxmlformats.org/officeDocument/2006/relationships/image" Target="../media/image5.pct"/><Relationship Id="rId12" Type="http://schemas.openxmlformats.org/officeDocument/2006/relationships/image" Target="../media/image5.pct"/><Relationship Id="rId13" Type="http://schemas.openxmlformats.org/officeDocument/2006/relationships/image" Target="../media/image5.pct"/><Relationship Id="rId14" Type="http://schemas.openxmlformats.org/officeDocument/2006/relationships/image" Target="../media/image5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7.pct"/><Relationship Id="rId18" Type="http://schemas.openxmlformats.org/officeDocument/2006/relationships/image" Target="../media/image8.pct"/><Relationship Id="rId19" Type="http://schemas.openxmlformats.org/officeDocument/2006/relationships/image" Target="../media/image8.pct"/><Relationship Id="rId20" Type="http://schemas.openxmlformats.org/officeDocument/2006/relationships/image" Target="../media/image4.pct"/><Relationship Id="rId21" Type="http://schemas.openxmlformats.org/officeDocument/2006/relationships/image" Target="../media/image5.pct"/><Relationship Id="rId22" Type="http://schemas.openxmlformats.org/officeDocument/2006/relationships/image" Target="../media/image6.pct"/><Relationship Id="rId23" Type="http://schemas.openxmlformats.org/officeDocument/2006/relationships/image" Target="../media/image5.pct"/><Relationship Id="rId24" Type="http://schemas.openxmlformats.org/officeDocument/2006/relationships/image" Target="../media/image5.pct"/><Relationship Id="rId25" Type="http://schemas.openxmlformats.org/officeDocument/2006/relationships/image" Target="../media/image5.pct"/><Relationship Id="rId26" Type="http://schemas.openxmlformats.org/officeDocument/2006/relationships/image" Target="../media/image5.pct"/><Relationship Id="rId27" Type="http://schemas.openxmlformats.org/officeDocument/2006/relationships/image" Target="../media/image5.pct"/><Relationship Id="rId28" Type="http://schemas.openxmlformats.org/officeDocument/2006/relationships/image" Target="../media/image5.pct"/><Relationship Id="rId29" Type="http://schemas.openxmlformats.org/officeDocument/2006/relationships/image" Target="../media/image5.pct"/><Relationship Id="rId30" Type="http://schemas.openxmlformats.org/officeDocument/2006/relationships/image" Target="../media/image5.pct"/><Relationship Id="rId31" Type="http://schemas.openxmlformats.org/officeDocument/2006/relationships/image" Target="../media/image8.pct"/><Relationship Id="rId32" Type="http://schemas.openxmlformats.org/officeDocument/2006/relationships/image" Target="../media/image5.pct"/><Relationship Id="rId33" Type="http://schemas.openxmlformats.org/officeDocument/2006/relationships/image" Target="../media/image8.pct"/><Relationship Id="rId34" Type="http://schemas.openxmlformats.org/officeDocument/2006/relationships/image" Target="../media/image2.pct"/><Relationship Id="rId35" Type="http://schemas.openxmlformats.org/officeDocument/2006/relationships/image" Target="../media/image6.pct"/><Relationship Id="rId36" Type="http://schemas.openxmlformats.org/officeDocument/2006/relationships/image" Target="../media/image4.pct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image" Target="../media/image10.pct"/><Relationship Id="rId7" Type="http://schemas.openxmlformats.org/officeDocument/2006/relationships/image" Target="../media/image12.pct"/><Relationship Id="rId8" Type="http://schemas.openxmlformats.org/officeDocument/2006/relationships/image" Target="../media/image9.pct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95320" y="844560"/>
            <a:ext cx="8991720" cy="11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8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 </a:t>
            </a:r>
            <a:r>
              <a:rPr b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architecture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igh-speed IP services to home P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33400" y="2673360"/>
            <a:ext cx="7543800" cy="35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0f0f9f"/>
                </a:solidFill>
                <a:latin typeface="Palatino"/>
                <a:ea typeface="Palatino"/>
              </a:rPr>
              <a:t>Mario P. Ve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Excalib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A Time Warne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mario.vecchi@excalibur-group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Over Cable  Network (IPACD) B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IETF Montreal, June 24,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400" spc="-1" strike="noStrike">
                <a:solidFill>
                  <a:srgbClr val="6e0043"/>
                </a:solidFill>
                <a:latin typeface="Palatino"/>
                <a:ea typeface="Palatino"/>
              </a:rPr>
              <a:t>(Anonymous ftp at twcable.com:/pub/EXCALIBUR/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ignal Conver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504800" y="244476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CS at the Distribution Hub, aggregates traffic from about 20,000 hp (40 fiber nod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- Terminate cablemodems: physical and link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- Connect to Headend router: deliver IP datagrams (over ATM/SONET, FDDI, .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Decouple up streams from down streams,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cale from low-pene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Forward: start one mod for all users, install additional card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Reverse: RF clusters of fiber nodes, add additional demod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upport multicasting/broadc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828800" y="844560"/>
            <a:ext cx="729612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Illustrative example: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CS Modular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7600" y="2212920"/>
            <a:ext cx="4910040" cy="392112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e2e4a6"/>
              </a:gs>
            </a:gsLst>
            <a:lin ang="5400000"/>
          </a:gra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19680" y="2430360"/>
            <a:ext cx="1812960" cy="3559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23920" y="2720880"/>
            <a:ext cx="1208160" cy="1379520"/>
          </a:xfrm>
          <a:prstGeom prst="round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13200" y="2720880"/>
            <a:ext cx="754200" cy="58104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21000" y="272088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21000" y="380988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21000" y="519120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60560" y="3882960"/>
            <a:ext cx="906480" cy="196056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32080" y="2867040"/>
            <a:ext cx="681480" cy="362160"/>
            <a:chOff x="2332080" y="2867040"/>
            <a:chExt cx="681480" cy="362160"/>
          </a:xfrm>
        </p:grpSpPr>
        <p:sp>
          <p:nvSpPr>
            <p:cNvPr id="486" name=""/>
            <p:cNvSpPr/>
            <p:nvPr/>
          </p:nvSpPr>
          <p:spPr>
            <a:xfrm>
              <a:off x="2671920" y="2867040"/>
              <a:ext cx="341640" cy="362160"/>
            </a:xfrm>
            <a:custGeom>
              <a:avLst/>
              <a:gdLst/>
              <a:ahLst/>
              <a:rect l="0" t="0" r="r" b="b"/>
              <a:pathLst>
                <a:path w="949" h="1006">
                  <a:moveTo>
                    <a:pt x="0" y="334"/>
                  </a:moveTo>
                  <a:lnTo>
                    <a:pt x="0" y="670"/>
                  </a:lnTo>
                  <a:lnTo>
                    <a:pt x="664" y="670"/>
                  </a:lnTo>
                  <a:lnTo>
                    <a:pt x="664" y="1006"/>
                  </a:lnTo>
                  <a:lnTo>
                    <a:pt x="949" y="502"/>
                  </a:lnTo>
                  <a:lnTo>
                    <a:pt x="664" y="0"/>
                  </a:lnTo>
                  <a:lnTo>
                    <a:pt x="664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f0f9f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2080" y="2867040"/>
              <a:ext cx="340200" cy="362160"/>
            </a:xfrm>
            <a:custGeom>
              <a:avLst/>
              <a:gdLst/>
              <a:ahLst/>
              <a:rect l="0" t="0" r="r" b="b"/>
              <a:pathLst>
                <a:path w="945" h="1006">
                  <a:moveTo>
                    <a:pt x="945" y="334"/>
                  </a:moveTo>
                  <a:lnTo>
                    <a:pt x="945" y="670"/>
                  </a:lnTo>
                  <a:lnTo>
                    <a:pt x="284" y="670"/>
                  </a:lnTo>
                  <a:lnTo>
                    <a:pt x="284" y="1006"/>
                  </a:lnTo>
                  <a:lnTo>
                    <a:pt x="0" y="502"/>
                  </a:lnTo>
                  <a:lnTo>
                    <a:pt x="284" y="0"/>
                  </a:lnTo>
                  <a:lnTo>
                    <a:pt x="284" y="334"/>
                  </a:lnTo>
                  <a:lnTo>
                    <a:pt x="945" y="3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f0f9f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767040" y="2938320"/>
            <a:ext cx="454320" cy="219600"/>
          </a:xfrm>
          <a:custGeom>
            <a:avLst/>
            <a:gdLst/>
            <a:ahLst/>
            <a:rect l="0" t="0" r="r" b="b"/>
            <a:pathLst>
              <a:path w="1262" h="610">
                <a:moveTo>
                  <a:pt x="0" y="203"/>
                </a:moveTo>
                <a:lnTo>
                  <a:pt x="0" y="406"/>
                </a:lnTo>
                <a:lnTo>
                  <a:pt x="883" y="406"/>
                </a:lnTo>
                <a:lnTo>
                  <a:pt x="883" y="610"/>
                </a:lnTo>
                <a:lnTo>
                  <a:pt x="1262" y="305"/>
                </a:lnTo>
                <a:lnTo>
                  <a:pt x="883" y="0"/>
                </a:lnTo>
                <a:lnTo>
                  <a:pt x="883" y="203"/>
                </a:lnTo>
                <a:lnTo>
                  <a:pt x="0" y="20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3301920"/>
            <a:ext cx="189360" cy="545040"/>
          </a:xfrm>
          <a:custGeom>
            <a:avLst/>
            <a:gdLst/>
            <a:ahLst/>
            <a:rect l="0" t="0" r="r" b="b"/>
            <a:pathLst>
              <a:path w="526" h="1514">
                <a:moveTo>
                  <a:pt x="175" y="1514"/>
                </a:moveTo>
                <a:lnTo>
                  <a:pt x="350" y="1514"/>
                </a:lnTo>
                <a:lnTo>
                  <a:pt x="350" y="454"/>
                </a:lnTo>
                <a:lnTo>
                  <a:pt x="526" y="454"/>
                </a:lnTo>
                <a:lnTo>
                  <a:pt x="263" y="0"/>
                </a:lnTo>
                <a:lnTo>
                  <a:pt x="0" y="454"/>
                </a:lnTo>
                <a:lnTo>
                  <a:pt x="175" y="454"/>
                </a:lnTo>
                <a:lnTo>
                  <a:pt x="175" y="151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67040" y="5408640"/>
            <a:ext cx="454320" cy="217800"/>
          </a:xfrm>
          <a:custGeom>
            <a:avLst/>
            <a:gdLst/>
            <a:ahLst/>
            <a:rect l="0" t="0" r="r" b="b"/>
            <a:pathLst>
              <a:path w="1262" h="605">
                <a:moveTo>
                  <a:pt x="1262" y="201"/>
                </a:moveTo>
                <a:lnTo>
                  <a:pt x="1262" y="403"/>
                </a:lnTo>
                <a:lnTo>
                  <a:pt x="378" y="403"/>
                </a:lnTo>
                <a:lnTo>
                  <a:pt x="378" y="605"/>
                </a:lnTo>
                <a:lnTo>
                  <a:pt x="0" y="303"/>
                </a:lnTo>
                <a:lnTo>
                  <a:pt x="378" y="0"/>
                </a:lnTo>
                <a:lnTo>
                  <a:pt x="378" y="201"/>
                </a:lnTo>
                <a:lnTo>
                  <a:pt x="1262" y="20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67040" y="3956040"/>
            <a:ext cx="454320" cy="217800"/>
          </a:xfrm>
          <a:custGeom>
            <a:avLst/>
            <a:gdLst/>
            <a:ahLst/>
            <a:rect l="0" t="0" r="r" b="b"/>
            <a:pathLst>
              <a:path w="1262" h="605">
                <a:moveTo>
                  <a:pt x="1262" y="201"/>
                </a:moveTo>
                <a:lnTo>
                  <a:pt x="1262" y="403"/>
                </a:lnTo>
                <a:lnTo>
                  <a:pt x="378" y="403"/>
                </a:lnTo>
                <a:lnTo>
                  <a:pt x="378" y="605"/>
                </a:lnTo>
                <a:lnTo>
                  <a:pt x="0" y="303"/>
                </a:lnTo>
                <a:lnTo>
                  <a:pt x="378" y="0"/>
                </a:lnTo>
                <a:lnTo>
                  <a:pt x="378" y="201"/>
                </a:lnTo>
                <a:lnTo>
                  <a:pt x="1262" y="20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388296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0120" y="453708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533556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0120" y="598968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03800" y="301140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84800" y="5118120"/>
            <a:ext cx="604800" cy="654120"/>
          </a:xfrm>
          <a:prstGeom prst="roundRect">
            <a:avLst/>
          </a:prstGeom>
          <a:gradFill rotWithShape="0">
            <a:gsLst>
              <a:gs pos="0">
                <a:srgbClr val="feffc5"/>
              </a:gs>
              <a:gs pos="100000">
                <a:srgbClr val="e4e5b1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84800" y="3809880"/>
            <a:ext cx="604800" cy="654120"/>
          </a:xfrm>
          <a:prstGeom prst="roundRect">
            <a:avLst/>
          </a:prstGeom>
          <a:gradFill rotWithShape="0">
            <a:gsLst>
              <a:gs pos="0">
                <a:srgbClr val="feffc5"/>
              </a:gs>
              <a:gs pos="100000">
                <a:srgbClr val="e4e5b1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03800" y="410040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03800" y="548172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89600" y="3956040"/>
            <a:ext cx="830520" cy="7308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89600" y="4246560"/>
            <a:ext cx="830520" cy="43488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89600" y="5335560"/>
            <a:ext cx="830520" cy="14616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89600" y="5626080"/>
            <a:ext cx="830520" cy="58104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97760" y="4100400"/>
            <a:ext cx="906480" cy="14616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997760" y="4610160"/>
            <a:ext cx="831960" cy="14436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997760" y="5335560"/>
            <a:ext cx="982800" cy="21744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997760" y="6134040"/>
            <a:ext cx="755640" cy="7308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4440" y="3059280"/>
            <a:ext cx="119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(IP/A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01920" y="4100400"/>
            <a:ext cx="452880" cy="2688120"/>
          </a:xfrm>
          <a:custGeom>
            <a:avLst/>
            <a:gdLst/>
            <a:ahLst/>
            <a:rect l="0" t="0" r="r" b="b"/>
            <a:pathLst>
              <a:path w="1258" h="7467">
                <a:moveTo>
                  <a:pt x="419" y="0"/>
                </a:moveTo>
                <a:lnTo>
                  <a:pt x="838" y="0"/>
                </a:lnTo>
                <a:lnTo>
                  <a:pt x="838" y="5226"/>
                </a:lnTo>
                <a:lnTo>
                  <a:pt x="1258" y="5226"/>
                </a:lnTo>
                <a:lnTo>
                  <a:pt x="629" y="7467"/>
                </a:lnTo>
                <a:lnTo>
                  <a:pt x="0" y="5226"/>
                </a:lnTo>
                <a:lnTo>
                  <a:pt x="419" y="5226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825560" y="6110280"/>
            <a:ext cx="113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ead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973240" y="2741760"/>
            <a:ext cx="757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260960" y="2741760"/>
            <a:ext cx="825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64Q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25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264200" y="3832200"/>
            <a:ext cx="820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QPS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3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264200" y="5211720"/>
            <a:ext cx="820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QPS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3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870280" y="4556160"/>
            <a:ext cx="88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com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224760" y="3902040"/>
            <a:ext cx="4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224760" y="5208480"/>
            <a:ext cx="4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02480" y="390204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602480" y="455616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558200" y="535464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574040" y="600876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004320" y="2595600"/>
            <a:ext cx="7081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078840" y="4775040"/>
            <a:ext cx="7081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8375760" y="4029120"/>
            <a:ext cx="301680" cy="361800"/>
            <a:chOff x="8375760" y="4029120"/>
            <a:chExt cx="301680" cy="361800"/>
          </a:xfrm>
        </p:grpSpPr>
        <p:sp>
          <p:nvSpPr>
            <p:cNvPr id="526" name=""/>
            <p:cNvSpPr/>
            <p:nvPr/>
          </p:nvSpPr>
          <p:spPr>
            <a:xfrm flipV="1">
              <a:off x="8375760" y="40291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526600" y="41004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8375760" y="4537080"/>
            <a:ext cx="301680" cy="363600"/>
            <a:chOff x="8375760" y="4537080"/>
            <a:chExt cx="301680" cy="363600"/>
          </a:xfrm>
        </p:grpSpPr>
        <p:sp>
          <p:nvSpPr>
            <p:cNvPr id="529" name=""/>
            <p:cNvSpPr/>
            <p:nvPr/>
          </p:nvSpPr>
          <p:spPr>
            <a:xfrm flipV="1">
              <a:off x="8375760" y="45370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526600" y="46101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8451720" y="5262480"/>
            <a:ext cx="301680" cy="363600"/>
            <a:chOff x="8451720" y="5262480"/>
            <a:chExt cx="301680" cy="363600"/>
          </a:xfrm>
        </p:grpSpPr>
        <p:sp>
          <p:nvSpPr>
            <p:cNvPr id="532" name=""/>
            <p:cNvSpPr/>
            <p:nvPr/>
          </p:nvSpPr>
          <p:spPr>
            <a:xfrm flipV="1">
              <a:off x="8451720" y="52624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602560" y="53355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8375760" y="5989680"/>
            <a:ext cx="301680" cy="363600"/>
            <a:chOff x="8375760" y="5989680"/>
            <a:chExt cx="301680" cy="363600"/>
          </a:xfrm>
        </p:grpSpPr>
        <p:sp>
          <p:nvSpPr>
            <p:cNvPr id="535" name=""/>
            <p:cNvSpPr/>
            <p:nvPr/>
          </p:nvSpPr>
          <p:spPr>
            <a:xfrm flipV="1">
              <a:off x="8375760" y="59896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8526600" y="60627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19680" y="3519360"/>
            <a:ext cx="1812960" cy="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56160" y="460548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56160" y="438768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56160" y="482292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10280" y="2647800"/>
            <a:ext cx="603360" cy="654120"/>
          </a:xfrm>
          <a:prstGeom prst="round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45240" y="213984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45240" y="2576520"/>
            <a:ext cx="378000" cy="3618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45240" y="330192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713640" y="2357280"/>
            <a:ext cx="831600" cy="4366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713640" y="2793960"/>
            <a:ext cx="831600" cy="730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13640" y="3084480"/>
            <a:ext cx="831600" cy="4348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23240" y="2357280"/>
            <a:ext cx="981000" cy="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923240" y="2720880"/>
            <a:ext cx="906480" cy="14616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923240" y="3301920"/>
            <a:ext cx="830160" cy="14616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07040" y="2739960"/>
            <a:ext cx="5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31200" y="215892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7531200" y="259380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502400" y="3321000"/>
            <a:ext cx="539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074080" y="2212920"/>
            <a:ext cx="301680" cy="363600"/>
            <a:chOff x="8074080" y="2212920"/>
            <a:chExt cx="301680" cy="363600"/>
          </a:xfrm>
        </p:grpSpPr>
        <p:sp>
          <p:nvSpPr>
            <p:cNvPr id="556" name=""/>
            <p:cNvSpPr/>
            <p:nvPr/>
          </p:nvSpPr>
          <p:spPr>
            <a:xfrm flipV="1">
              <a:off x="8074080" y="22129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224920" y="22860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148600" y="2647800"/>
            <a:ext cx="303120" cy="363600"/>
            <a:chOff x="8148600" y="2647800"/>
            <a:chExt cx="303120" cy="363600"/>
          </a:xfrm>
        </p:grpSpPr>
        <p:sp>
          <p:nvSpPr>
            <p:cNvPr id="559" name=""/>
            <p:cNvSpPr/>
            <p:nvPr/>
          </p:nvSpPr>
          <p:spPr>
            <a:xfrm flipV="1">
              <a:off x="8148600" y="26478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299440" y="2720880"/>
              <a:ext cx="15228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8074080" y="3228840"/>
            <a:ext cx="301680" cy="363600"/>
            <a:chOff x="8074080" y="3228840"/>
            <a:chExt cx="301680" cy="363600"/>
          </a:xfrm>
        </p:grpSpPr>
        <p:sp>
          <p:nvSpPr>
            <p:cNvPr id="562" name=""/>
            <p:cNvSpPr/>
            <p:nvPr/>
          </p:nvSpPr>
          <p:spPr>
            <a:xfrm flipV="1">
              <a:off x="8074080" y="322884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8224920" y="33019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7577280" y="28623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577280" y="30081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653240" y="57675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7653240" y="43149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53240" y="562284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53240" y="417024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32640" y="3519360"/>
            <a:ext cx="3473280" cy="43668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481560" y="616284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f0f9f"/>
                </a:solidFill>
                <a:uFillTx/>
                <a:latin typeface="Palatino"/>
                <a:ea typeface="Palatino"/>
              </a:rPr>
              <a:t>SCS at 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7520" y="2292480"/>
            <a:ext cx="1522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219800" y="3892680"/>
            <a:ext cx="152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5340240"/>
            <a:ext cx="152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676520" y="996840"/>
            <a:ext cx="78296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</a:t>
            </a:r>
            <a:r>
              <a:rPr b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276200" y="2216160"/>
            <a:ext cx="8305920" cy="46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on customer’s PC: open IP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roadband multimedia environment, html/http  extending to Java, vrml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mpelling GUI, launch other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ree levels of apps fo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Basic: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  browser, email, ftp, telnet. Content: national and local, newspapers, schools, business, government, weather, spor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Enhanced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:  add unrestricted Internet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Premium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: all other third-party (OLSP, work-at-home, shopp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r tools: install, login/logout, account/subaccount management, network downlo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971640" y="920880"/>
            <a:ext cx="8763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ou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809720" y="297828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in validates account and cablemod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ctivate link-level encry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ssign IP addreses (DHCP), enable TCP/IP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ster account holder, multiple subacc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anage subaccounts, passwords, access leve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arental control”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nable user mobility, “guest” subaccount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Basic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962000" y="2825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formatio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ocal news, weather, sports, bulleti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Global Internet email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MTP gateway, email client using PO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aunchers for third-party applications (OLSPs, enterprise connection, schools, gam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lectively authorized URLs fo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asic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O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657440" y="2597040"/>
            <a:ext cx="7620120" cy="33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launching from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ach OLSP deals directly with customers, for both client software and account/bi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LSP can have local servers at Headend, outside our fire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nect through gateway/IP fil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M information shared across subnetworks, as fea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28840" y="2444760"/>
            <a:ext cx="7696080" cy="48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ccess to Internet” has multip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For users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e Internet is an open, global information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r will have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apps (or thei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Our TCP/IP stack, when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rowser in open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elnet, ftp, gopher, whois, fing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ccess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o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any site on worldwide Internet. Restricted access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from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the outside to our servers and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Internet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733400" y="259704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For system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e Internet is a global network to find and carry information,when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ome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tent may be distributed using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ther premium www sites will be accessed over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ew services and applications as well: electronic commerce, MBONE, I-phon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Remote dial-in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657440" y="2825640"/>
            <a:ext cx="7620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phone access to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w-speed (28kb/s) or ISDN access for traveling customers, and for homes beyond cable franch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ggregate PSTN calls at terminal server, provide TCP/IP traffic to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edge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first provides login to PPP, then user is presented to usual to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i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ecurity cap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809720" y="26733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k level: encryption over HFC: RSA plus DES, or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etwork level: application gateways plus IP filt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ssion level, for some clien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Kerb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User login with pas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ging and audits to monitor any att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General Service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09720" y="2597040"/>
            <a:ext cx="7543800" cy="401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onnectionless access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AN-like service, no dial-up, permanently connected, automatic “BW-on-deman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High speed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8-25 Mb/s downstream, 1-3 Mb/s upstream, shared 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tandard datacom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instream  Internet technology (TCP/UDP/IP), leverage new multimedia extensions (IP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lient-server infrastructure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nabling TWC environment, evolve to new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nterprise conne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809720" y="236844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 class of third-party premium information servi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aunched from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asic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rovided and billed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mportant service for business, academic and governmental camp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Work at home, telecomm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SCW including residential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Education, K-12 to univer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Remote medicine, patient-doctor consul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Other evolvin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733400" y="2368440"/>
            <a:ext cx="716292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is an enabling platform, many new apps will be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Virtual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nteractive, multiuser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ome sho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ome key technologies for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Multimedia apps (Java, Macromedia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Secure NFS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Real-time RSVP enh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Electronic commerce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Operations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190600" y="2825640"/>
            <a:ext cx="67816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ubscription management and billing: interface to existing cab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t’s another cable product” paradig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Generate work order and trigge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ystem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age monitoring and event logg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ollect sessions information, not packet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og premium services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ystem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809720" y="26733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ystem Administration (UNIX, NT): key aspect for success of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nage: e-mail, www, DNS, DHCP, IP filtering, appl. gateway, file storag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staff to cover routine tasks and respond to hard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mote administration, complement local expert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Network managemen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81120" y="244476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 SNMP standard platforms to build NM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lement Managers for all 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Headend: servers, switches, ro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DH: SCS, ro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home: cablemodem, user 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single point of entry for NM operator, integrated solution for multivendor roll-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 and SCS must support TWC’s csmi MIB (Spectrum Management Appl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ustomer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886040" y="2825640"/>
            <a:ext cx="71629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complete coverage of user’s requests over single 800-number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solve all issues regarding client apps, account management, cablemodem, LAN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mote, centralized customer support, coverage 12x7 minimum, 24x7 pref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staff for network plant and hard failure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ont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81120" y="2749680"/>
            <a:ext cx="7620120" cy="37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ine</a:t>
            </a: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ational content created in NYC, distributed to region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content creation: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ustomizing and branding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from basic content 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Heavy use of html/http technology.Caching http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ird-party services and applications responsible for their content and local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523880" y="1149480"/>
            <a:ext cx="7905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lmira, NY trial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(Southern Tier On-Line Commun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28840" y="2216160"/>
            <a:ext cx="815328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rket test of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18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cept: content, operations, customer suppor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tarted early June ‘95, it has 250 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bout 75 free to community (schools, libraries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bout 175 paying customers: $14.95/mo Basic, $9.95/mo Enhanced, no time or usage char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-server system, (almost) full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18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functionality: Hewlett-Packar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: interim product for trial, Zenith Homeworks, 4 Mb/s sym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inghamton/Elmira/Corning will be a 1996 commercial deployment, conclude Elmira te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1809720" y="2597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752480" y="114948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Century Gothic"/>
                <a:ea typeface="Century Gothic"/>
              </a:rPr>
              <a:t>Elmira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657440" y="2254320"/>
            <a:ext cx="73026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ommercial Deployment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52520" y="221616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mmercial deployment in several metropolitan systems in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W Cable continues  multibillion investment to upgrade HFC plant for 11+ million h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ver past 2 years developed multivendor end-to-end solutions, built to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spe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ewlett-Packard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 (Cisco, Netscape, Cabletron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shiba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(Sun, Cisco, Netscap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 purchases from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otorola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nd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shiba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collaboration agreement with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icrosoft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ther deployment/vendor announcements to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What is </a:t>
            </a: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’s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model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7600" y="2116080"/>
            <a:ext cx="861048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is an enabling networking and distributed computing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Deliver </a:t>
            </a: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L</a:t>
            </a:r>
            <a:r>
              <a:rPr b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ine</a:t>
            </a: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R</a:t>
            </a:r>
            <a:r>
              <a:rPr b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unner</a:t>
            </a:r>
            <a:r>
              <a:rPr b="1" lang="en-US" sz="32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 </a:t>
            </a: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informa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1400" y="4097160"/>
            <a:ext cx="8294760" cy="31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ultivendor end-to-end solution, based on IP internetworking and related applications =&gt; open, extensible and manag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upports high-speed multimedia interactive PC applications - it is NOT an entertainment video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everages TWC’s broadband HFC access network, and metropolitan fiber networks, to create regional broadband IP infrastructure (“intranet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rovides local and national services - and content - focused on residential customers, with national and global IP connectivity (Internet and “internets”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ow is </a:t>
            </a: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 structu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81120" y="236844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Networking</a:t>
            </a: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ccess network: HFC broadband and cablemodems (Ethern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etropolitan fiber broadband backbone (ATM/ SONET, FDDI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Global access: Internet, on-line services, enterprises, NOC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lient SW</a:t>
            </a: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rowser, e-mail, usenet, telnet, ftp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nstall, log-in, account mgmt, SW downloa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erver SW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ubscriber Mgmt, Session Mgmt, Content Mgmt, http, SMTP, NNTP, DNS, DHCP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Network Mgmt, System Admin, Billing, Events Logging, Security and Firewall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Global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29400" y="3381480"/>
            <a:ext cx="2038320" cy="101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76480" y="2174760"/>
            <a:ext cx="723960" cy="89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82680" y="3349800"/>
            <a:ext cx="755640" cy="77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58040" y="4807080"/>
            <a:ext cx="3276720" cy="205740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18320" y="6251400"/>
            <a:ext cx="730080" cy="5126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6845400" y="4921200"/>
            <a:ext cx="2279520" cy="1105560"/>
            <a:chOff x="6845400" y="4921200"/>
            <a:chExt cx="2279520" cy="1105560"/>
          </a:xfrm>
        </p:grpSpPr>
        <p:sp>
          <p:nvSpPr>
            <p:cNvPr id="59" name=""/>
            <p:cNvSpPr/>
            <p:nvPr/>
          </p:nvSpPr>
          <p:spPr>
            <a:xfrm>
              <a:off x="7219800" y="5092560"/>
              <a:ext cx="565200" cy="40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5510160"/>
              <a:ext cx="568440" cy="399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15280" y="5025960"/>
              <a:ext cx="568440" cy="39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97680" y="5581800"/>
              <a:ext cx="569880" cy="39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24720" y="5423040"/>
              <a:ext cx="568440" cy="398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2160" y="4921200"/>
              <a:ext cx="573120" cy="399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56400" y="5145120"/>
              <a:ext cx="790920" cy="297360"/>
            </a:xfrm>
            <a:custGeom>
              <a:avLst/>
              <a:gdLst/>
              <a:ahLst/>
              <a:rect l="0" t="0" r="r" b="b"/>
              <a:pathLst>
                <a:path fill="none" w="2197" h="826">
                  <a:moveTo>
                    <a:pt x="1067" y="826"/>
                  </a:moveTo>
                  <a:lnTo>
                    <a:pt x="1021" y="826"/>
                  </a:lnTo>
                  <a:lnTo>
                    <a:pt x="991" y="826"/>
                  </a:lnTo>
                  <a:lnTo>
                    <a:pt x="960" y="826"/>
                  </a:lnTo>
                  <a:lnTo>
                    <a:pt x="930" y="826"/>
                  </a:lnTo>
                  <a:lnTo>
                    <a:pt x="884" y="826"/>
                  </a:lnTo>
                  <a:lnTo>
                    <a:pt x="838" y="826"/>
                  </a:lnTo>
                  <a:lnTo>
                    <a:pt x="808" y="826"/>
                  </a:lnTo>
                  <a:lnTo>
                    <a:pt x="747" y="826"/>
                  </a:lnTo>
                  <a:lnTo>
                    <a:pt x="701" y="826"/>
                  </a:lnTo>
                  <a:lnTo>
                    <a:pt x="655" y="826"/>
                  </a:lnTo>
                  <a:lnTo>
                    <a:pt x="610" y="826"/>
                  </a:lnTo>
                  <a:lnTo>
                    <a:pt x="564" y="826"/>
                  </a:lnTo>
                  <a:lnTo>
                    <a:pt x="518" y="826"/>
                  </a:lnTo>
                  <a:lnTo>
                    <a:pt x="472" y="826"/>
                  </a:lnTo>
                  <a:lnTo>
                    <a:pt x="411" y="826"/>
                  </a:lnTo>
                  <a:lnTo>
                    <a:pt x="366" y="826"/>
                  </a:lnTo>
                  <a:lnTo>
                    <a:pt x="320" y="826"/>
                  </a:lnTo>
                  <a:lnTo>
                    <a:pt x="289" y="802"/>
                  </a:lnTo>
                  <a:lnTo>
                    <a:pt x="259" y="802"/>
                  </a:lnTo>
                  <a:lnTo>
                    <a:pt x="228" y="802"/>
                  </a:lnTo>
                  <a:lnTo>
                    <a:pt x="198" y="802"/>
                  </a:lnTo>
                  <a:lnTo>
                    <a:pt x="167" y="802"/>
                  </a:lnTo>
                  <a:lnTo>
                    <a:pt x="122" y="802"/>
                  </a:lnTo>
                  <a:lnTo>
                    <a:pt x="76" y="802"/>
                  </a:lnTo>
                  <a:lnTo>
                    <a:pt x="30" y="802"/>
                  </a:lnTo>
                  <a:lnTo>
                    <a:pt x="30" y="765"/>
                  </a:lnTo>
                  <a:lnTo>
                    <a:pt x="30" y="729"/>
                  </a:lnTo>
                  <a:lnTo>
                    <a:pt x="30" y="693"/>
                  </a:lnTo>
                  <a:lnTo>
                    <a:pt x="0" y="668"/>
                  </a:lnTo>
                  <a:lnTo>
                    <a:pt x="0" y="644"/>
                  </a:lnTo>
                  <a:lnTo>
                    <a:pt x="0" y="620"/>
                  </a:lnTo>
                  <a:lnTo>
                    <a:pt x="0" y="595"/>
                  </a:lnTo>
                  <a:lnTo>
                    <a:pt x="0" y="570"/>
                  </a:lnTo>
                  <a:lnTo>
                    <a:pt x="30" y="570"/>
                  </a:lnTo>
                  <a:lnTo>
                    <a:pt x="60" y="570"/>
                  </a:lnTo>
                  <a:lnTo>
                    <a:pt x="91" y="570"/>
                  </a:lnTo>
                  <a:lnTo>
                    <a:pt x="137" y="570"/>
                  </a:lnTo>
                  <a:lnTo>
                    <a:pt x="183" y="570"/>
                  </a:lnTo>
                  <a:lnTo>
                    <a:pt x="213" y="546"/>
                  </a:lnTo>
                  <a:lnTo>
                    <a:pt x="259" y="546"/>
                  </a:lnTo>
                  <a:lnTo>
                    <a:pt x="289" y="522"/>
                  </a:lnTo>
                  <a:lnTo>
                    <a:pt x="289" y="486"/>
                  </a:lnTo>
                  <a:lnTo>
                    <a:pt x="320" y="486"/>
                  </a:lnTo>
                  <a:lnTo>
                    <a:pt x="350" y="461"/>
                  </a:lnTo>
                  <a:lnTo>
                    <a:pt x="381" y="437"/>
                  </a:lnTo>
                  <a:lnTo>
                    <a:pt x="411" y="413"/>
                  </a:lnTo>
                  <a:lnTo>
                    <a:pt x="442" y="389"/>
                  </a:lnTo>
                  <a:lnTo>
                    <a:pt x="472" y="389"/>
                  </a:lnTo>
                  <a:lnTo>
                    <a:pt x="503" y="364"/>
                  </a:lnTo>
                  <a:lnTo>
                    <a:pt x="533" y="364"/>
                  </a:lnTo>
                  <a:lnTo>
                    <a:pt x="564" y="340"/>
                  </a:lnTo>
                  <a:lnTo>
                    <a:pt x="594" y="340"/>
                  </a:lnTo>
                  <a:lnTo>
                    <a:pt x="625" y="316"/>
                  </a:lnTo>
                  <a:lnTo>
                    <a:pt x="655" y="316"/>
                  </a:lnTo>
                  <a:lnTo>
                    <a:pt x="701" y="316"/>
                  </a:lnTo>
                  <a:lnTo>
                    <a:pt x="701" y="292"/>
                  </a:lnTo>
                  <a:lnTo>
                    <a:pt x="747" y="292"/>
                  </a:lnTo>
                  <a:lnTo>
                    <a:pt x="777" y="267"/>
                  </a:lnTo>
                  <a:lnTo>
                    <a:pt x="823" y="267"/>
                  </a:lnTo>
                  <a:lnTo>
                    <a:pt x="854" y="243"/>
                  </a:lnTo>
                  <a:lnTo>
                    <a:pt x="884" y="219"/>
                  </a:lnTo>
                  <a:lnTo>
                    <a:pt x="915" y="219"/>
                  </a:lnTo>
                  <a:lnTo>
                    <a:pt x="945" y="194"/>
                  </a:lnTo>
                  <a:lnTo>
                    <a:pt x="976" y="169"/>
                  </a:lnTo>
                  <a:lnTo>
                    <a:pt x="1006" y="169"/>
                  </a:lnTo>
                  <a:lnTo>
                    <a:pt x="1037" y="145"/>
                  </a:lnTo>
                  <a:lnTo>
                    <a:pt x="1067" y="121"/>
                  </a:lnTo>
                  <a:lnTo>
                    <a:pt x="1099" y="97"/>
                  </a:lnTo>
                  <a:lnTo>
                    <a:pt x="1129" y="72"/>
                  </a:lnTo>
                  <a:lnTo>
                    <a:pt x="1160" y="48"/>
                  </a:lnTo>
                  <a:lnTo>
                    <a:pt x="1160" y="24"/>
                  </a:lnTo>
                  <a:lnTo>
                    <a:pt x="1190" y="0"/>
                  </a:lnTo>
                  <a:lnTo>
                    <a:pt x="1236" y="0"/>
                  </a:lnTo>
                  <a:lnTo>
                    <a:pt x="1266" y="24"/>
                  </a:lnTo>
                  <a:lnTo>
                    <a:pt x="1297" y="24"/>
                  </a:lnTo>
                  <a:lnTo>
                    <a:pt x="1343" y="24"/>
                  </a:lnTo>
                  <a:lnTo>
                    <a:pt x="1373" y="48"/>
                  </a:lnTo>
                  <a:lnTo>
                    <a:pt x="1404" y="48"/>
                  </a:lnTo>
                  <a:lnTo>
                    <a:pt x="1434" y="48"/>
                  </a:lnTo>
                  <a:lnTo>
                    <a:pt x="1480" y="48"/>
                  </a:lnTo>
                  <a:lnTo>
                    <a:pt x="1510" y="72"/>
                  </a:lnTo>
                  <a:lnTo>
                    <a:pt x="1541" y="72"/>
                  </a:lnTo>
                  <a:lnTo>
                    <a:pt x="1571" y="72"/>
                  </a:lnTo>
                  <a:lnTo>
                    <a:pt x="1617" y="72"/>
                  </a:lnTo>
                  <a:lnTo>
                    <a:pt x="1648" y="97"/>
                  </a:lnTo>
                  <a:lnTo>
                    <a:pt x="1678" y="97"/>
                  </a:lnTo>
                  <a:lnTo>
                    <a:pt x="1724" y="97"/>
                  </a:lnTo>
                  <a:lnTo>
                    <a:pt x="1754" y="121"/>
                  </a:lnTo>
                  <a:lnTo>
                    <a:pt x="1800" y="121"/>
                  </a:lnTo>
                  <a:lnTo>
                    <a:pt x="1831" y="145"/>
                  </a:lnTo>
                  <a:lnTo>
                    <a:pt x="1861" y="145"/>
                  </a:lnTo>
                  <a:lnTo>
                    <a:pt x="1907" y="145"/>
                  </a:lnTo>
                  <a:lnTo>
                    <a:pt x="1907" y="169"/>
                  </a:lnTo>
                  <a:lnTo>
                    <a:pt x="1953" y="169"/>
                  </a:lnTo>
                  <a:lnTo>
                    <a:pt x="1983" y="194"/>
                  </a:lnTo>
                  <a:lnTo>
                    <a:pt x="2014" y="219"/>
                  </a:lnTo>
                  <a:lnTo>
                    <a:pt x="2044" y="219"/>
                  </a:lnTo>
                  <a:lnTo>
                    <a:pt x="2075" y="243"/>
                  </a:lnTo>
                  <a:lnTo>
                    <a:pt x="2105" y="267"/>
                  </a:lnTo>
                  <a:lnTo>
                    <a:pt x="2136" y="292"/>
                  </a:lnTo>
                  <a:lnTo>
                    <a:pt x="2166" y="316"/>
                  </a:lnTo>
                  <a:lnTo>
                    <a:pt x="2197" y="340"/>
                  </a:lnTo>
                  <a:lnTo>
                    <a:pt x="2197" y="376"/>
                  </a:lnTo>
                  <a:lnTo>
                    <a:pt x="2197" y="413"/>
                  </a:lnTo>
                  <a:lnTo>
                    <a:pt x="2197" y="449"/>
                  </a:lnTo>
                  <a:lnTo>
                    <a:pt x="2197" y="486"/>
                  </a:lnTo>
                  <a:lnTo>
                    <a:pt x="2197" y="522"/>
                  </a:lnTo>
                  <a:lnTo>
                    <a:pt x="2166" y="546"/>
                  </a:lnTo>
                  <a:lnTo>
                    <a:pt x="2136" y="570"/>
                  </a:lnTo>
                  <a:lnTo>
                    <a:pt x="2105" y="595"/>
                  </a:lnTo>
                  <a:lnTo>
                    <a:pt x="2075" y="620"/>
                  </a:lnTo>
                  <a:lnTo>
                    <a:pt x="2044" y="644"/>
                  </a:lnTo>
                  <a:lnTo>
                    <a:pt x="2014" y="668"/>
                  </a:lnTo>
                  <a:lnTo>
                    <a:pt x="1983" y="693"/>
                  </a:lnTo>
                  <a:lnTo>
                    <a:pt x="1953" y="717"/>
                  </a:lnTo>
                  <a:lnTo>
                    <a:pt x="1922" y="741"/>
                  </a:lnTo>
                  <a:lnTo>
                    <a:pt x="1892" y="765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20040" y="5423040"/>
              <a:ext cx="640080" cy="303480"/>
            </a:xfrm>
            <a:custGeom>
              <a:avLst/>
              <a:gdLst/>
              <a:ahLst/>
              <a:rect l="0" t="0" r="r" b="b"/>
              <a:pathLst>
                <a:path fill="none" w="1778" h="843">
                  <a:moveTo>
                    <a:pt x="136" y="0"/>
                  </a:moveTo>
                  <a:lnTo>
                    <a:pt x="136" y="24"/>
                  </a:lnTo>
                  <a:lnTo>
                    <a:pt x="121" y="48"/>
                  </a:lnTo>
                  <a:lnTo>
                    <a:pt x="106" y="72"/>
                  </a:lnTo>
                  <a:lnTo>
                    <a:pt x="91" y="96"/>
                  </a:lnTo>
                  <a:lnTo>
                    <a:pt x="91" y="120"/>
                  </a:lnTo>
                  <a:lnTo>
                    <a:pt x="91" y="144"/>
                  </a:lnTo>
                  <a:lnTo>
                    <a:pt x="91" y="168"/>
                  </a:lnTo>
                  <a:lnTo>
                    <a:pt x="75" y="192"/>
                  </a:lnTo>
                  <a:lnTo>
                    <a:pt x="75" y="216"/>
                  </a:lnTo>
                  <a:lnTo>
                    <a:pt x="60" y="240"/>
                  </a:lnTo>
                  <a:lnTo>
                    <a:pt x="60" y="264"/>
                  </a:lnTo>
                  <a:lnTo>
                    <a:pt x="45" y="288"/>
                  </a:lnTo>
                  <a:lnTo>
                    <a:pt x="15" y="324"/>
                  </a:lnTo>
                  <a:lnTo>
                    <a:pt x="15" y="348"/>
                  </a:lnTo>
                  <a:lnTo>
                    <a:pt x="0" y="372"/>
                  </a:lnTo>
                  <a:lnTo>
                    <a:pt x="0" y="397"/>
                  </a:lnTo>
                  <a:lnTo>
                    <a:pt x="0" y="421"/>
                  </a:lnTo>
                  <a:lnTo>
                    <a:pt x="15" y="446"/>
                  </a:lnTo>
                  <a:lnTo>
                    <a:pt x="15" y="470"/>
                  </a:lnTo>
                  <a:lnTo>
                    <a:pt x="30" y="494"/>
                  </a:lnTo>
                  <a:lnTo>
                    <a:pt x="30" y="518"/>
                  </a:lnTo>
                  <a:lnTo>
                    <a:pt x="45" y="542"/>
                  </a:lnTo>
                  <a:lnTo>
                    <a:pt x="45" y="566"/>
                  </a:lnTo>
                  <a:lnTo>
                    <a:pt x="60" y="590"/>
                  </a:lnTo>
                  <a:lnTo>
                    <a:pt x="91" y="602"/>
                  </a:lnTo>
                  <a:lnTo>
                    <a:pt x="91" y="626"/>
                  </a:lnTo>
                  <a:lnTo>
                    <a:pt x="121" y="626"/>
                  </a:lnTo>
                  <a:lnTo>
                    <a:pt x="151" y="626"/>
                  </a:lnTo>
                  <a:lnTo>
                    <a:pt x="182" y="626"/>
                  </a:lnTo>
                  <a:lnTo>
                    <a:pt x="212" y="626"/>
                  </a:lnTo>
                  <a:lnTo>
                    <a:pt x="243" y="626"/>
                  </a:lnTo>
                  <a:lnTo>
                    <a:pt x="273" y="626"/>
                  </a:lnTo>
                  <a:lnTo>
                    <a:pt x="303" y="638"/>
                  </a:lnTo>
                  <a:lnTo>
                    <a:pt x="334" y="638"/>
                  </a:lnTo>
                  <a:lnTo>
                    <a:pt x="364" y="650"/>
                  </a:lnTo>
                  <a:lnTo>
                    <a:pt x="410" y="650"/>
                  </a:lnTo>
                  <a:lnTo>
                    <a:pt x="440" y="662"/>
                  </a:lnTo>
                  <a:lnTo>
                    <a:pt x="470" y="674"/>
                  </a:lnTo>
                  <a:lnTo>
                    <a:pt x="501" y="686"/>
                  </a:lnTo>
                  <a:lnTo>
                    <a:pt x="531" y="686"/>
                  </a:lnTo>
                  <a:lnTo>
                    <a:pt x="561" y="698"/>
                  </a:lnTo>
                  <a:lnTo>
                    <a:pt x="592" y="698"/>
                  </a:lnTo>
                  <a:lnTo>
                    <a:pt x="622" y="710"/>
                  </a:lnTo>
                  <a:lnTo>
                    <a:pt x="668" y="710"/>
                  </a:lnTo>
                  <a:lnTo>
                    <a:pt x="698" y="722"/>
                  </a:lnTo>
                  <a:lnTo>
                    <a:pt x="729" y="722"/>
                  </a:lnTo>
                  <a:lnTo>
                    <a:pt x="759" y="734"/>
                  </a:lnTo>
                  <a:lnTo>
                    <a:pt x="789" y="734"/>
                  </a:lnTo>
                  <a:lnTo>
                    <a:pt x="820" y="746"/>
                  </a:lnTo>
                  <a:lnTo>
                    <a:pt x="850" y="746"/>
                  </a:lnTo>
                  <a:lnTo>
                    <a:pt x="880" y="759"/>
                  </a:lnTo>
                  <a:lnTo>
                    <a:pt x="912" y="759"/>
                  </a:lnTo>
                  <a:lnTo>
                    <a:pt x="942" y="759"/>
                  </a:lnTo>
                  <a:lnTo>
                    <a:pt x="973" y="771"/>
                  </a:lnTo>
                  <a:lnTo>
                    <a:pt x="1003" y="783"/>
                  </a:lnTo>
                  <a:lnTo>
                    <a:pt x="1033" y="795"/>
                  </a:lnTo>
                  <a:lnTo>
                    <a:pt x="1064" y="795"/>
                  </a:lnTo>
                  <a:lnTo>
                    <a:pt x="1109" y="807"/>
                  </a:lnTo>
                  <a:lnTo>
                    <a:pt x="1140" y="819"/>
                  </a:lnTo>
                  <a:lnTo>
                    <a:pt x="1170" y="819"/>
                  </a:lnTo>
                  <a:lnTo>
                    <a:pt x="1200" y="819"/>
                  </a:lnTo>
                  <a:lnTo>
                    <a:pt x="1231" y="831"/>
                  </a:lnTo>
                  <a:lnTo>
                    <a:pt x="1261" y="831"/>
                  </a:lnTo>
                  <a:lnTo>
                    <a:pt x="1292" y="831"/>
                  </a:lnTo>
                  <a:lnTo>
                    <a:pt x="1322" y="831"/>
                  </a:lnTo>
                  <a:lnTo>
                    <a:pt x="1352" y="843"/>
                  </a:lnTo>
                  <a:lnTo>
                    <a:pt x="1383" y="843"/>
                  </a:lnTo>
                  <a:lnTo>
                    <a:pt x="1413" y="843"/>
                  </a:lnTo>
                  <a:lnTo>
                    <a:pt x="1443" y="843"/>
                  </a:lnTo>
                  <a:lnTo>
                    <a:pt x="1474" y="843"/>
                  </a:lnTo>
                  <a:lnTo>
                    <a:pt x="1504" y="843"/>
                  </a:lnTo>
                  <a:lnTo>
                    <a:pt x="1535" y="843"/>
                  </a:lnTo>
                  <a:lnTo>
                    <a:pt x="1565" y="843"/>
                  </a:lnTo>
                  <a:lnTo>
                    <a:pt x="1595" y="843"/>
                  </a:lnTo>
                  <a:lnTo>
                    <a:pt x="1626" y="831"/>
                  </a:lnTo>
                  <a:lnTo>
                    <a:pt x="1656" y="819"/>
                  </a:lnTo>
                  <a:lnTo>
                    <a:pt x="1686" y="807"/>
                  </a:lnTo>
                  <a:lnTo>
                    <a:pt x="1717" y="783"/>
                  </a:lnTo>
                  <a:lnTo>
                    <a:pt x="1732" y="746"/>
                  </a:lnTo>
                  <a:lnTo>
                    <a:pt x="1762" y="722"/>
                  </a:lnTo>
                  <a:lnTo>
                    <a:pt x="1762" y="698"/>
                  </a:lnTo>
                  <a:lnTo>
                    <a:pt x="1762" y="674"/>
                  </a:lnTo>
                  <a:lnTo>
                    <a:pt x="1778" y="650"/>
                  </a:lnTo>
                  <a:lnTo>
                    <a:pt x="1778" y="626"/>
                  </a:lnTo>
                  <a:lnTo>
                    <a:pt x="1778" y="590"/>
                  </a:lnTo>
                  <a:lnTo>
                    <a:pt x="1778" y="566"/>
                  </a:lnTo>
                  <a:lnTo>
                    <a:pt x="1778" y="542"/>
                  </a:lnTo>
                  <a:lnTo>
                    <a:pt x="1778" y="518"/>
                  </a:lnTo>
                  <a:lnTo>
                    <a:pt x="1762" y="494"/>
                  </a:lnTo>
                  <a:lnTo>
                    <a:pt x="1747" y="470"/>
                  </a:lnTo>
                  <a:lnTo>
                    <a:pt x="1747" y="446"/>
                  </a:lnTo>
                  <a:lnTo>
                    <a:pt x="1732" y="421"/>
                  </a:lnTo>
                  <a:lnTo>
                    <a:pt x="1717" y="397"/>
                  </a:lnTo>
                  <a:lnTo>
                    <a:pt x="1717" y="372"/>
                  </a:lnTo>
                  <a:lnTo>
                    <a:pt x="1702" y="348"/>
                  </a:lnTo>
                  <a:lnTo>
                    <a:pt x="1702" y="324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91440" y="5257800"/>
              <a:ext cx="430560" cy="413280"/>
            </a:xfrm>
            <a:custGeom>
              <a:avLst/>
              <a:gdLst/>
              <a:ahLst/>
              <a:rect l="0" t="0" r="r" b="b"/>
              <a:pathLst>
                <a:path fill="none" w="1196" h="1148">
                  <a:moveTo>
                    <a:pt x="30" y="749"/>
                  </a:moveTo>
                  <a:lnTo>
                    <a:pt x="0" y="749"/>
                  </a:lnTo>
                  <a:lnTo>
                    <a:pt x="30" y="761"/>
                  </a:lnTo>
                  <a:lnTo>
                    <a:pt x="61" y="797"/>
                  </a:lnTo>
                  <a:lnTo>
                    <a:pt x="91" y="797"/>
                  </a:lnTo>
                  <a:lnTo>
                    <a:pt x="107" y="821"/>
                  </a:lnTo>
                  <a:lnTo>
                    <a:pt x="137" y="833"/>
                  </a:lnTo>
                  <a:lnTo>
                    <a:pt x="153" y="857"/>
                  </a:lnTo>
                  <a:lnTo>
                    <a:pt x="183" y="883"/>
                  </a:lnTo>
                  <a:lnTo>
                    <a:pt x="199" y="907"/>
                  </a:lnTo>
                  <a:lnTo>
                    <a:pt x="229" y="931"/>
                  </a:lnTo>
                  <a:lnTo>
                    <a:pt x="245" y="967"/>
                  </a:lnTo>
                  <a:lnTo>
                    <a:pt x="275" y="1003"/>
                  </a:lnTo>
                  <a:lnTo>
                    <a:pt x="306" y="1015"/>
                  </a:lnTo>
                  <a:lnTo>
                    <a:pt x="337" y="1039"/>
                  </a:lnTo>
                  <a:lnTo>
                    <a:pt x="367" y="1064"/>
                  </a:lnTo>
                  <a:lnTo>
                    <a:pt x="398" y="1076"/>
                  </a:lnTo>
                  <a:lnTo>
                    <a:pt x="428" y="1100"/>
                  </a:lnTo>
                  <a:lnTo>
                    <a:pt x="459" y="1112"/>
                  </a:lnTo>
                  <a:lnTo>
                    <a:pt x="490" y="1124"/>
                  </a:lnTo>
                  <a:lnTo>
                    <a:pt x="520" y="1136"/>
                  </a:lnTo>
                  <a:lnTo>
                    <a:pt x="551" y="1136"/>
                  </a:lnTo>
                  <a:lnTo>
                    <a:pt x="582" y="1136"/>
                  </a:lnTo>
                  <a:lnTo>
                    <a:pt x="613" y="1136"/>
                  </a:lnTo>
                  <a:lnTo>
                    <a:pt x="644" y="1148"/>
                  </a:lnTo>
                  <a:lnTo>
                    <a:pt x="675" y="1148"/>
                  </a:lnTo>
                  <a:lnTo>
                    <a:pt x="705" y="1148"/>
                  </a:lnTo>
                  <a:lnTo>
                    <a:pt x="736" y="1148"/>
                  </a:lnTo>
                  <a:lnTo>
                    <a:pt x="767" y="1148"/>
                  </a:lnTo>
                  <a:lnTo>
                    <a:pt x="797" y="1136"/>
                  </a:lnTo>
                  <a:lnTo>
                    <a:pt x="813" y="1112"/>
                  </a:lnTo>
                  <a:lnTo>
                    <a:pt x="843" y="1100"/>
                  </a:lnTo>
                  <a:lnTo>
                    <a:pt x="874" y="1088"/>
                  </a:lnTo>
                  <a:lnTo>
                    <a:pt x="904" y="1076"/>
                  </a:lnTo>
                  <a:lnTo>
                    <a:pt x="935" y="1051"/>
                  </a:lnTo>
                  <a:lnTo>
                    <a:pt x="966" y="1039"/>
                  </a:lnTo>
                  <a:lnTo>
                    <a:pt x="996" y="1027"/>
                  </a:lnTo>
                  <a:lnTo>
                    <a:pt x="1027" y="1003"/>
                  </a:lnTo>
                  <a:lnTo>
                    <a:pt x="1042" y="979"/>
                  </a:lnTo>
                  <a:lnTo>
                    <a:pt x="1058" y="955"/>
                  </a:lnTo>
                  <a:lnTo>
                    <a:pt x="1073" y="931"/>
                  </a:lnTo>
                  <a:lnTo>
                    <a:pt x="1088" y="907"/>
                  </a:lnTo>
                  <a:lnTo>
                    <a:pt x="1088" y="883"/>
                  </a:lnTo>
                  <a:lnTo>
                    <a:pt x="1119" y="857"/>
                  </a:lnTo>
                  <a:lnTo>
                    <a:pt x="1134" y="833"/>
                  </a:lnTo>
                  <a:lnTo>
                    <a:pt x="1150" y="809"/>
                  </a:lnTo>
                  <a:lnTo>
                    <a:pt x="1165" y="785"/>
                  </a:lnTo>
                  <a:lnTo>
                    <a:pt x="1180" y="761"/>
                  </a:lnTo>
                  <a:lnTo>
                    <a:pt x="1180" y="737"/>
                  </a:lnTo>
                  <a:lnTo>
                    <a:pt x="1196" y="713"/>
                  </a:lnTo>
                  <a:lnTo>
                    <a:pt x="1196" y="688"/>
                  </a:lnTo>
                  <a:lnTo>
                    <a:pt x="1196" y="664"/>
                  </a:lnTo>
                  <a:lnTo>
                    <a:pt x="1196" y="628"/>
                  </a:lnTo>
                  <a:lnTo>
                    <a:pt x="1196" y="580"/>
                  </a:lnTo>
                  <a:lnTo>
                    <a:pt x="1180" y="556"/>
                  </a:lnTo>
                  <a:lnTo>
                    <a:pt x="1165" y="532"/>
                  </a:lnTo>
                  <a:lnTo>
                    <a:pt x="1150" y="507"/>
                  </a:lnTo>
                  <a:lnTo>
                    <a:pt x="1150" y="483"/>
                  </a:lnTo>
                  <a:lnTo>
                    <a:pt x="1134" y="459"/>
                  </a:lnTo>
                  <a:lnTo>
                    <a:pt x="1134" y="435"/>
                  </a:lnTo>
                  <a:lnTo>
                    <a:pt x="1134" y="411"/>
                  </a:lnTo>
                  <a:lnTo>
                    <a:pt x="1134" y="387"/>
                  </a:lnTo>
                  <a:lnTo>
                    <a:pt x="1134" y="363"/>
                  </a:lnTo>
                  <a:lnTo>
                    <a:pt x="1134" y="338"/>
                  </a:lnTo>
                  <a:lnTo>
                    <a:pt x="1134" y="314"/>
                  </a:lnTo>
                  <a:lnTo>
                    <a:pt x="1134" y="290"/>
                  </a:lnTo>
                  <a:lnTo>
                    <a:pt x="1134" y="265"/>
                  </a:lnTo>
                  <a:lnTo>
                    <a:pt x="1134" y="241"/>
                  </a:lnTo>
                  <a:lnTo>
                    <a:pt x="1119" y="217"/>
                  </a:lnTo>
                  <a:lnTo>
                    <a:pt x="1119" y="193"/>
                  </a:lnTo>
                  <a:lnTo>
                    <a:pt x="1119" y="168"/>
                  </a:lnTo>
                  <a:lnTo>
                    <a:pt x="1104" y="144"/>
                  </a:lnTo>
                  <a:lnTo>
                    <a:pt x="1104" y="120"/>
                  </a:lnTo>
                  <a:lnTo>
                    <a:pt x="1088" y="96"/>
                  </a:lnTo>
                  <a:lnTo>
                    <a:pt x="1073" y="72"/>
                  </a:lnTo>
                  <a:lnTo>
                    <a:pt x="1042" y="72"/>
                  </a:lnTo>
                  <a:lnTo>
                    <a:pt x="1012" y="60"/>
                  </a:lnTo>
                  <a:lnTo>
                    <a:pt x="981" y="60"/>
                  </a:lnTo>
                  <a:lnTo>
                    <a:pt x="950" y="48"/>
                  </a:lnTo>
                  <a:lnTo>
                    <a:pt x="920" y="36"/>
                  </a:lnTo>
                  <a:lnTo>
                    <a:pt x="889" y="36"/>
                  </a:lnTo>
                  <a:lnTo>
                    <a:pt x="858" y="24"/>
                  </a:lnTo>
                  <a:lnTo>
                    <a:pt x="828" y="24"/>
                  </a:lnTo>
                  <a:lnTo>
                    <a:pt x="797" y="12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690" y="0"/>
                  </a:lnTo>
                  <a:lnTo>
                    <a:pt x="659" y="0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6" y="12"/>
                  </a:lnTo>
                  <a:lnTo>
                    <a:pt x="505" y="24"/>
                  </a:lnTo>
                  <a:lnTo>
                    <a:pt x="474" y="36"/>
                  </a:lnTo>
                  <a:lnTo>
                    <a:pt x="459" y="60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61040" y="4989600"/>
              <a:ext cx="733680" cy="279720"/>
            </a:xfrm>
            <a:custGeom>
              <a:avLst/>
              <a:gdLst/>
              <a:ahLst/>
              <a:rect l="0" t="0" r="r" b="b"/>
              <a:pathLst>
                <a:path fill="none" w="2038" h="777">
                  <a:moveTo>
                    <a:pt x="2022" y="777"/>
                  </a:moveTo>
                  <a:lnTo>
                    <a:pt x="2022" y="740"/>
                  </a:lnTo>
                  <a:lnTo>
                    <a:pt x="2038" y="716"/>
                  </a:lnTo>
                  <a:lnTo>
                    <a:pt x="2038" y="692"/>
                  </a:lnTo>
                  <a:lnTo>
                    <a:pt x="2038" y="667"/>
                  </a:lnTo>
                  <a:lnTo>
                    <a:pt x="2038" y="643"/>
                  </a:lnTo>
                  <a:lnTo>
                    <a:pt x="2038" y="619"/>
                  </a:lnTo>
                  <a:lnTo>
                    <a:pt x="2022" y="595"/>
                  </a:lnTo>
                  <a:lnTo>
                    <a:pt x="2022" y="570"/>
                  </a:lnTo>
                  <a:lnTo>
                    <a:pt x="2007" y="522"/>
                  </a:lnTo>
                  <a:lnTo>
                    <a:pt x="1992" y="486"/>
                  </a:lnTo>
                  <a:lnTo>
                    <a:pt x="1961" y="461"/>
                  </a:lnTo>
                  <a:lnTo>
                    <a:pt x="1946" y="437"/>
                  </a:lnTo>
                  <a:lnTo>
                    <a:pt x="1915" y="413"/>
                  </a:lnTo>
                  <a:lnTo>
                    <a:pt x="1885" y="389"/>
                  </a:lnTo>
                  <a:lnTo>
                    <a:pt x="1869" y="363"/>
                  </a:lnTo>
                  <a:lnTo>
                    <a:pt x="1839" y="351"/>
                  </a:lnTo>
                  <a:lnTo>
                    <a:pt x="1793" y="327"/>
                  </a:lnTo>
                  <a:lnTo>
                    <a:pt x="1762" y="315"/>
                  </a:lnTo>
                  <a:lnTo>
                    <a:pt x="1731" y="303"/>
                  </a:lnTo>
                  <a:lnTo>
                    <a:pt x="1701" y="291"/>
                  </a:lnTo>
                  <a:lnTo>
                    <a:pt x="1670" y="278"/>
                  </a:lnTo>
                  <a:lnTo>
                    <a:pt x="1640" y="266"/>
                  </a:lnTo>
                  <a:lnTo>
                    <a:pt x="1609" y="254"/>
                  </a:lnTo>
                  <a:lnTo>
                    <a:pt x="1578" y="254"/>
                  </a:lnTo>
                  <a:lnTo>
                    <a:pt x="1548" y="242"/>
                  </a:lnTo>
                  <a:lnTo>
                    <a:pt x="1517" y="230"/>
                  </a:lnTo>
                  <a:lnTo>
                    <a:pt x="1471" y="218"/>
                  </a:lnTo>
                  <a:lnTo>
                    <a:pt x="1440" y="218"/>
                  </a:lnTo>
                  <a:lnTo>
                    <a:pt x="1379" y="194"/>
                  </a:lnTo>
                  <a:lnTo>
                    <a:pt x="1348" y="181"/>
                  </a:lnTo>
                  <a:lnTo>
                    <a:pt x="1318" y="181"/>
                  </a:lnTo>
                  <a:lnTo>
                    <a:pt x="1287" y="169"/>
                  </a:lnTo>
                  <a:lnTo>
                    <a:pt x="1257" y="157"/>
                  </a:lnTo>
                  <a:lnTo>
                    <a:pt x="1226" y="145"/>
                  </a:lnTo>
                  <a:lnTo>
                    <a:pt x="1195" y="133"/>
                  </a:lnTo>
                  <a:lnTo>
                    <a:pt x="1165" y="121"/>
                  </a:lnTo>
                  <a:lnTo>
                    <a:pt x="1103" y="109"/>
                  </a:lnTo>
                  <a:lnTo>
                    <a:pt x="1073" y="84"/>
                  </a:lnTo>
                  <a:lnTo>
                    <a:pt x="1010" y="72"/>
                  </a:lnTo>
                  <a:lnTo>
                    <a:pt x="980" y="48"/>
                  </a:lnTo>
                  <a:lnTo>
                    <a:pt x="949" y="48"/>
                  </a:lnTo>
                  <a:lnTo>
                    <a:pt x="903" y="24"/>
                  </a:lnTo>
                  <a:lnTo>
                    <a:pt x="873" y="0"/>
                  </a:lnTo>
                  <a:lnTo>
                    <a:pt x="827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5" y="0"/>
                  </a:lnTo>
                  <a:lnTo>
                    <a:pt x="704" y="0"/>
                  </a:lnTo>
                  <a:lnTo>
                    <a:pt x="658" y="0"/>
                  </a:lnTo>
                  <a:lnTo>
                    <a:pt x="612" y="0"/>
                  </a:lnTo>
                  <a:lnTo>
                    <a:pt x="582" y="0"/>
                  </a:lnTo>
                  <a:lnTo>
                    <a:pt x="536" y="12"/>
                  </a:lnTo>
                  <a:lnTo>
                    <a:pt x="490" y="12"/>
                  </a:lnTo>
                  <a:lnTo>
                    <a:pt x="459" y="12"/>
                  </a:lnTo>
                  <a:lnTo>
                    <a:pt x="413" y="12"/>
                  </a:lnTo>
                  <a:lnTo>
                    <a:pt x="367" y="24"/>
                  </a:lnTo>
                  <a:lnTo>
                    <a:pt x="306" y="24"/>
                  </a:lnTo>
                  <a:lnTo>
                    <a:pt x="260" y="24"/>
                  </a:lnTo>
                  <a:lnTo>
                    <a:pt x="229" y="24"/>
                  </a:lnTo>
                  <a:lnTo>
                    <a:pt x="199" y="24"/>
                  </a:lnTo>
                  <a:lnTo>
                    <a:pt x="168" y="24"/>
                  </a:lnTo>
                  <a:lnTo>
                    <a:pt x="137" y="24"/>
                  </a:lnTo>
                  <a:lnTo>
                    <a:pt x="91" y="24"/>
                  </a:lnTo>
                  <a:lnTo>
                    <a:pt x="61" y="12"/>
                  </a:lnTo>
                  <a:lnTo>
                    <a:pt x="30" y="12"/>
                  </a:lnTo>
                  <a:lnTo>
                    <a:pt x="0" y="12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64480" y="5719680"/>
              <a:ext cx="242640" cy="0"/>
            </a:xfrm>
            <a:prstGeom prst="line">
              <a:avLst/>
            </a:prstGeom>
            <a:ln w="7632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6915240" y="5724360"/>
              <a:ext cx="2192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ONE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16880" y="5176800"/>
              <a:ext cx="678240" cy="246600"/>
            </a:xfrm>
            <a:custGeom>
              <a:avLst/>
              <a:gdLst/>
              <a:ahLst/>
              <a:rect l="0" t="0" r="r" b="b"/>
              <a:pathLst>
                <a:path fill="none" w="1884" h="685">
                  <a:moveTo>
                    <a:pt x="957" y="685"/>
                  </a:moveTo>
                  <a:lnTo>
                    <a:pt x="942" y="661"/>
                  </a:lnTo>
                  <a:lnTo>
                    <a:pt x="912" y="661"/>
                  </a:lnTo>
                  <a:lnTo>
                    <a:pt x="881" y="661"/>
                  </a:lnTo>
                  <a:lnTo>
                    <a:pt x="836" y="661"/>
                  </a:lnTo>
                  <a:lnTo>
                    <a:pt x="805" y="661"/>
                  </a:lnTo>
                  <a:lnTo>
                    <a:pt x="775" y="661"/>
                  </a:lnTo>
                  <a:lnTo>
                    <a:pt x="729" y="649"/>
                  </a:lnTo>
                  <a:lnTo>
                    <a:pt x="699" y="649"/>
                  </a:lnTo>
                  <a:lnTo>
                    <a:pt x="669" y="637"/>
                  </a:lnTo>
                  <a:lnTo>
                    <a:pt x="638" y="637"/>
                  </a:lnTo>
                  <a:lnTo>
                    <a:pt x="608" y="625"/>
                  </a:lnTo>
                  <a:lnTo>
                    <a:pt x="578" y="625"/>
                  </a:lnTo>
                  <a:lnTo>
                    <a:pt x="547" y="625"/>
                  </a:lnTo>
                  <a:lnTo>
                    <a:pt x="517" y="625"/>
                  </a:lnTo>
                  <a:lnTo>
                    <a:pt x="486" y="625"/>
                  </a:lnTo>
                  <a:lnTo>
                    <a:pt x="455" y="625"/>
                  </a:lnTo>
                  <a:lnTo>
                    <a:pt x="425" y="625"/>
                  </a:lnTo>
                  <a:lnTo>
                    <a:pt x="394" y="625"/>
                  </a:lnTo>
                  <a:lnTo>
                    <a:pt x="364" y="625"/>
                  </a:lnTo>
                  <a:lnTo>
                    <a:pt x="334" y="625"/>
                  </a:lnTo>
                  <a:lnTo>
                    <a:pt x="303" y="625"/>
                  </a:lnTo>
                  <a:lnTo>
                    <a:pt x="273" y="625"/>
                  </a:lnTo>
                  <a:lnTo>
                    <a:pt x="242" y="625"/>
                  </a:lnTo>
                  <a:lnTo>
                    <a:pt x="212" y="613"/>
                  </a:lnTo>
                  <a:lnTo>
                    <a:pt x="182" y="613"/>
                  </a:lnTo>
                  <a:lnTo>
                    <a:pt x="151" y="601"/>
                  </a:lnTo>
                  <a:lnTo>
                    <a:pt x="121" y="601"/>
                  </a:lnTo>
                  <a:lnTo>
                    <a:pt x="91" y="601"/>
                  </a:lnTo>
                  <a:lnTo>
                    <a:pt x="60" y="601"/>
                  </a:lnTo>
                  <a:lnTo>
                    <a:pt x="30" y="601"/>
                  </a:lnTo>
                  <a:lnTo>
                    <a:pt x="0" y="601"/>
                  </a:lnTo>
                  <a:lnTo>
                    <a:pt x="15" y="577"/>
                  </a:lnTo>
                  <a:lnTo>
                    <a:pt x="45" y="577"/>
                  </a:lnTo>
                  <a:lnTo>
                    <a:pt x="75" y="565"/>
                  </a:lnTo>
                  <a:lnTo>
                    <a:pt x="106" y="553"/>
                  </a:lnTo>
                  <a:lnTo>
                    <a:pt x="136" y="541"/>
                  </a:lnTo>
                  <a:lnTo>
                    <a:pt x="167" y="517"/>
                  </a:lnTo>
                  <a:lnTo>
                    <a:pt x="197" y="504"/>
                  </a:lnTo>
                  <a:lnTo>
                    <a:pt x="227" y="480"/>
                  </a:lnTo>
                  <a:lnTo>
                    <a:pt x="258" y="468"/>
                  </a:lnTo>
                  <a:lnTo>
                    <a:pt x="288" y="456"/>
                  </a:lnTo>
                  <a:lnTo>
                    <a:pt x="318" y="444"/>
                  </a:lnTo>
                  <a:lnTo>
                    <a:pt x="349" y="432"/>
                  </a:lnTo>
                  <a:lnTo>
                    <a:pt x="379" y="420"/>
                  </a:lnTo>
                  <a:lnTo>
                    <a:pt x="409" y="396"/>
                  </a:lnTo>
                  <a:lnTo>
                    <a:pt x="440" y="396"/>
                  </a:lnTo>
                  <a:lnTo>
                    <a:pt x="470" y="384"/>
                  </a:lnTo>
                  <a:lnTo>
                    <a:pt x="502" y="372"/>
                  </a:lnTo>
                  <a:lnTo>
                    <a:pt x="532" y="360"/>
                  </a:lnTo>
                  <a:lnTo>
                    <a:pt x="562" y="348"/>
                  </a:lnTo>
                  <a:lnTo>
                    <a:pt x="593" y="348"/>
                  </a:lnTo>
                  <a:lnTo>
                    <a:pt x="623" y="336"/>
                  </a:lnTo>
                  <a:lnTo>
                    <a:pt x="653" y="324"/>
                  </a:lnTo>
                  <a:lnTo>
                    <a:pt x="684" y="324"/>
                  </a:lnTo>
                  <a:lnTo>
                    <a:pt x="729" y="312"/>
                  </a:lnTo>
                  <a:lnTo>
                    <a:pt x="760" y="300"/>
                  </a:lnTo>
                  <a:lnTo>
                    <a:pt x="790" y="288"/>
                  </a:lnTo>
                  <a:lnTo>
                    <a:pt x="820" y="264"/>
                  </a:lnTo>
                  <a:lnTo>
                    <a:pt x="851" y="252"/>
                  </a:lnTo>
                  <a:lnTo>
                    <a:pt x="881" y="216"/>
                  </a:lnTo>
                  <a:lnTo>
                    <a:pt x="896" y="192"/>
                  </a:lnTo>
                  <a:lnTo>
                    <a:pt x="927" y="167"/>
                  </a:lnTo>
                  <a:lnTo>
                    <a:pt x="942" y="143"/>
                  </a:lnTo>
                  <a:lnTo>
                    <a:pt x="972" y="131"/>
                  </a:lnTo>
                  <a:lnTo>
                    <a:pt x="988" y="107"/>
                  </a:lnTo>
                  <a:lnTo>
                    <a:pt x="988" y="83"/>
                  </a:lnTo>
                  <a:lnTo>
                    <a:pt x="1018" y="71"/>
                  </a:lnTo>
                  <a:lnTo>
                    <a:pt x="1018" y="47"/>
                  </a:lnTo>
                  <a:lnTo>
                    <a:pt x="1048" y="35"/>
                  </a:lnTo>
                  <a:lnTo>
                    <a:pt x="1048" y="11"/>
                  </a:lnTo>
                  <a:lnTo>
                    <a:pt x="1079" y="11"/>
                  </a:lnTo>
                  <a:lnTo>
                    <a:pt x="1109" y="0"/>
                  </a:lnTo>
                  <a:lnTo>
                    <a:pt x="1139" y="0"/>
                  </a:lnTo>
                  <a:lnTo>
                    <a:pt x="1170" y="11"/>
                  </a:lnTo>
                  <a:lnTo>
                    <a:pt x="1200" y="11"/>
                  </a:lnTo>
                  <a:lnTo>
                    <a:pt x="1230" y="23"/>
                  </a:lnTo>
                  <a:lnTo>
                    <a:pt x="1261" y="47"/>
                  </a:lnTo>
                  <a:lnTo>
                    <a:pt x="1291" y="47"/>
                  </a:lnTo>
                  <a:lnTo>
                    <a:pt x="1337" y="59"/>
                  </a:lnTo>
                  <a:lnTo>
                    <a:pt x="1367" y="71"/>
                  </a:lnTo>
                  <a:lnTo>
                    <a:pt x="1398" y="71"/>
                  </a:lnTo>
                  <a:lnTo>
                    <a:pt x="1429" y="83"/>
                  </a:lnTo>
                  <a:lnTo>
                    <a:pt x="1459" y="83"/>
                  </a:lnTo>
                  <a:lnTo>
                    <a:pt x="1490" y="95"/>
                  </a:lnTo>
                  <a:lnTo>
                    <a:pt x="1520" y="95"/>
                  </a:lnTo>
                  <a:lnTo>
                    <a:pt x="1550" y="107"/>
                  </a:lnTo>
                  <a:lnTo>
                    <a:pt x="1581" y="107"/>
                  </a:lnTo>
                  <a:lnTo>
                    <a:pt x="1626" y="119"/>
                  </a:lnTo>
                  <a:lnTo>
                    <a:pt x="1657" y="131"/>
                  </a:lnTo>
                  <a:lnTo>
                    <a:pt x="1687" y="131"/>
                  </a:lnTo>
                  <a:lnTo>
                    <a:pt x="1717" y="143"/>
                  </a:lnTo>
                  <a:lnTo>
                    <a:pt x="1748" y="155"/>
                  </a:lnTo>
                  <a:lnTo>
                    <a:pt x="1763" y="180"/>
                  </a:lnTo>
                  <a:lnTo>
                    <a:pt x="1793" y="204"/>
                  </a:lnTo>
                  <a:lnTo>
                    <a:pt x="1824" y="228"/>
                  </a:lnTo>
                  <a:lnTo>
                    <a:pt x="1854" y="240"/>
                  </a:lnTo>
                  <a:lnTo>
                    <a:pt x="1869" y="264"/>
                  </a:lnTo>
                  <a:lnTo>
                    <a:pt x="1869" y="288"/>
                  </a:lnTo>
                  <a:lnTo>
                    <a:pt x="1884" y="312"/>
                  </a:lnTo>
                  <a:lnTo>
                    <a:pt x="1884" y="336"/>
                  </a:lnTo>
                  <a:lnTo>
                    <a:pt x="1884" y="360"/>
                  </a:lnTo>
                  <a:lnTo>
                    <a:pt x="1884" y="384"/>
                  </a:lnTo>
                  <a:lnTo>
                    <a:pt x="1884" y="408"/>
                  </a:lnTo>
                  <a:lnTo>
                    <a:pt x="1869" y="432"/>
                  </a:lnTo>
                  <a:lnTo>
                    <a:pt x="1854" y="456"/>
                  </a:lnTo>
                  <a:lnTo>
                    <a:pt x="1839" y="480"/>
                  </a:lnTo>
                  <a:lnTo>
                    <a:pt x="1809" y="504"/>
                  </a:lnTo>
                  <a:lnTo>
                    <a:pt x="1778" y="517"/>
                  </a:lnTo>
                  <a:lnTo>
                    <a:pt x="1748" y="529"/>
                  </a:lnTo>
                  <a:lnTo>
                    <a:pt x="1733" y="55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26360" y="5297400"/>
              <a:ext cx="360720" cy="340200"/>
            </a:xfrm>
            <a:custGeom>
              <a:avLst/>
              <a:gdLst/>
              <a:ahLst/>
              <a:rect l="0" t="0" r="r" b="b"/>
              <a:pathLst>
                <a:path fill="none" w="1002" h="945">
                  <a:moveTo>
                    <a:pt x="0" y="400"/>
                  </a:moveTo>
                  <a:lnTo>
                    <a:pt x="45" y="400"/>
                  </a:lnTo>
                  <a:lnTo>
                    <a:pt x="75" y="376"/>
                  </a:lnTo>
                  <a:lnTo>
                    <a:pt x="106" y="351"/>
                  </a:lnTo>
                  <a:lnTo>
                    <a:pt x="151" y="351"/>
                  </a:lnTo>
                  <a:lnTo>
                    <a:pt x="182" y="327"/>
                  </a:lnTo>
                  <a:lnTo>
                    <a:pt x="212" y="303"/>
                  </a:lnTo>
                  <a:lnTo>
                    <a:pt x="257" y="303"/>
                  </a:lnTo>
                  <a:lnTo>
                    <a:pt x="288" y="279"/>
                  </a:lnTo>
                  <a:lnTo>
                    <a:pt x="318" y="255"/>
                  </a:lnTo>
                  <a:lnTo>
                    <a:pt x="348" y="229"/>
                  </a:lnTo>
                  <a:lnTo>
                    <a:pt x="348" y="193"/>
                  </a:lnTo>
                  <a:lnTo>
                    <a:pt x="379" y="169"/>
                  </a:lnTo>
                  <a:lnTo>
                    <a:pt x="409" y="169"/>
                  </a:lnTo>
                  <a:lnTo>
                    <a:pt x="409" y="145"/>
                  </a:lnTo>
                  <a:lnTo>
                    <a:pt x="439" y="120"/>
                  </a:lnTo>
                  <a:lnTo>
                    <a:pt x="470" y="96"/>
                  </a:lnTo>
                  <a:lnTo>
                    <a:pt x="500" y="72"/>
                  </a:lnTo>
                  <a:lnTo>
                    <a:pt x="531" y="48"/>
                  </a:lnTo>
                  <a:lnTo>
                    <a:pt x="562" y="24"/>
                  </a:lnTo>
                  <a:lnTo>
                    <a:pt x="592" y="24"/>
                  </a:lnTo>
                  <a:lnTo>
                    <a:pt x="622" y="0"/>
                  </a:lnTo>
                  <a:lnTo>
                    <a:pt x="653" y="0"/>
                  </a:lnTo>
                  <a:lnTo>
                    <a:pt x="683" y="0"/>
                  </a:lnTo>
                  <a:lnTo>
                    <a:pt x="713" y="0"/>
                  </a:lnTo>
                  <a:lnTo>
                    <a:pt x="744" y="0"/>
                  </a:lnTo>
                  <a:lnTo>
                    <a:pt x="789" y="0"/>
                  </a:lnTo>
                  <a:lnTo>
                    <a:pt x="820" y="24"/>
                  </a:lnTo>
                  <a:lnTo>
                    <a:pt x="850" y="48"/>
                  </a:lnTo>
                  <a:lnTo>
                    <a:pt x="880" y="72"/>
                  </a:lnTo>
                  <a:lnTo>
                    <a:pt x="880" y="108"/>
                  </a:lnTo>
                  <a:lnTo>
                    <a:pt x="911" y="108"/>
                  </a:lnTo>
                  <a:lnTo>
                    <a:pt x="911" y="133"/>
                  </a:lnTo>
                  <a:lnTo>
                    <a:pt x="911" y="157"/>
                  </a:lnTo>
                  <a:lnTo>
                    <a:pt x="911" y="193"/>
                  </a:lnTo>
                  <a:lnTo>
                    <a:pt x="941" y="217"/>
                  </a:lnTo>
                  <a:lnTo>
                    <a:pt x="941" y="242"/>
                  </a:lnTo>
                  <a:lnTo>
                    <a:pt x="941" y="267"/>
                  </a:lnTo>
                  <a:lnTo>
                    <a:pt x="941" y="303"/>
                  </a:lnTo>
                  <a:lnTo>
                    <a:pt x="971" y="327"/>
                  </a:lnTo>
                  <a:lnTo>
                    <a:pt x="971" y="351"/>
                  </a:lnTo>
                  <a:lnTo>
                    <a:pt x="1002" y="376"/>
                  </a:lnTo>
                  <a:lnTo>
                    <a:pt x="1002" y="400"/>
                  </a:lnTo>
                  <a:lnTo>
                    <a:pt x="1002" y="424"/>
                  </a:lnTo>
                  <a:lnTo>
                    <a:pt x="1002" y="460"/>
                  </a:lnTo>
                  <a:lnTo>
                    <a:pt x="1002" y="497"/>
                  </a:lnTo>
                  <a:lnTo>
                    <a:pt x="1002" y="533"/>
                  </a:lnTo>
                  <a:lnTo>
                    <a:pt x="1002" y="569"/>
                  </a:lnTo>
                  <a:lnTo>
                    <a:pt x="1002" y="593"/>
                  </a:lnTo>
                  <a:lnTo>
                    <a:pt x="1002" y="618"/>
                  </a:lnTo>
                  <a:lnTo>
                    <a:pt x="1002" y="642"/>
                  </a:lnTo>
                  <a:lnTo>
                    <a:pt x="1002" y="678"/>
                  </a:lnTo>
                  <a:lnTo>
                    <a:pt x="971" y="702"/>
                  </a:lnTo>
                  <a:lnTo>
                    <a:pt x="971" y="752"/>
                  </a:lnTo>
                  <a:lnTo>
                    <a:pt x="941" y="776"/>
                  </a:lnTo>
                  <a:lnTo>
                    <a:pt x="911" y="800"/>
                  </a:lnTo>
                  <a:lnTo>
                    <a:pt x="880" y="824"/>
                  </a:lnTo>
                  <a:lnTo>
                    <a:pt x="850" y="848"/>
                  </a:lnTo>
                  <a:lnTo>
                    <a:pt x="820" y="873"/>
                  </a:lnTo>
                  <a:lnTo>
                    <a:pt x="789" y="897"/>
                  </a:lnTo>
                  <a:lnTo>
                    <a:pt x="759" y="921"/>
                  </a:lnTo>
                  <a:lnTo>
                    <a:pt x="729" y="945"/>
                  </a:lnTo>
                  <a:lnTo>
                    <a:pt x="698" y="945"/>
                  </a:lnTo>
                  <a:lnTo>
                    <a:pt x="668" y="945"/>
                  </a:lnTo>
                  <a:lnTo>
                    <a:pt x="622" y="945"/>
                  </a:lnTo>
                  <a:lnTo>
                    <a:pt x="577" y="945"/>
                  </a:lnTo>
                  <a:lnTo>
                    <a:pt x="531" y="945"/>
                  </a:lnTo>
                  <a:lnTo>
                    <a:pt x="500" y="945"/>
                  </a:lnTo>
                  <a:lnTo>
                    <a:pt x="470" y="945"/>
                  </a:lnTo>
                  <a:lnTo>
                    <a:pt x="424" y="945"/>
                  </a:lnTo>
                  <a:lnTo>
                    <a:pt x="424" y="921"/>
                  </a:lnTo>
                  <a:lnTo>
                    <a:pt x="394" y="897"/>
                  </a:lnTo>
                  <a:lnTo>
                    <a:pt x="364" y="873"/>
                  </a:lnTo>
                  <a:lnTo>
                    <a:pt x="333" y="848"/>
                  </a:lnTo>
                  <a:lnTo>
                    <a:pt x="303" y="824"/>
                  </a:lnTo>
                  <a:lnTo>
                    <a:pt x="273" y="800"/>
                  </a:lnTo>
                  <a:lnTo>
                    <a:pt x="242" y="776"/>
                  </a:lnTo>
                  <a:lnTo>
                    <a:pt x="242" y="740"/>
                  </a:lnTo>
                  <a:lnTo>
                    <a:pt x="212" y="740"/>
                  </a:lnTo>
                  <a:lnTo>
                    <a:pt x="182" y="715"/>
                  </a:lnTo>
                  <a:lnTo>
                    <a:pt x="151" y="690"/>
                  </a:lnTo>
                  <a:lnTo>
                    <a:pt x="121" y="666"/>
                  </a:lnTo>
                  <a:lnTo>
                    <a:pt x="91" y="642"/>
                  </a:lnTo>
                  <a:lnTo>
                    <a:pt x="60" y="618"/>
                  </a:lnTo>
                  <a:lnTo>
                    <a:pt x="30" y="59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50280" y="5450040"/>
              <a:ext cx="574920" cy="255960"/>
            </a:xfrm>
            <a:custGeom>
              <a:avLst/>
              <a:gdLst/>
              <a:ahLst/>
              <a:rect l="0" t="0" r="r" b="b"/>
              <a:pathLst>
                <a:path fill="none" w="1597" h="711">
                  <a:moveTo>
                    <a:pt x="1141" y="24"/>
                  </a:moveTo>
                  <a:lnTo>
                    <a:pt x="1126" y="0"/>
                  </a:lnTo>
                  <a:lnTo>
                    <a:pt x="1095" y="0"/>
                  </a:lnTo>
                  <a:lnTo>
                    <a:pt x="1034" y="12"/>
                  </a:lnTo>
                  <a:lnTo>
                    <a:pt x="1004" y="24"/>
                  </a:lnTo>
                  <a:lnTo>
                    <a:pt x="958" y="24"/>
                  </a:lnTo>
                  <a:lnTo>
                    <a:pt x="928" y="24"/>
                  </a:lnTo>
                  <a:lnTo>
                    <a:pt x="882" y="24"/>
                  </a:lnTo>
                  <a:lnTo>
                    <a:pt x="837" y="36"/>
                  </a:lnTo>
                  <a:lnTo>
                    <a:pt x="790" y="36"/>
                  </a:lnTo>
                  <a:lnTo>
                    <a:pt x="760" y="36"/>
                  </a:lnTo>
                  <a:lnTo>
                    <a:pt x="729" y="36"/>
                  </a:lnTo>
                  <a:lnTo>
                    <a:pt x="699" y="36"/>
                  </a:lnTo>
                  <a:lnTo>
                    <a:pt x="668" y="24"/>
                  </a:lnTo>
                  <a:lnTo>
                    <a:pt x="638" y="24"/>
                  </a:lnTo>
                  <a:lnTo>
                    <a:pt x="608" y="24"/>
                  </a:lnTo>
                  <a:lnTo>
                    <a:pt x="577" y="24"/>
                  </a:lnTo>
                  <a:lnTo>
                    <a:pt x="547" y="24"/>
                  </a:lnTo>
                  <a:lnTo>
                    <a:pt x="516" y="24"/>
                  </a:lnTo>
                  <a:lnTo>
                    <a:pt x="486" y="12"/>
                  </a:lnTo>
                  <a:lnTo>
                    <a:pt x="456" y="12"/>
                  </a:lnTo>
                  <a:lnTo>
                    <a:pt x="425" y="12"/>
                  </a:lnTo>
                  <a:lnTo>
                    <a:pt x="395" y="12"/>
                  </a:lnTo>
                  <a:lnTo>
                    <a:pt x="364" y="12"/>
                  </a:lnTo>
                  <a:lnTo>
                    <a:pt x="334" y="12"/>
                  </a:lnTo>
                  <a:lnTo>
                    <a:pt x="304" y="12"/>
                  </a:lnTo>
                  <a:lnTo>
                    <a:pt x="273" y="12"/>
                  </a:lnTo>
                  <a:lnTo>
                    <a:pt x="243" y="12"/>
                  </a:lnTo>
                  <a:lnTo>
                    <a:pt x="212" y="12"/>
                  </a:lnTo>
                  <a:lnTo>
                    <a:pt x="182" y="12"/>
                  </a:lnTo>
                  <a:lnTo>
                    <a:pt x="152" y="12"/>
                  </a:lnTo>
                  <a:lnTo>
                    <a:pt x="121" y="12"/>
                  </a:lnTo>
                  <a:lnTo>
                    <a:pt x="91" y="24"/>
                  </a:lnTo>
                  <a:lnTo>
                    <a:pt x="76" y="48"/>
                  </a:lnTo>
                  <a:lnTo>
                    <a:pt x="60" y="72"/>
                  </a:lnTo>
                  <a:lnTo>
                    <a:pt x="45" y="96"/>
                  </a:lnTo>
                  <a:lnTo>
                    <a:pt x="45" y="120"/>
                  </a:lnTo>
                  <a:lnTo>
                    <a:pt x="45" y="144"/>
                  </a:lnTo>
                  <a:lnTo>
                    <a:pt x="45" y="168"/>
                  </a:lnTo>
                  <a:lnTo>
                    <a:pt x="45" y="193"/>
                  </a:lnTo>
                  <a:lnTo>
                    <a:pt x="45" y="217"/>
                  </a:lnTo>
                  <a:lnTo>
                    <a:pt x="45" y="241"/>
                  </a:lnTo>
                  <a:lnTo>
                    <a:pt x="45" y="265"/>
                  </a:lnTo>
                  <a:lnTo>
                    <a:pt x="30" y="289"/>
                  </a:lnTo>
                  <a:lnTo>
                    <a:pt x="30" y="313"/>
                  </a:lnTo>
                  <a:lnTo>
                    <a:pt x="15" y="337"/>
                  </a:lnTo>
                  <a:lnTo>
                    <a:pt x="15" y="361"/>
                  </a:lnTo>
                  <a:lnTo>
                    <a:pt x="0" y="386"/>
                  </a:lnTo>
                  <a:lnTo>
                    <a:pt x="30" y="410"/>
                  </a:lnTo>
                  <a:lnTo>
                    <a:pt x="60" y="434"/>
                  </a:lnTo>
                  <a:lnTo>
                    <a:pt x="91" y="458"/>
                  </a:lnTo>
                  <a:lnTo>
                    <a:pt x="121" y="470"/>
                  </a:lnTo>
                  <a:lnTo>
                    <a:pt x="167" y="494"/>
                  </a:lnTo>
                  <a:lnTo>
                    <a:pt x="197" y="494"/>
                  </a:lnTo>
                  <a:lnTo>
                    <a:pt x="228" y="506"/>
                  </a:lnTo>
                  <a:lnTo>
                    <a:pt x="258" y="518"/>
                  </a:lnTo>
                  <a:lnTo>
                    <a:pt x="288" y="518"/>
                  </a:lnTo>
                  <a:lnTo>
                    <a:pt x="319" y="518"/>
                  </a:lnTo>
                  <a:lnTo>
                    <a:pt x="349" y="518"/>
                  </a:lnTo>
                  <a:lnTo>
                    <a:pt x="380" y="518"/>
                  </a:lnTo>
                  <a:lnTo>
                    <a:pt x="410" y="518"/>
                  </a:lnTo>
                  <a:lnTo>
                    <a:pt x="440" y="518"/>
                  </a:lnTo>
                  <a:lnTo>
                    <a:pt x="471" y="530"/>
                  </a:lnTo>
                  <a:lnTo>
                    <a:pt x="501" y="530"/>
                  </a:lnTo>
                  <a:lnTo>
                    <a:pt x="532" y="555"/>
                  </a:lnTo>
                  <a:lnTo>
                    <a:pt x="562" y="555"/>
                  </a:lnTo>
                  <a:lnTo>
                    <a:pt x="608" y="579"/>
                  </a:lnTo>
                  <a:lnTo>
                    <a:pt x="638" y="591"/>
                  </a:lnTo>
                  <a:lnTo>
                    <a:pt x="668" y="603"/>
                  </a:lnTo>
                  <a:lnTo>
                    <a:pt x="699" y="603"/>
                  </a:lnTo>
                  <a:lnTo>
                    <a:pt x="729" y="615"/>
                  </a:lnTo>
                  <a:lnTo>
                    <a:pt x="760" y="627"/>
                  </a:lnTo>
                  <a:lnTo>
                    <a:pt x="790" y="627"/>
                  </a:lnTo>
                  <a:lnTo>
                    <a:pt x="837" y="639"/>
                  </a:lnTo>
                  <a:lnTo>
                    <a:pt x="882" y="639"/>
                  </a:lnTo>
                  <a:lnTo>
                    <a:pt x="928" y="651"/>
                  </a:lnTo>
                  <a:lnTo>
                    <a:pt x="958" y="651"/>
                  </a:lnTo>
                  <a:lnTo>
                    <a:pt x="989" y="651"/>
                  </a:lnTo>
                  <a:lnTo>
                    <a:pt x="1019" y="651"/>
                  </a:lnTo>
                  <a:lnTo>
                    <a:pt x="1050" y="651"/>
                  </a:lnTo>
                  <a:lnTo>
                    <a:pt x="1080" y="651"/>
                  </a:lnTo>
                  <a:lnTo>
                    <a:pt x="1126" y="651"/>
                  </a:lnTo>
                  <a:lnTo>
                    <a:pt x="1156" y="663"/>
                  </a:lnTo>
                  <a:lnTo>
                    <a:pt x="1186" y="663"/>
                  </a:lnTo>
                  <a:lnTo>
                    <a:pt x="1217" y="675"/>
                  </a:lnTo>
                  <a:lnTo>
                    <a:pt x="1247" y="675"/>
                  </a:lnTo>
                  <a:lnTo>
                    <a:pt x="1278" y="687"/>
                  </a:lnTo>
                  <a:lnTo>
                    <a:pt x="1323" y="687"/>
                  </a:lnTo>
                  <a:lnTo>
                    <a:pt x="1354" y="699"/>
                  </a:lnTo>
                  <a:lnTo>
                    <a:pt x="1384" y="699"/>
                  </a:lnTo>
                  <a:lnTo>
                    <a:pt x="1414" y="711"/>
                  </a:lnTo>
                  <a:lnTo>
                    <a:pt x="1445" y="699"/>
                  </a:lnTo>
                  <a:lnTo>
                    <a:pt x="1460" y="675"/>
                  </a:lnTo>
                  <a:lnTo>
                    <a:pt x="1490" y="663"/>
                  </a:lnTo>
                  <a:lnTo>
                    <a:pt x="1506" y="639"/>
                  </a:lnTo>
                  <a:lnTo>
                    <a:pt x="1506" y="615"/>
                  </a:lnTo>
                  <a:lnTo>
                    <a:pt x="1521" y="591"/>
                  </a:lnTo>
                  <a:lnTo>
                    <a:pt x="1521" y="567"/>
                  </a:lnTo>
                  <a:lnTo>
                    <a:pt x="1506" y="543"/>
                  </a:lnTo>
                  <a:lnTo>
                    <a:pt x="1506" y="518"/>
                  </a:lnTo>
                  <a:lnTo>
                    <a:pt x="1506" y="494"/>
                  </a:lnTo>
                  <a:lnTo>
                    <a:pt x="1506" y="470"/>
                  </a:lnTo>
                  <a:lnTo>
                    <a:pt x="1506" y="446"/>
                  </a:lnTo>
                  <a:lnTo>
                    <a:pt x="1521" y="422"/>
                  </a:lnTo>
                  <a:lnTo>
                    <a:pt x="1521" y="398"/>
                  </a:lnTo>
                  <a:lnTo>
                    <a:pt x="1536" y="374"/>
                  </a:lnTo>
                  <a:lnTo>
                    <a:pt x="1536" y="349"/>
                  </a:lnTo>
                  <a:lnTo>
                    <a:pt x="1551" y="325"/>
                  </a:lnTo>
                  <a:lnTo>
                    <a:pt x="1566" y="301"/>
                  </a:lnTo>
                  <a:lnTo>
                    <a:pt x="1582" y="277"/>
                  </a:lnTo>
                  <a:lnTo>
                    <a:pt x="1582" y="253"/>
                  </a:lnTo>
                  <a:lnTo>
                    <a:pt x="1597" y="229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64480" y="5821200"/>
              <a:ext cx="242640" cy="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6889680" y="5830920"/>
              <a:ext cx="20808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fc0128"/>
                  </a:solidFill>
                  <a:latin typeface="Palatino"/>
                  <a:ea typeface="Palatino"/>
                </a:rPr>
                <a:t>Analo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8440" y="5021280"/>
              <a:ext cx="1178280" cy="941760"/>
            </a:xfrm>
            <a:custGeom>
              <a:avLst/>
              <a:gdLst/>
              <a:ahLst/>
              <a:rect l="0" t="0" r="r" b="b"/>
              <a:pathLst>
                <a:path fill="none" w="3273" h="2616">
                  <a:moveTo>
                    <a:pt x="1872" y="2616"/>
                  </a:moveTo>
                  <a:lnTo>
                    <a:pt x="1903" y="2616"/>
                  </a:lnTo>
                  <a:lnTo>
                    <a:pt x="1933" y="2592"/>
                  </a:lnTo>
                  <a:lnTo>
                    <a:pt x="1964" y="2568"/>
                  </a:lnTo>
                  <a:lnTo>
                    <a:pt x="1994" y="2544"/>
                  </a:lnTo>
                  <a:lnTo>
                    <a:pt x="1994" y="2508"/>
                  </a:lnTo>
                  <a:lnTo>
                    <a:pt x="2025" y="2484"/>
                  </a:lnTo>
                  <a:lnTo>
                    <a:pt x="2025" y="2448"/>
                  </a:lnTo>
                  <a:lnTo>
                    <a:pt x="2055" y="2448"/>
                  </a:lnTo>
                  <a:lnTo>
                    <a:pt x="2055" y="2424"/>
                  </a:lnTo>
                  <a:lnTo>
                    <a:pt x="2085" y="2400"/>
                  </a:lnTo>
                  <a:lnTo>
                    <a:pt x="2085" y="2375"/>
                  </a:lnTo>
                  <a:lnTo>
                    <a:pt x="2116" y="2351"/>
                  </a:lnTo>
                  <a:lnTo>
                    <a:pt x="2146" y="2327"/>
                  </a:lnTo>
                  <a:lnTo>
                    <a:pt x="2146" y="2303"/>
                  </a:lnTo>
                  <a:lnTo>
                    <a:pt x="2177" y="2279"/>
                  </a:lnTo>
                  <a:lnTo>
                    <a:pt x="2177" y="2243"/>
                  </a:lnTo>
                  <a:lnTo>
                    <a:pt x="2207" y="2219"/>
                  </a:lnTo>
                  <a:lnTo>
                    <a:pt x="2238" y="2195"/>
                  </a:lnTo>
                  <a:lnTo>
                    <a:pt x="2268" y="2171"/>
                  </a:lnTo>
                  <a:lnTo>
                    <a:pt x="2299" y="2146"/>
                  </a:lnTo>
                  <a:lnTo>
                    <a:pt x="2329" y="2122"/>
                  </a:lnTo>
                  <a:lnTo>
                    <a:pt x="2359" y="2098"/>
                  </a:lnTo>
                  <a:lnTo>
                    <a:pt x="2390" y="2074"/>
                  </a:lnTo>
                  <a:lnTo>
                    <a:pt x="2420" y="2050"/>
                  </a:lnTo>
                  <a:lnTo>
                    <a:pt x="2451" y="2050"/>
                  </a:lnTo>
                  <a:lnTo>
                    <a:pt x="2481" y="2026"/>
                  </a:lnTo>
                  <a:lnTo>
                    <a:pt x="2512" y="2026"/>
                  </a:lnTo>
                  <a:lnTo>
                    <a:pt x="2542" y="2002"/>
                  </a:lnTo>
                  <a:lnTo>
                    <a:pt x="2572" y="2002"/>
                  </a:lnTo>
                  <a:lnTo>
                    <a:pt x="2618" y="2002"/>
                  </a:lnTo>
                  <a:lnTo>
                    <a:pt x="2649" y="2002"/>
                  </a:lnTo>
                  <a:lnTo>
                    <a:pt x="2679" y="2002"/>
                  </a:lnTo>
                  <a:lnTo>
                    <a:pt x="2725" y="2002"/>
                  </a:lnTo>
                  <a:lnTo>
                    <a:pt x="2770" y="2002"/>
                  </a:lnTo>
                  <a:lnTo>
                    <a:pt x="2801" y="2026"/>
                  </a:lnTo>
                  <a:lnTo>
                    <a:pt x="2831" y="2026"/>
                  </a:lnTo>
                  <a:lnTo>
                    <a:pt x="2877" y="2026"/>
                  </a:lnTo>
                  <a:lnTo>
                    <a:pt x="2922" y="2026"/>
                  </a:lnTo>
                  <a:lnTo>
                    <a:pt x="2968" y="2026"/>
                  </a:lnTo>
                  <a:lnTo>
                    <a:pt x="3029" y="2026"/>
                  </a:lnTo>
                  <a:lnTo>
                    <a:pt x="3075" y="2026"/>
                  </a:lnTo>
                  <a:lnTo>
                    <a:pt x="3120" y="2026"/>
                  </a:lnTo>
                  <a:lnTo>
                    <a:pt x="3151" y="2026"/>
                  </a:lnTo>
                  <a:lnTo>
                    <a:pt x="3181" y="2002"/>
                  </a:lnTo>
                  <a:lnTo>
                    <a:pt x="3212" y="2002"/>
                  </a:lnTo>
                  <a:lnTo>
                    <a:pt x="3242" y="1978"/>
                  </a:lnTo>
                  <a:lnTo>
                    <a:pt x="3273" y="1953"/>
                  </a:lnTo>
                  <a:lnTo>
                    <a:pt x="3273" y="1929"/>
                  </a:lnTo>
                  <a:lnTo>
                    <a:pt x="3273" y="1892"/>
                  </a:lnTo>
                  <a:lnTo>
                    <a:pt x="3273" y="1856"/>
                  </a:lnTo>
                  <a:lnTo>
                    <a:pt x="3273" y="1820"/>
                  </a:lnTo>
                  <a:lnTo>
                    <a:pt x="3273" y="1796"/>
                  </a:lnTo>
                  <a:lnTo>
                    <a:pt x="3273" y="1772"/>
                  </a:lnTo>
                  <a:lnTo>
                    <a:pt x="3273" y="1748"/>
                  </a:lnTo>
                  <a:lnTo>
                    <a:pt x="3273" y="1724"/>
                  </a:lnTo>
                  <a:lnTo>
                    <a:pt x="3273" y="1700"/>
                  </a:lnTo>
                  <a:lnTo>
                    <a:pt x="3273" y="1676"/>
                  </a:lnTo>
                  <a:lnTo>
                    <a:pt x="3273" y="1651"/>
                  </a:lnTo>
                  <a:lnTo>
                    <a:pt x="3273" y="1627"/>
                  </a:lnTo>
                  <a:lnTo>
                    <a:pt x="3242" y="1603"/>
                  </a:lnTo>
                  <a:lnTo>
                    <a:pt x="3242" y="1579"/>
                  </a:lnTo>
                  <a:lnTo>
                    <a:pt x="3212" y="1555"/>
                  </a:lnTo>
                  <a:lnTo>
                    <a:pt x="3181" y="1531"/>
                  </a:lnTo>
                  <a:lnTo>
                    <a:pt x="3181" y="1495"/>
                  </a:lnTo>
                  <a:lnTo>
                    <a:pt x="3151" y="1495"/>
                  </a:lnTo>
                  <a:lnTo>
                    <a:pt x="3120" y="1471"/>
                  </a:lnTo>
                  <a:lnTo>
                    <a:pt x="3090" y="1447"/>
                  </a:lnTo>
                  <a:lnTo>
                    <a:pt x="3059" y="1422"/>
                  </a:lnTo>
                  <a:lnTo>
                    <a:pt x="3014" y="1422"/>
                  </a:lnTo>
                  <a:lnTo>
                    <a:pt x="3014" y="1398"/>
                  </a:lnTo>
                  <a:lnTo>
                    <a:pt x="2968" y="1398"/>
                  </a:lnTo>
                  <a:lnTo>
                    <a:pt x="2968" y="1374"/>
                  </a:lnTo>
                  <a:lnTo>
                    <a:pt x="2938" y="1374"/>
                  </a:lnTo>
                  <a:lnTo>
                    <a:pt x="2907" y="1374"/>
                  </a:lnTo>
                  <a:lnTo>
                    <a:pt x="2862" y="1374"/>
                  </a:lnTo>
                  <a:lnTo>
                    <a:pt x="2831" y="1350"/>
                  </a:lnTo>
                  <a:lnTo>
                    <a:pt x="2801" y="1350"/>
                  </a:lnTo>
                  <a:lnTo>
                    <a:pt x="2770" y="1350"/>
                  </a:lnTo>
                  <a:lnTo>
                    <a:pt x="2740" y="1326"/>
                  </a:lnTo>
                  <a:lnTo>
                    <a:pt x="2694" y="1326"/>
                  </a:lnTo>
                  <a:lnTo>
                    <a:pt x="2694" y="1302"/>
                  </a:lnTo>
                  <a:lnTo>
                    <a:pt x="2664" y="1278"/>
                  </a:lnTo>
                  <a:lnTo>
                    <a:pt x="2633" y="1254"/>
                  </a:lnTo>
                  <a:lnTo>
                    <a:pt x="2603" y="1230"/>
                  </a:lnTo>
                  <a:lnTo>
                    <a:pt x="2603" y="1194"/>
                  </a:lnTo>
                  <a:lnTo>
                    <a:pt x="2572" y="1169"/>
                  </a:lnTo>
                  <a:lnTo>
                    <a:pt x="2542" y="1145"/>
                  </a:lnTo>
                  <a:lnTo>
                    <a:pt x="2542" y="1109"/>
                  </a:lnTo>
                  <a:lnTo>
                    <a:pt x="2512" y="1085"/>
                  </a:lnTo>
                  <a:lnTo>
                    <a:pt x="2481" y="1061"/>
                  </a:lnTo>
                  <a:lnTo>
                    <a:pt x="2451" y="1037"/>
                  </a:lnTo>
                  <a:lnTo>
                    <a:pt x="2451" y="1013"/>
                  </a:lnTo>
                  <a:lnTo>
                    <a:pt x="2420" y="1013"/>
                  </a:lnTo>
                  <a:lnTo>
                    <a:pt x="2420" y="989"/>
                  </a:lnTo>
                  <a:lnTo>
                    <a:pt x="2390" y="989"/>
                  </a:lnTo>
                  <a:lnTo>
                    <a:pt x="2344" y="989"/>
                  </a:lnTo>
                  <a:lnTo>
                    <a:pt x="2299" y="989"/>
                  </a:lnTo>
                  <a:lnTo>
                    <a:pt x="2253" y="989"/>
                  </a:lnTo>
                  <a:lnTo>
                    <a:pt x="2253" y="965"/>
                  </a:lnTo>
                  <a:lnTo>
                    <a:pt x="2222" y="965"/>
                  </a:lnTo>
                  <a:lnTo>
                    <a:pt x="2192" y="965"/>
                  </a:lnTo>
                  <a:lnTo>
                    <a:pt x="2162" y="965"/>
                  </a:lnTo>
                  <a:lnTo>
                    <a:pt x="2116" y="965"/>
                  </a:lnTo>
                  <a:lnTo>
                    <a:pt x="2085" y="940"/>
                  </a:lnTo>
                  <a:lnTo>
                    <a:pt x="2055" y="940"/>
                  </a:lnTo>
                  <a:lnTo>
                    <a:pt x="2025" y="940"/>
                  </a:lnTo>
                  <a:lnTo>
                    <a:pt x="1979" y="940"/>
                  </a:lnTo>
                  <a:lnTo>
                    <a:pt x="1979" y="916"/>
                  </a:lnTo>
                  <a:lnTo>
                    <a:pt x="1948" y="892"/>
                  </a:lnTo>
                  <a:lnTo>
                    <a:pt x="1948" y="868"/>
                  </a:lnTo>
                  <a:lnTo>
                    <a:pt x="1948" y="832"/>
                  </a:lnTo>
                  <a:lnTo>
                    <a:pt x="1918" y="808"/>
                  </a:lnTo>
                  <a:lnTo>
                    <a:pt x="1918" y="784"/>
                  </a:lnTo>
                  <a:lnTo>
                    <a:pt x="1918" y="760"/>
                  </a:lnTo>
                  <a:lnTo>
                    <a:pt x="1918" y="736"/>
                  </a:lnTo>
                  <a:lnTo>
                    <a:pt x="1918" y="711"/>
                  </a:lnTo>
                  <a:lnTo>
                    <a:pt x="1918" y="687"/>
                  </a:lnTo>
                  <a:lnTo>
                    <a:pt x="1918" y="663"/>
                  </a:lnTo>
                  <a:lnTo>
                    <a:pt x="1918" y="638"/>
                  </a:lnTo>
                  <a:lnTo>
                    <a:pt x="1918" y="614"/>
                  </a:lnTo>
                  <a:lnTo>
                    <a:pt x="1918" y="590"/>
                  </a:lnTo>
                  <a:lnTo>
                    <a:pt x="1918" y="554"/>
                  </a:lnTo>
                  <a:lnTo>
                    <a:pt x="1918" y="518"/>
                  </a:lnTo>
                  <a:lnTo>
                    <a:pt x="1888" y="494"/>
                  </a:lnTo>
                  <a:lnTo>
                    <a:pt x="1888" y="457"/>
                  </a:lnTo>
                  <a:lnTo>
                    <a:pt x="1857" y="433"/>
                  </a:lnTo>
                  <a:lnTo>
                    <a:pt x="1857" y="397"/>
                  </a:lnTo>
                  <a:lnTo>
                    <a:pt x="1827" y="397"/>
                  </a:lnTo>
                  <a:lnTo>
                    <a:pt x="1796" y="373"/>
                  </a:lnTo>
                  <a:lnTo>
                    <a:pt x="1766" y="349"/>
                  </a:lnTo>
                  <a:lnTo>
                    <a:pt x="1735" y="325"/>
                  </a:lnTo>
                  <a:lnTo>
                    <a:pt x="1705" y="301"/>
                  </a:lnTo>
                  <a:lnTo>
                    <a:pt x="1675" y="277"/>
                  </a:lnTo>
                  <a:lnTo>
                    <a:pt x="1628" y="277"/>
                  </a:lnTo>
                  <a:lnTo>
                    <a:pt x="1628" y="253"/>
                  </a:lnTo>
                  <a:lnTo>
                    <a:pt x="1597" y="253"/>
                  </a:lnTo>
                  <a:lnTo>
                    <a:pt x="1552" y="253"/>
                  </a:lnTo>
                  <a:lnTo>
                    <a:pt x="1521" y="228"/>
                  </a:lnTo>
                  <a:lnTo>
                    <a:pt x="1491" y="228"/>
                  </a:lnTo>
                  <a:lnTo>
                    <a:pt x="1460" y="204"/>
                  </a:lnTo>
                  <a:lnTo>
                    <a:pt x="1430" y="204"/>
                  </a:lnTo>
                  <a:lnTo>
                    <a:pt x="1384" y="204"/>
                  </a:lnTo>
                  <a:lnTo>
                    <a:pt x="1354" y="180"/>
                  </a:lnTo>
                  <a:lnTo>
                    <a:pt x="1308" y="180"/>
                  </a:lnTo>
                  <a:lnTo>
                    <a:pt x="1278" y="156"/>
                  </a:lnTo>
                  <a:lnTo>
                    <a:pt x="1247" y="132"/>
                  </a:lnTo>
                  <a:lnTo>
                    <a:pt x="1217" y="132"/>
                  </a:lnTo>
                  <a:lnTo>
                    <a:pt x="1187" y="108"/>
                  </a:lnTo>
                  <a:lnTo>
                    <a:pt x="1156" y="108"/>
                  </a:lnTo>
                  <a:lnTo>
                    <a:pt x="1126" y="84"/>
                  </a:lnTo>
                  <a:lnTo>
                    <a:pt x="1080" y="84"/>
                  </a:lnTo>
                  <a:lnTo>
                    <a:pt x="1034" y="48"/>
                  </a:lnTo>
                  <a:lnTo>
                    <a:pt x="1004" y="48"/>
                  </a:lnTo>
                  <a:lnTo>
                    <a:pt x="958" y="48"/>
                  </a:lnTo>
                  <a:lnTo>
                    <a:pt x="928" y="24"/>
                  </a:lnTo>
                  <a:lnTo>
                    <a:pt x="897" y="24"/>
                  </a:lnTo>
                  <a:lnTo>
                    <a:pt x="867" y="24"/>
                  </a:lnTo>
                  <a:lnTo>
                    <a:pt x="821" y="24"/>
                  </a:lnTo>
                  <a:lnTo>
                    <a:pt x="791" y="0"/>
                  </a:lnTo>
                  <a:lnTo>
                    <a:pt x="760" y="0"/>
                  </a:lnTo>
                  <a:lnTo>
                    <a:pt x="730" y="0"/>
                  </a:lnTo>
                  <a:lnTo>
                    <a:pt x="700" y="0"/>
                  </a:lnTo>
                  <a:lnTo>
                    <a:pt x="669" y="0"/>
                  </a:lnTo>
                  <a:lnTo>
                    <a:pt x="639" y="0"/>
                  </a:lnTo>
                  <a:lnTo>
                    <a:pt x="593" y="0"/>
                  </a:lnTo>
                  <a:lnTo>
                    <a:pt x="532" y="0"/>
                  </a:lnTo>
                  <a:lnTo>
                    <a:pt x="502" y="24"/>
                  </a:lnTo>
                  <a:lnTo>
                    <a:pt x="471" y="24"/>
                  </a:lnTo>
                  <a:lnTo>
                    <a:pt x="441" y="24"/>
                  </a:lnTo>
                  <a:lnTo>
                    <a:pt x="395" y="24"/>
                  </a:lnTo>
                  <a:lnTo>
                    <a:pt x="365" y="48"/>
                  </a:lnTo>
                  <a:lnTo>
                    <a:pt x="319" y="48"/>
                  </a:lnTo>
                  <a:lnTo>
                    <a:pt x="289" y="48"/>
                  </a:lnTo>
                  <a:lnTo>
                    <a:pt x="243" y="48"/>
                  </a:lnTo>
                  <a:lnTo>
                    <a:pt x="213" y="48"/>
                  </a:lnTo>
                  <a:lnTo>
                    <a:pt x="182" y="48"/>
                  </a:lnTo>
                  <a:lnTo>
                    <a:pt x="152" y="48"/>
                  </a:lnTo>
                  <a:lnTo>
                    <a:pt x="121" y="48"/>
                  </a:lnTo>
                  <a:lnTo>
                    <a:pt x="91" y="48"/>
                  </a:lnTo>
                  <a:lnTo>
                    <a:pt x="60" y="48"/>
                  </a:lnTo>
                  <a:lnTo>
                    <a:pt x="30" y="48"/>
                  </a:lnTo>
                  <a:lnTo>
                    <a:pt x="0" y="48"/>
                  </a:lnTo>
                </a:path>
              </a:pathLst>
            </a:custGeom>
            <a:ln w="38160">
              <a:solidFill>
                <a:srgbClr val="51dc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4480" y="5545080"/>
              <a:ext cx="242640" cy="0"/>
            </a:xfrm>
            <a:prstGeom prst="line">
              <a:avLst/>
            </a:prstGeom>
            <a:ln w="7632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6845400" y="5551560"/>
              <a:ext cx="365040" cy="2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51dc00"/>
                  </a:solidFill>
                  <a:latin typeface="Palatino"/>
                  <a:ea typeface="Palatino"/>
                </a:rPr>
                <a:t>Digital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51dc00"/>
                  </a:solidFill>
                  <a:latin typeface="Palatino"/>
                  <a:ea typeface="Palatino"/>
                </a:rPr>
                <a:t>entertain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7478640" y="5640480"/>
              <a:ext cx="222120" cy="145800"/>
              <a:chOff x="7478640" y="5640480"/>
              <a:chExt cx="222120" cy="145800"/>
            </a:xfrm>
          </p:grpSpPr>
          <p:sp>
            <p:nvSpPr>
              <p:cNvPr id="80" name=""/>
              <p:cNvSpPr/>
              <p:nvPr/>
            </p:nvSpPr>
            <p:spPr>
              <a:xfrm>
                <a:off x="7478640" y="5649840"/>
                <a:ext cx="222120" cy="1364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7507440" y="564048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391520" y="5187960"/>
              <a:ext cx="220680" cy="149400"/>
              <a:chOff x="7391520" y="5187960"/>
              <a:chExt cx="220680" cy="149400"/>
            </a:xfrm>
          </p:grpSpPr>
          <p:sp>
            <p:nvSpPr>
              <p:cNvPr id="83" name=""/>
              <p:cNvSpPr/>
              <p:nvPr/>
            </p:nvSpPr>
            <p:spPr>
              <a:xfrm>
                <a:off x="7391520" y="5199120"/>
                <a:ext cx="220680" cy="1382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7416720" y="5187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897680" y="4998960"/>
              <a:ext cx="216000" cy="146160"/>
              <a:chOff x="7897680" y="4998960"/>
              <a:chExt cx="216000" cy="146160"/>
            </a:xfrm>
          </p:grpSpPr>
          <p:sp>
            <p:nvSpPr>
              <p:cNvPr id="86" name=""/>
              <p:cNvSpPr/>
              <p:nvPr/>
            </p:nvSpPr>
            <p:spPr>
              <a:xfrm>
                <a:off x="7897680" y="5008680"/>
                <a:ext cx="216000" cy="1364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7920000" y="4998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8486640" y="5135400"/>
              <a:ext cx="220680" cy="149400"/>
              <a:chOff x="8486640" y="5135400"/>
              <a:chExt cx="220680" cy="149400"/>
            </a:xfrm>
          </p:grpSpPr>
          <p:sp>
            <p:nvSpPr>
              <p:cNvPr id="89" name=""/>
              <p:cNvSpPr/>
              <p:nvPr/>
            </p:nvSpPr>
            <p:spPr>
              <a:xfrm>
                <a:off x="8486640" y="5145120"/>
                <a:ext cx="220680" cy="13968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8513640" y="513540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808760" y="5284800"/>
              <a:ext cx="4618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873920" y="5362560"/>
              <a:ext cx="330120" cy="147600"/>
              <a:chOff x="7873920" y="5362560"/>
              <a:chExt cx="330120" cy="147600"/>
            </a:xfrm>
          </p:grpSpPr>
          <p:sp>
            <p:nvSpPr>
              <p:cNvPr id="93" name=""/>
              <p:cNvSpPr/>
              <p:nvPr/>
            </p:nvSpPr>
            <p:spPr>
              <a:xfrm>
                <a:off x="7873920" y="5373720"/>
                <a:ext cx="330120" cy="13644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7878600" y="5362560"/>
                <a:ext cx="249120" cy="139680"/>
              </a:xfrm>
              <a:prstGeom prst="rect">
                <a:avLst/>
              </a:prstGeom>
              <a:solidFill>
                <a:srgbClr val="f6bf69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Primar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eaden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726320" y="5581800"/>
              <a:ext cx="549720" cy="444960"/>
            </a:xfrm>
            <a:custGeom>
              <a:avLst/>
              <a:gdLst/>
              <a:ahLst/>
              <a:rect l="0" t="0" r="r" b="b"/>
              <a:pathLst>
                <a:path fill="none" w="1527" h="1236">
                  <a:moveTo>
                    <a:pt x="1512" y="0"/>
                  </a:moveTo>
                  <a:lnTo>
                    <a:pt x="1481" y="0"/>
                  </a:lnTo>
                  <a:lnTo>
                    <a:pt x="1512" y="83"/>
                  </a:lnTo>
                  <a:lnTo>
                    <a:pt x="1527" y="107"/>
                  </a:lnTo>
                  <a:lnTo>
                    <a:pt x="1527" y="131"/>
                  </a:lnTo>
                  <a:lnTo>
                    <a:pt x="1527" y="155"/>
                  </a:lnTo>
                  <a:lnTo>
                    <a:pt x="1512" y="179"/>
                  </a:lnTo>
                  <a:lnTo>
                    <a:pt x="1497" y="203"/>
                  </a:lnTo>
                  <a:lnTo>
                    <a:pt x="1481" y="227"/>
                  </a:lnTo>
                  <a:lnTo>
                    <a:pt x="1451" y="239"/>
                  </a:lnTo>
                  <a:lnTo>
                    <a:pt x="1436" y="263"/>
                  </a:lnTo>
                  <a:lnTo>
                    <a:pt x="1420" y="287"/>
                  </a:lnTo>
                  <a:lnTo>
                    <a:pt x="1405" y="312"/>
                  </a:lnTo>
                  <a:lnTo>
                    <a:pt x="1405" y="348"/>
                  </a:lnTo>
                  <a:lnTo>
                    <a:pt x="1405" y="372"/>
                  </a:lnTo>
                  <a:lnTo>
                    <a:pt x="1405" y="396"/>
                  </a:lnTo>
                  <a:lnTo>
                    <a:pt x="1405" y="420"/>
                  </a:lnTo>
                  <a:lnTo>
                    <a:pt x="1390" y="444"/>
                  </a:lnTo>
                  <a:lnTo>
                    <a:pt x="1390" y="516"/>
                  </a:lnTo>
                  <a:lnTo>
                    <a:pt x="1359" y="528"/>
                  </a:lnTo>
                  <a:lnTo>
                    <a:pt x="1314" y="540"/>
                  </a:lnTo>
                  <a:lnTo>
                    <a:pt x="1283" y="552"/>
                  </a:lnTo>
                  <a:lnTo>
                    <a:pt x="1253" y="552"/>
                  </a:lnTo>
                  <a:lnTo>
                    <a:pt x="1222" y="552"/>
                  </a:lnTo>
                  <a:lnTo>
                    <a:pt x="1192" y="552"/>
                  </a:lnTo>
                  <a:lnTo>
                    <a:pt x="977" y="552"/>
                  </a:lnTo>
                  <a:lnTo>
                    <a:pt x="946" y="552"/>
                  </a:lnTo>
                  <a:lnTo>
                    <a:pt x="840" y="564"/>
                  </a:lnTo>
                  <a:lnTo>
                    <a:pt x="809" y="576"/>
                  </a:lnTo>
                  <a:lnTo>
                    <a:pt x="779" y="576"/>
                  </a:lnTo>
                  <a:lnTo>
                    <a:pt x="748" y="576"/>
                  </a:lnTo>
                  <a:lnTo>
                    <a:pt x="718" y="588"/>
                  </a:lnTo>
                  <a:lnTo>
                    <a:pt x="687" y="588"/>
                  </a:lnTo>
                  <a:lnTo>
                    <a:pt x="657" y="588"/>
                  </a:lnTo>
                  <a:lnTo>
                    <a:pt x="626" y="600"/>
                  </a:lnTo>
                  <a:lnTo>
                    <a:pt x="596" y="600"/>
                  </a:lnTo>
                  <a:lnTo>
                    <a:pt x="565" y="600"/>
                  </a:lnTo>
                  <a:lnTo>
                    <a:pt x="535" y="612"/>
                  </a:lnTo>
                  <a:lnTo>
                    <a:pt x="504" y="612"/>
                  </a:lnTo>
                  <a:lnTo>
                    <a:pt x="473" y="624"/>
                  </a:lnTo>
                  <a:lnTo>
                    <a:pt x="458" y="648"/>
                  </a:lnTo>
                  <a:lnTo>
                    <a:pt x="428" y="648"/>
                  </a:lnTo>
                  <a:lnTo>
                    <a:pt x="412" y="672"/>
                  </a:lnTo>
                  <a:lnTo>
                    <a:pt x="397" y="696"/>
                  </a:lnTo>
                  <a:lnTo>
                    <a:pt x="381" y="720"/>
                  </a:lnTo>
                  <a:lnTo>
                    <a:pt x="366" y="744"/>
                  </a:lnTo>
                  <a:lnTo>
                    <a:pt x="335" y="780"/>
                  </a:lnTo>
                  <a:lnTo>
                    <a:pt x="320" y="804"/>
                  </a:lnTo>
                  <a:lnTo>
                    <a:pt x="320" y="828"/>
                  </a:lnTo>
                  <a:lnTo>
                    <a:pt x="289" y="852"/>
                  </a:lnTo>
                  <a:lnTo>
                    <a:pt x="274" y="876"/>
                  </a:lnTo>
                  <a:lnTo>
                    <a:pt x="259" y="900"/>
                  </a:lnTo>
                  <a:lnTo>
                    <a:pt x="244" y="924"/>
                  </a:lnTo>
                  <a:lnTo>
                    <a:pt x="167" y="1020"/>
                  </a:lnTo>
                  <a:lnTo>
                    <a:pt x="152" y="1044"/>
                  </a:lnTo>
                  <a:lnTo>
                    <a:pt x="137" y="1068"/>
                  </a:lnTo>
                  <a:lnTo>
                    <a:pt x="106" y="1092"/>
                  </a:lnTo>
                  <a:lnTo>
                    <a:pt x="91" y="1116"/>
                  </a:lnTo>
                  <a:lnTo>
                    <a:pt x="76" y="1140"/>
                  </a:lnTo>
                  <a:lnTo>
                    <a:pt x="61" y="1164"/>
                  </a:lnTo>
                  <a:lnTo>
                    <a:pt x="30" y="1188"/>
                  </a:lnTo>
                  <a:lnTo>
                    <a:pt x="0" y="1236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7854840" y="5500800"/>
              <a:ext cx="26496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300,0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96240" y="5475240"/>
              <a:ext cx="87480" cy="69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39080" y="5634000"/>
              <a:ext cx="92160" cy="684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9640" y="5719680"/>
              <a:ext cx="88920" cy="666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707320" y="5510160"/>
              <a:ext cx="88920" cy="3492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07320" y="5597640"/>
              <a:ext cx="131760" cy="5220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40720" y="5634000"/>
              <a:ext cx="88920" cy="12060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83720" y="5510160"/>
              <a:ext cx="199800" cy="1908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9012240" y="5442120"/>
              <a:ext cx="46080" cy="871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31240" y="5665680"/>
              <a:ext cx="193680" cy="540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39240" y="5702400"/>
              <a:ext cx="19080" cy="6804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18560" y="5754600"/>
              <a:ext cx="152280" cy="11916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907480" y="5805360"/>
              <a:ext cx="85680" cy="1584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83720" y="5805360"/>
              <a:ext cx="0" cy="684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39240" y="5529240"/>
              <a:ext cx="44280" cy="684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799480" y="5381640"/>
              <a:ext cx="133200" cy="8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1" lang="en-US" sz="3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Fiber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1" lang="en-US" sz="3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Nod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8799480" y="5533920"/>
              <a:ext cx="1760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5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486640" y="5484960"/>
              <a:ext cx="220680" cy="149040"/>
              <a:chOff x="8486640" y="5484960"/>
              <a:chExt cx="220680" cy="149040"/>
            </a:xfrm>
          </p:grpSpPr>
          <p:sp>
            <p:nvSpPr>
              <p:cNvPr id="114" name=""/>
              <p:cNvSpPr/>
              <p:nvPr/>
            </p:nvSpPr>
            <p:spPr>
              <a:xfrm>
                <a:off x="8486640" y="5494320"/>
                <a:ext cx="220680" cy="13968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8491680" y="5484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 txBox="1"/>
            <p:nvPr/>
          </p:nvSpPr>
          <p:spPr>
            <a:xfrm>
              <a:off x="8513640" y="5619600"/>
              <a:ext cx="23976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20,0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051760" y="5692680"/>
              <a:ext cx="219240" cy="147960"/>
              <a:chOff x="8051760" y="5692680"/>
              <a:chExt cx="219240" cy="147960"/>
            </a:xfrm>
          </p:grpSpPr>
          <p:sp>
            <p:nvSpPr>
              <p:cNvPr id="118" name=""/>
              <p:cNvSpPr/>
              <p:nvPr/>
            </p:nvSpPr>
            <p:spPr>
              <a:xfrm>
                <a:off x="8051760" y="5702400"/>
                <a:ext cx="219240" cy="1382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8075520" y="569268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023400" y="51973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988400" y="6188040"/>
            <a:ext cx="755640" cy="58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9404280" y="58831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794800" y="48927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871120" y="58831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6661080" y="48927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9404280" y="504504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9175680" y="55785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7118280" y="58071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6889680" y="5121360"/>
            <a:ext cx="277920" cy="219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7296120" y="5492880"/>
            <a:ext cx="685800" cy="9144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34200" y="5492880"/>
            <a:ext cx="228600" cy="8380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059680" y="4653000"/>
            <a:ext cx="106200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HFC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02600" y="5491080"/>
            <a:ext cx="8049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95920" y="6634080"/>
            <a:ext cx="2925720" cy="55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Enterprises and Loca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02240" y="5294160"/>
            <a:ext cx="1884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imeW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Cab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2666880" y="3457440"/>
            <a:ext cx="3409920" cy="1011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71680" y="3662280"/>
            <a:ext cx="1803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XCs, National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nter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213680" y="3662280"/>
            <a:ext cx="9288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410080" y="2162160"/>
            <a:ext cx="1886040" cy="892080"/>
            <a:chOff x="5410080" y="2162160"/>
            <a:chExt cx="1886040" cy="892080"/>
          </a:xfrm>
        </p:grpSpPr>
        <p:grpSp>
          <p:nvGrpSpPr>
            <p:cNvPr id="140" name=""/>
            <p:cNvGrpSpPr/>
            <p:nvPr/>
          </p:nvGrpSpPr>
          <p:grpSpPr>
            <a:xfrm>
              <a:off x="5410080" y="2162160"/>
              <a:ext cx="1886040" cy="892080"/>
              <a:chOff x="5410080" y="2162160"/>
              <a:chExt cx="1886040" cy="8920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10080" y="2162160"/>
                <a:ext cx="1886040" cy="89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54760" y="2328840"/>
                <a:ext cx="727200" cy="466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 txBox="1"/>
            <p:nvPr/>
          </p:nvSpPr>
          <p:spPr>
            <a:xfrm>
              <a:off x="5862600" y="2367000"/>
              <a:ext cx="73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77000" y="4197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467320" y="282564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48200" y="381636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86040" y="3664080"/>
            <a:ext cx="1066680" cy="2286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47800" y="297828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4840" y="2825640"/>
            <a:ext cx="533160" cy="7621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78000" y="2168640"/>
            <a:ext cx="941400" cy="915840"/>
            <a:chOff x="3078000" y="2168640"/>
            <a:chExt cx="941400" cy="915840"/>
          </a:xfrm>
        </p:grpSpPr>
        <p:pic>
          <p:nvPicPr>
            <p:cNvPr id="151" name="" descr=""/>
            <p:cNvPicPr/>
            <p:nvPr/>
          </p:nvPicPr>
          <p:blipFill>
            <a:blip r:embed="rId18"/>
            <a:stretch/>
          </p:blipFill>
          <p:spPr>
            <a:xfrm>
              <a:off x="3143160" y="2168640"/>
              <a:ext cx="87624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3078000" y="2747880"/>
              <a:ext cx="816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OL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932040" y="2062080"/>
            <a:ext cx="145080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LineRunner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Palatino"/>
                <a:ea typeface="Palatino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4119480"/>
            <a:ext cx="1182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NO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Help 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9010800" y="6207120"/>
            <a:ext cx="647640" cy="455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10520" y="5416560"/>
            <a:ext cx="914400" cy="10666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52520" y="4807080"/>
            <a:ext cx="3276720" cy="2057400"/>
            <a:chOff x="1352520" y="4807080"/>
            <a:chExt cx="3276720" cy="2057400"/>
          </a:xfrm>
        </p:grpSpPr>
        <p:sp>
          <p:nvSpPr>
            <p:cNvPr id="158" name=""/>
            <p:cNvSpPr/>
            <p:nvPr/>
          </p:nvSpPr>
          <p:spPr>
            <a:xfrm>
              <a:off x="1352520" y="4807080"/>
              <a:ext cx="3276720" cy="2057400"/>
            </a:xfrm>
            <a:prstGeom prst="rect">
              <a:avLst/>
            </a:prstGeom>
            <a:gradFill rotWithShape="0">
              <a:gsLst>
                <a:gs pos="0">
                  <a:srgbClr val="c1ceff"/>
                </a:gs>
                <a:gs pos="100000">
                  <a:srgbClr val="adb9e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0"/>
            <a:stretch/>
          </p:blipFill>
          <p:spPr>
            <a:xfrm>
              <a:off x="1612800" y="6251400"/>
              <a:ext cx="73008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1739880" y="4921200"/>
              <a:ext cx="2279520" cy="1105560"/>
              <a:chOff x="1739880" y="4921200"/>
              <a:chExt cx="2279520" cy="1105560"/>
            </a:xfrm>
          </p:grpSpPr>
          <p:sp>
            <p:nvSpPr>
              <p:cNvPr id="161" name=""/>
              <p:cNvSpPr/>
              <p:nvPr/>
            </p:nvSpPr>
            <p:spPr>
              <a:xfrm>
                <a:off x="2114640" y="5092560"/>
                <a:ext cx="565200" cy="401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00320" y="5510160"/>
                <a:ext cx="568440" cy="399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09760" y="5025960"/>
                <a:ext cx="568440" cy="396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92520" y="5581800"/>
                <a:ext cx="569880" cy="396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19560" y="5423040"/>
                <a:ext cx="568440" cy="398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7000" y="4921200"/>
                <a:ext cx="573120" cy="399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51240" y="5145120"/>
                <a:ext cx="790920" cy="297360"/>
              </a:xfrm>
              <a:custGeom>
                <a:avLst/>
                <a:gdLst/>
                <a:ahLst/>
                <a:rect l="0" t="0" r="r" b="b"/>
                <a:pathLst>
                  <a:path fill="none" w="2197" h="826">
                    <a:moveTo>
                      <a:pt x="1067" y="826"/>
                    </a:moveTo>
                    <a:lnTo>
                      <a:pt x="1021" y="826"/>
                    </a:lnTo>
                    <a:lnTo>
                      <a:pt x="991" y="826"/>
                    </a:lnTo>
                    <a:lnTo>
                      <a:pt x="960" y="826"/>
                    </a:lnTo>
                    <a:lnTo>
                      <a:pt x="930" y="826"/>
                    </a:lnTo>
                    <a:lnTo>
                      <a:pt x="884" y="826"/>
                    </a:lnTo>
                    <a:lnTo>
                      <a:pt x="838" y="826"/>
                    </a:lnTo>
                    <a:lnTo>
                      <a:pt x="808" y="826"/>
                    </a:lnTo>
                    <a:lnTo>
                      <a:pt x="747" y="826"/>
                    </a:lnTo>
                    <a:lnTo>
                      <a:pt x="701" y="826"/>
                    </a:lnTo>
                    <a:lnTo>
                      <a:pt x="655" y="826"/>
                    </a:lnTo>
                    <a:lnTo>
                      <a:pt x="610" y="826"/>
                    </a:lnTo>
                    <a:lnTo>
                      <a:pt x="564" y="826"/>
                    </a:lnTo>
                    <a:lnTo>
                      <a:pt x="518" y="826"/>
                    </a:lnTo>
                    <a:lnTo>
                      <a:pt x="472" y="826"/>
                    </a:lnTo>
                    <a:lnTo>
                      <a:pt x="411" y="826"/>
                    </a:lnTo>
                    <a:lnTo>
                      <a:pt x="366" y="826"/>
                    </a:lnTo>
                    <a:lnTo>
                      <a:pt x="320" y="826"/>
                    </a:lnTo>
                    <a:lnTo>
                      <a:pt x="289" y="802"/>
                    </a:lnTo>
                    <a:lnTo>
                      <a:pt x="259" y="802"/>
                    </a:lnTo>
                    <a:lnTo>
                      <a:pt x="228" y="802"/>
                    </a:lnTo>
                    <a:lnTo>
                      <a:pt x="198" y="802"/>
                    </a:lnTo>
                    <a:lnTo>
                      <a:pt x="167" y="802"/>
                    </a:lnTo>
                    <a:lnTo>
                      <a:pt x="122" y="802"/>
                    </a:lnTo>
                    <a:lnTo>
                      <a:pt x="76" y="802"/>
                    </a:lnTo>
                    <a:lnTo>
                      <a:pt x="30" y="802"/>
                    </a:lnTo>
                    <a:lnTo>
                      <a:pt x="30" y="765"/>
                    </a:lnTo>
                    <a:lnTo>
                      <a:pt x="30" y="729"/>
                    </a:lnTo>
                    <a:lnTo>
                      <a:pt x="30" y="693"/>
                    </a:lnTo>
                    <a:lnTo>
                      <a:pt x="0" y="668"/>
                    </a:lnTo>
                    <a:lnTo>
                      <a:pt x="0" y="644"/>
                    </a:lnTo>
                    <a:lnTo>
                      <a:pt x="0" y="620"/>
                    </a:lnTo>
                    <a:lnTo>
                      <a:pt x="0" y="595"/>
                    </a:lnTo>
                    <a:lnTo>
                      <a:pt x="0" y="570"/>
                    </a:lnTo>
                    <a:lnTo>
                      <a:pt x="30" y="570"/>
                    </a:lnTo>
                    <a:lnTo>
                      <a:pt x="61" y="570"/>
                    </a:lnTo>
                    <a:lnTo>
                      <a:pt x="91" y="570"/>
                    </a:lnTo>
                    <a:lnTo>
                      <a:pt x="137" y="570"/>
                    </a:lnTo>
                    <a:lnTo>
                      <a:pt x="183" y="570"/>
                    </a:lnTo>
                    <a:lnTo>
                      <a:pt x="213" y="546"/>
                    </a:lnTo>
                    <a:lnTo>
                      <a:pt x="259" y="546"/>
                    </a:lnTo>
                    <a:lnTo>
                      <a:pt x="289" y="522"/>
                    </a:lnTo>
                    <a:lnTo>
                      <a:pt x="289" y="486"/>
                    </a:lnTo>
                    <a:lnTo>
                      <a:pt x="320" y="486"/>
                    </a:lnTo>
                    <a:lnTo>
                      <a:pt x="350" y="461"/>
                    </a:lnTo>
                    <a:lnTo>
                      <a:pt x="381" y="437"/>
                    </a:lnTo>
                    <a:lnTo>
                      <a:pt x="411" y="413"/>
                    </a:lnTo>
                    <a:lnTo>
                      <a:pt x="442" y="389"/>
                    </a:lnTo>
                    <a:lnTo>
                      <a:pt x="472" y="389"/>
                    </a:lnTo>
                    <a:lnTo>
                      <a:pt x="503" y="364"/>
                    </a:lnTo>
                    <a:lnTo>
                      <a:pt x="533" y="364"/>
                    </a:lnTo>
                    <a:lnTo>
                      <a:pt x="564" y="340"/>
                    </a:lnTo>
                    <a:lnTo>
                      <a:pt x="594" y="340"/>
                    </a:lnTo>
                    <a:lnTo>
                      <a:pt x="625" y="316"/>
                    </a:lnTo>
                    <a:lnTo>
                      <a:pt x="655" y="316"/>
                    </a:lnTo>
                    <a:lnTo>
                      <a:pt x="701" y="316"/>
                    </a:lnTo>
                    <a:lnTo>
                      <a:pt x="701" y="292"/>
                    </a:lnTo>
                    <a:lnTo>
                      <a:pt x="747" y="292"/>
                    </a:lnTo>
                    <a:lnTo>
                      <a:pt x="777" y="267"/>
                    </a:lnTo>
                    <a:lnTo>
                      <a:pt x="823" y="267"/>
                    </a:lnTo>
                    <a:lnTo>
                      <a:pt x="854" y="243"/>
                    </a:lnTo>
                    <a:lnTo>
                      <a:pt x="884" y="219"/>
                    </a:lnTo>
                    <a:lnTo>
                      <a:pt x="915" y="219"/>
                    </a:lnTo>
                    <a:lnTo>
                      <a:pt x="945" y="194"/>
                    </a:lnTo>
                    <a:lnTo>
                      <a:pt x="976" y="169"/>
                    </a:lnTo>
                    <a:lnTo>
                      <a:pt x="1006" y="169"/>
                    </a:lnTo>
                    <a:lnTo>
                      <a:pt x="1037" y="145"/>
                    </a:lnTo>
                    <a:lnTo>
                      <a:pt x="1067" y="121"/>
                    </a:lnTo>
                    <a:lnTo>
                      <a:pt x="1099" y="97"/>
                    </a:lnTo>
                    <a:lnTo>
                      <a:pt x="1129" y="72"/>
                    </a:lnTo>
                    <a:lnTo>
                      <a:pt x="1160" y="48"/>
                    </a:lnTo>
                    <a:lnTo>
                      <a:pt x="1160" y="24"/>
                    </a:lnTo>
                    <a:lnTo>
                      <a:pt x="1190" y="0"/>
                    </a:lnTo>
                    <a:lnTo>
                      <a:pt x="1236" y="0"/>
                    </a:lnTo>
                    <a:lnTo>
                      <a:pt x="1266" y="24"/>
                    </a:lnTo>
                    <a:lnTo>
                      <a:pt x="1297" y="24"/>
                    </a:lnTo>
                    <a:lnTo>
                      <a:pt x="1343" y="24"/>
                    </a:lnTo>
                    <a:lnTo>
                      <a:pt x="1373" y="48"/>
                    </a:lnTo>
                    <a:lnTo>
                      <a:pt x="1404" y="48"/>
                    </a:lnTo>
                    <a:lnTo>
                      <a:pt x="1434" y="48"/>
                    </a:lnTo>
                    <a:lnTo>
                      <a:pt x="1480" y="48"/>
                    </a:lnTo>
                    <a:lnTo>
                      <a:pt x="1510" y="72"/>
                    </a:lnTo>
                    <a:lnTo>
                      <a:pt x="1541" y="72"/>
                    </a:lnTo>
                    <a:lnTo>
                      <a:pt x="1571" y="72"/>
                    </a:lnTo>
                    <a:lnTo>
                      <a:pt x="1617" y="72"/>
                    </a:lnTo>
                    <a:lnTo>
                      <a:pt x="1648" y="97"/>
                    </a:lnTo>
                    <a:lnTo>
                      <a:pt x="1678" y="97"/>
                    </a:lnTo>
                    <a:lnTo>
                      <a:pt x="1724" y="97"/>
                    </a:lnTo>
                    <a:lnTo>
                      <a:pt x="1754" y="121"/>
                    </a:lnTo>
                    <a:lnTo>
                      <a:pt x="1800" y="121"/>
                    </a:lnTo>
                    <a:lnTo>
                      <a:pt x="1831" y="145"/>
                    </a:lnTo>
                    <a:lnTo>
                      <a:pt x="1861" y="145"/>
                    </a:lnTo>
                    <a:lnTo>
                      <a:pt x="1907" y="145"/>
                    </a:lnTo>
                    <a:lnTo>
                      <a:pt x="1907" y="169"/>
                    </a:lnTo>
                    <a:lnTo>
                      <a:pt x="1953" y="169"/>
                    </a:lnTo>
                    <a:lnTo>
                      <a:pt x="1983" y="194"/>
                    </a:lnTo>
                    <a:lnTo>
                      <a:pt x="2014" y="219"/>
                    </a:lnTo>
                    <a:lnTo>
                      <a:pt x="2044" y="219"/>
                    </a:lnTo>
                    <a:lnTo>
                      <a:pt x="2075" y="243"/>
                    </a:lnTo>
                    <a:lnTo>
                      <a:pt x="2105" y="267"/>
                    </a:lnTo>
                    <a:lnTo>
                      <a:pt x="2136" y="292"/>
                    </a:lnTo>
                    <a:lnTo>
                      <a:pt x="2166" y="316"/>
                    </a:lnTo>
                    <a:lnTo>
                      <a:pt x="2197" y="340"/>
                    </a:lnTo>
                    <a:lnTo>
                      <a:pt x="2197" y="376"/>
                    </a:lnTo>
                    <a:lnTo>
                      <a:pt x="2197" y="413"/>
                    </a:lnTo>
                    <a:lnTo>
                      <a:pt x="2197" y="449"/>
                    </a:lnTo>
                    <a:lnTo>
                      <a:pt x="2197" y="486"/>
                    </a:lnTo>
                    <a:lnTo>
                      <a:pt x="2197" y="522"/>
                    </a:lnTo>
                    <a:lnTo>
                      <a:pt x="2166" y="546"/>
                    </a:lnTo>
                    <a:lnTo>
                      <a:pt x="2136" y="570"/>
                    </a:lnTo>
                    <a:lnTo>
                      <a:pt x="2105" y="595"/>
                    </a:lnTo>
                    <a:lnTo>
                      <a:pt x="2075" y="620"/>
                    </a:lnTo>
                    <a:lnTo>
                      <a:pt x="2044" y="644"/>
                    </a:lnTo>
                    <a:lnTo>
                      <a:pt x="2014" y="668"/>
                    </a:lnTo>
                    <a:lnTo>
                      <a:pt x="1983" y="693"/>
                    </a:lnTo>
                    <a:lnTo>
                      <a:pt x="1953" y="717"/>
                    </a:lnTo>
                    <a:lnTo>
                      <a:pt x="1922" y="741"/>
                    </a:lnTo>
                    <a:lnTo>
                      <a:pt x="1892" y="765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14520" y="5423040"/>
                <a:ext cx="640080" cy="303480"/>
              </a:xfrm>
              <a:custGeom>
                <a:avLst/>
                <a:gdLst/>
                <a:ahLst/>
                <a:rect l="0" t="0" r="r" b="b"/>
                <a:pathLst>
                  <a:path fill="none" w="1778" h="843">
                    <a:moveTo>
                      <a:pt x="136" y="0"/>
                    </a:moveTo>
                    <a:lnTo>
                      <a:pt x="136" y="24"/>
                    </a:lnTo>
                    <a:lnTo>
                      <a:pt x="121" y="48"/>
                    </a:lnTo>
                    <a:lnTo>
                      <a:pt x="106" y="72"/>
                    </a:lnTo>
                    <a:lnTo>
                      <a:pt x="91" y="96"/>
                    </a:lnTo>
                    <a:lnTo>
                      <a:pt x="91" y="120"/>
                    </a:lnTo>
                    <a:lnTo>
                      <a:pt x="91" y="144"/>
                    </a:lnTo>
                    <a:lnTo>
                      <a:pt x="91" y="168"/>
                    </a:lnTo>
                    <a:lnTo>
                      <a:pt x="75" y="192"/>
                    </a:lnTo>
                    <a:lnTo>
                      <a:pt x="75" y="216"/>
                    </a:lnTo>
                    <a:lnTo>
                      <a:pt x="60" y="240"/>
                    </a:lnTo>
                    <a:lnTo>
                      <a:pt x="60" y="264"/>
                    </a:lnTo>
                    <a:lnTo>
                      <a:pt x="45" y="288"/>
                    </a:lnTo>
                    <a:lnTo>
                      <a:pt x="15" y="324"/>
                    </a:lnTo>
                    <a:lnTo>
                      <a:pt x="15" y="348"/>
                    </a:lnTo>
                    <a:lnTo>
                      <a:pt x="0" y="372"/>
                    </a:lnTo>
                    <a:lnTo>
                      <a:pt x="0" y="397"/>
                    </a:lnTo>
                    <a:lnTo>
                      <a:pt x="0" y="421"/>
                    </a:lnTo>
                    <a:lnTo>
                      <a:pt x="15" y="446"/>
                    </a:lnTo>
                    <a:lnTo>
                      <a:pt x="15" y="470"/>
                    </a:lnTo>
                    <a:lnTo>
                      <a:pt x="30" y="494"/>
                    </a:lnTo>
                    <a:lnTo>
                      <a:pt x="30" y="518"/>
                    </a:lnTo>
                    <a:lnTo>
                      <a:pt x="45" y="542"/>
                    </a:lnTo>
                    <a:lnTo>
                      <a:pt x="45" y="566"/>
                    </a:lnTo>
                    <a:lnTo>
                      <a:pt x="60" y="590"/>
                    </a:lnTo>
                    <a:lnTo>
                      <a:pt x="91" y="602"/>
                    </a:lnTo>
                    <a:lnTo>
                      <a:pt x="91" y="626"/>
                    </a:lnTo>
                    <a:lnTo>
                      <a:pt x="121" y="626"/>
                    </a:lnTo>
                    <a:lnTo>
                      <a:pt x="151" y="626"/>
                    </a:lnTo>
                    <a:lnTo>
                      <a:pt x="182" y="626"/>
                    </a:lnTo>
                    <a:lnTo>
                      <a:pt x="212" y="626"/>
                    </a:lnTo>
                    <a:lnTo>
                      <a:pt x="243" y="626"/>
                    </a:lnTo>
                    <a:lnTo>
                      <a:pt x="273" y="626"/>
                    </a:lnTo>
                    <a:lnTo>
                      <a:pt x="303" y="638"/>
                    </a:lnTo>
                    <a:lnTo>
                      <a:pt x="334" y="638"/>
                    </a:lnTo>
                    <a:lnTo>
                      <a:pt x="364" y="650"/>
                    </a:lnTo>
                    <a:lnTo>
                      <a:pt x="410" y="650"/>
                    </a:lnTo>
                    <a:lnTo>
                      <a:pt x="440" y="662"/>
                    </a:lnTo>
                    <a:lnTo>
                      <a:pt x="470" y="674"/>
                    </a:lnTo>
                    <a:lnTo>
                      <a:pt x="501" y="686"/>
                    </a:lnTo>
                    <a:lnTo>
                      <a:pt x="531" y="686"/>
                    </a:lnTo>
                    <a:lnTo>
                      <a:pt x="561" y="698"/>
                    </a:lnTo>
                    <a:lnTo>
                      <a:pt x="592" y="698"/>
                    </a:lnTo>
                    <a:lnTo>
                      <a:pt x="622" y="710"/>
                    </a:lnTo>
                    <a:lnTo>
                      <a:pt x="668" y="710"/>
                    </a:lnTo>
                    <a:lnTo>
                      <a:pt x="698" y="722"/>
                    </a:lnTo>
                    <a:lnTo>
                      <a:pt x="729" y="722"/>
                    </a:lnTo>
                    <a:lnTo>
                      <a:pt x="759" y="734"/>
                    </a:lnTo>
                    <a:lnTo>
                      <a:pt x="789" y="734"/>
                    </a:lnTo>
                    <a:lnTo>
                      <a:pt x="820" y="746"/>
                    </a:lnTo>
                    <a:lnTo>
                      <a:pt x="850" y="746"/>
                    </a:lnTo>
                    <a:lnTo>
                      <a:pt x="880" y="759"/>
                    </a:lnTo>
                    <a:lnTo>
                      <a:pt x="912" y="759"/>
                    </a:lnTo>
                    <a:lnTo>
                      <a:pt x="942" y="759"/>
                    </a:lnTo>
                    <a:lnTo>
                      <a:pt x="973" y="771"/>
                    </a:lnTo>
                    <a:lnTo>
                      <a:pt x="1003" y="783"/>
                    </a:lnTo>
                    <a:lnTo>
                      <a:pt x="1033" y="795"/>
                    </a:lnTo>
                    <a:lnTo>
                      <a:pt x="1064" y="795"/>
                    </a:lnTo>
                    <a:lnTo>
                      <a:pt x="1109" y="807"/>
                    </a:lnTo>
                    <a:lnTo>
                      <a:pt x="1140" y="819"/>
                    </a:lnTo>
                    <a:lnTo>
                      <a:pt x="1170" y="819"/>
                    </a:lnTo>
                    <a:lnTo>
                      <a:pt x="1200" y="819"/>
                    </a:lnTo>
                    <a:lnTo>
                      <a:pt x="1231" y="831"/>
                    </a:lnTo>
                    <a:lnTo>
                      <a:pt x="1261" y="831"/>
                    </a:lnTo>
                    <a:lnTo>
                      <a:pt x="1292" y="831"/>
                    </a:lnTo>
                    <a:lnTo>
                      <a:pt x="1322" y="831"/>
                    </a:lnTo>
                    <a:lnTo>
                      <a:pt x="1352" y="843"/>
                    </a:lnTo>
                    <a:lnTo>
                      <a:pt x="1383" y="843"/>
                    </a:lnTo>
                    <a:lnTo>
                      <a:pt x="1413" y="843"/>
                    </a:lnTo>
                    <a:lnTo>
                      <a:pt x="1443" y="843"/>
                    </a:lnTo>
                    <a:lnTo>
                      <a:pt x="1474" y="843"/>
                    </a:lnTo>
                    <a:lnTo>
                      <a:pt x="1504" y="843"/>
                    </a:lnTo>
                    <a:lnTo>
                      <a:pt x="1535" y="843"/>
                    </a:lnTo>
                    <a:lnTo>
                      <a:pt x="1565" y="843"/>
                    </a:lnTo>
                    <a:lnTo>
                      <a:pt x="1595" y="843"/>
                    </a:lnTo>
                    <a:lnTo>
                      <a:pt x="1626" y="831"/>
                    </a:lnTo>
                    <a:lnTo>
                      <a:pt x="1656" y="819"/>
                    </a:lnTo>
                    <a:lnTo>
                      <a:pt x="1686" y="807"/>
                    </a:lnTo>
                    <a:lnTo>
                      <a:pt x="1717" y="783"/>
                    </a:lnTo>
                    <a:lnTo>
                      <a:pt x="1732" y="746"/>
                    </a:lnTo>
                    <a:lnTo>
                      <a:pt x="1762" y="722"/>
                    </a:lnTo>
                    <a:lnTo>
                      <a:pt x="1762" y="698"/>
                    </a:lnTo>
                    <a:lnTo>
                      <a:pt x="1762" y="674"/>
                    </a:lnTo>
                    <a:lnTo>
                      <a:pt x="1778" y="650"/>
                    </a:lnTo>
                    <a:lnTo>
                      <a:pt x="1778" y="626"/>
                    </a:lnTo>
                    <a:lnTo>
                      <a:pt x="1778" y="590"/>
                    </a:lnTo>
                    <a:lnTo>
                      <a:pt x="1778" y="566"/>
                    </a:lnTo>
                    <a:lnTo>
                      <a:pt x="1778" y="542"/>
                    </a:lnTo>
                    <a:lnTo>
                      <a:pt x="1778" y="518"/>
                    </a:lnTo>
                    <a:lnTo>
                      <a:pt x="1762" y="494"/>
                    </a:lnTo>
                    <a:lnTo>
                      <a:pt x="1747" y="470"/>
                    </a:lnTo>
                    <a:lnTo>
                      <a:pt x="1747" y="446"/>
                    </a:lnTo>
                    <a:lnTo>
                      <a:pt x="1732" y="421"/>
                    </a:lnTo>
                    <a:lnTo>
                      <a:pt x="1717" y="397"/>
                    </a:lnTo>
                    <a:lnTo>
                      <a:pt x="1717" y="372"/>
                    </a:lnTo>
                    <a:lnTo>
                      <a:pt x="1702" y="348"/>
                    </a:lnTo>
                    <a:lnTo>
                      <a:pt x="1702" y="324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85920" y="5257800"/>
                <a:ext cx="430560" cy="413280"/>
              </a:xfrm>
              <a:custGeom>
                <a:avLst/>
                <a:gdLst/>
                <a:ahLst/>
                <a:rect l="0" t="0" r="r" b="b"/>
                <a:pathLst>
                  <a:path fill="none" w="1196" h="1148">
                    <a:moveTo>
                      <a:pt x="30" y="749"/>
                    </a:moveTo>
                    <a:lnTo>
                      <a:pt x="0" y="749"/>
                    </a:lnTo>
                    <a:lnTo>
                      <a:pt x="30" y="761"/>
                    </a:lnTo>
                    <a:lnTo>
                      <a:pt x="61" y="797"/>
                    </a:lnTo>
                    <a:lnTo>
                      <a:pt x="91" y="797"/>
                    </a:lnTo>
                    <a:lnTo>
                      <a:pt x="107" y="821"/>
                    </a:lnTo>
                    <a:lnTo>
                      <a:pt x="137" y="833"/>
                    </a:lnTo>
                    <a:lnTo>
                      <a:pt x="153" y="857"/>
                    </a:lnTo>
                    <a:lnTo>
                      <a:pt x="183" y="883"/>
                    </a:lnTo>
                    <a:lnTo>
                      <a:pt x="199" y="907"/>
                    </a:lnTo>
                    <a:lnTo>
                      <a:pt x="229" y="931"/>
                    </a:lnTo>
                    <a:lnTo>
                      <a:pt x="245" y="967"/>
                    </a:lnTo>
                    <a:lnTo>
                      <a:pt x="275" y="1003"/>
                    </a:lnTo>
                    <a:lnTo>
                      <a:pt x="306" y="1015"/>
                    </a:lnTo>
                    <a:lnTo>
                      <a:pt x="337" y="1039"/>
                    </a:lnTo>
                    <a:lnTo>
                      <a:pt x="367" y="1064"/>
                    </a:lnTo>
                    <a:lnTo>
                      <a:pt x="398" y="1076"/>
                    </a:lnTo>
                    <a:lnTo>
                      <a:pt x="428" y="1100"/>
                    </a:lnTo>
                    <a:lnTo>
                      <a:pt x="459" y="1112"/>
                    </a:lnTo>
                    <a:lnTo>
                      <a:pt x="490" y="1124"/>
                    </a:lnTo>
                    <a:lnTo>
                      <a:pt x="520" y="1136"/>
                    </a:lnTo>
                    <a:lnTo>
                      <a:pt x="551" y="1136"/>
                    </a:lnTo>
                    <a:lnTo>
                      <a:pt x="582" y="1136"/>
                    </a:lnTo>
                    <a:lnTo>
                      <a:pt x="613" y="1136"/>
                    </a:lnTo>
                    <a:lnTo>
                      <a:pt x="644" y="1148"/>
                    </a:lnTo>
                    <a:lnTo>
                      <a:pt x="675" y="1148"/>
                    </a:lnTo>
                    <a:lnTo>
                      <a:pt x="705" y="1148"/>
                    </a:lnTo>
                    <a:lnTo>
                      <a:pt x="736" y="1148"/>
                    </a:lnTo>
                    <a:lnTo>
                      <a:pt x="767" y="1148"/>
                    </a:lnTo>
                    <a:lnTo>
                      <a:pt x="797" y="1136"/>
                    </a:lnTo>
                    <a:lnTo>
                      <a:pt x="813" y="1112"/>
                    </a:lnTo>
                    <a:lnTo>
                      <a:pt x="843" y="1100"/>
                    </a:lnTo>
                    <a:lnTo>
                      <a:pt x="874" y="1088"/>
                    </a:lnTo>
                    <a:lnTo>
                      <a:pt x="904" y="1076"/>
                    </a:lnTo>
                    <a:lnTo>
                      <a:pt x="935" y="1051"/>
                    </a:lnTo>
                    <a:lnTo>
                      <a:pt x="966" y="1039"/>
                    </a:lnTo>
                    <a:lnTo>
                      <a:pt x="996" y="1027"/>
                    </a:lnTo>
                    <a:lnTo>
                      <a:pt x="1027" y="1003"/>
                    </a:lnTo>
                    <a:lnTo>
                      <a:pt x="1042" y="979"/>
                    </a:lnTo>
                    <a:lnTo>
                      <a:pt x="1058" y="955"/>
                    </a:lnTo>
                    <a:lnTo>
                      <a:pt x="1073" y="931"/>
                    </a:lnTo>
                    <a:lnTo>
                      <a:pt x="1088" y="907"/>
                    </a:lnTo>
                    <a:lnTo>
                      <a:pt x="1088" y="883"/>
                    </a:lnTo>
                    <a:lnTo>
                      <a:pt x="1119" y="857"/>
                    </a:lnTo>
                    <a:lnTo>
                      <a:pt x="1134" y="833"/>
                    </a:lnTo>
                    <a:lnTo>
                      <a:pt x="1150" y="809"/>
                    </a:lnTo>
                    <a:lnTo>
                      <a:pt x="1165" y="785"/>
                    </a:lnTo>
                    <a:lnTo>
                      <a:pt x="1180" y="761"/>
                    </a:lnTo>
                    <a:lnTo>
                      <a:pt x="1180" y="737"/>
                    </a:lnTo>
                    <a:lnTo>
                      <a:pt x="1196" y="713"/>
                    </a:lnTo>
                    <a:lnTo>
                      <a:pt x="1196" y="688"/>
                    </a:lnTo>
                    <a:lnTo>
                      <a:pt x="1196" y="664"/>
                    </a:lnTo>
                    <a:lnTo>
                      <a:pt x="1196" y="628"/>
                    </a:lnTo>
                    <a:lnTo>
                      <a:pt x="1196" y="580"/>
                    </a:lnTo>
                    <a:lnTo>
                      <a:pt x="1180" y="556"/>
                    </a:lnTo>
                    <a:lnTo>
                      <a:pt x="1165" y="532"/>
                    </a:lnTo>
                    <a:lnTo>
                      <a:pt x="1150" y="507"/>
                    </a:lnTo>
                    <a:lnTo>
                      <a:pt x="1150" y="483"/>
                    </a:lnTo>
                    <a:lnTo>
                      <a:pt x="1134" y="459"/>
                    </a:lnTo>
                    <a:lnTo>
                      <a:pt x="1134" y="435"/>
                    </a:lnTo>
                    <a:lnTo>
                      <a:pt x="1134" y="411"/>
                    </a:lnTo>
                    <a:lnTo>
                      <a:pt x="1134" y="387"/>
                    </a:lnTo>
                    <a:lnTo>
                      <a:pt x="1134" y="363"/>
                    </a:lnTo>
                    <a:lnTo>
                      <a:pt x="1134" y="338"/>
                    </a:lnTo>
                    <a:lnTo>
                      <a:pt x="1134" y="314"/>
                    </a:lnTo>
                    <a:lnTo>
                      <a:pt x="1134" y="290"/>
                    </a:lnTo>
                    <a:lnTo>
                      <a:pt x="1134" y="265"/>
                    </a:lnTo>
                    <a:lnTo>
                      <a:pt x="1134" y="241"/>
                    </a:lnTo>
                    <a:lnTo>
                      <a:pt x="1119" y="217"/>
                    </a:lnTo>
                    <a:lnTo>
                      <a:pt x="1119" y="193"/>
                    </a:lnTo>
                    <a:lnTo>
                      <a:pt x="1119" y="168"/>
                    </a:lnTo>
                    <a:lnTo>
                      <a:pt x="1104" y="144"/>
                    </a:lnTo>
                    <a:lnTo>
                      <a:pt x="1104" y="120"/>
                    </a:lnTo>
                    <a:lnTo>
                      <a:pt x="1088" y="96"/>
                    </a:lnTo>
                    <a:lnTo>
                      <a:pt x="1073" y="72"/>
                    </a:lnTo>
                    <a:lnTo>
                      <a:pt x="1042" y="72"/>
                    </a:lnTo>
                    <a:lnTo>
                      <a:pt x="1012" y="60"/>
                    </a:lnTo>
                    <a:lnTo>
                      <a:pt x="981" y="60"/>
                    </a:lnTo>
                    <a:lnTo>
                      <a:pt x="950" y="48"/>
                    </a:lnTo>
                    <a:lnTo>
                      <a:pt x="920" y="36"/>
                    </a:lnTo>
                    <a:lnTo>
                      <a:pt x="889" y="36"/>
                    </a:lnTo>
                    <a:lnTo>
                      <a:pt x="858" y="24"/>
                    </a:lnTo>
                    <a:lnTo>
                      <a:pt x="828" y="24"/>
                    </a:lnTo>
                    <a:lnTo>
                      <a:pt x="797" y="12"/>
                    </a:lnTo>
                    <a:lnTo>
                      <a:pt x="767" y="0"/>
                    </a:lnTo>
                    <a:lnTo>
                      <a:pt x="736" y="0"/>
                    </a:lnTo>
                    <a:lnTo>
                      <a:pt x="690" y="0"/>
                    </a:lnTo>
                    <a:lnTo>
                      <a:pt x="659" y="0"/>
                    </a:lnTo>
                    <a:lnTo>
                      <a:pt x="629" y="0"/>
                    </a:lnTo>
                    <a:lnTo>
                      <a:pt x="597" y="0"/>
                    </a:lnTo>
                    <a:lnTo>
                      <a:pt x="566" y="0"/>
                    </a:lnTo>
                    <a:lnTo>
                      <a:pt x="536" y="12"/>
                    </a:lnTo>
                    <a:lnTo>
                      <a:pt x="505" y="24"/>
                    </a:lnTo>
                    <a:lnTo>
                      <a:pt x="474" y="36"/>
                    </a:lnTo>
                    <a:lnTo>
                      <a:pt x="459" y="60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55880" y="4989600"/>
                <a:ext cx="733680" cy="279720"/>
              </a:xfrm>
              <a:custGeom>
                <a:avLst/>
                <a:gdLst/>
                <a:ahLst/>
                <a:rect l="0" t="0" r="r" b="b"/>
                <a:pathLst>
                  <a:path fill="none" w="2038" h="777">
                    <a:moveTo>
                      <a:pt x="2022" y="777"/>
                    </a:moveTo>
                    <a:lnTo>
                      <a:pt x="2022" y="740"/>
                    </a:lnTo>
                    <a:lnTo>
                      <a:pt x="2038" y="716"/>
                    </a:lnTo>
                    <a:lnTo>
                      <a:pt x="2038" y="692"/>
                    </a:lnTo>
                    <a:lnTo>
                      <a:pt x="2038" y="667"/>
                    </a:lnTo>
                    <a:lnTo>
                      <a:pt x="2038" y="643"/>
                    </a:lnTo>
                    <a:lnTo>
                      <a:pt x="2038" y="619"/>
                    </a:lnTo>
                    <a:lnTo>
                      <a:pt x="2022" y="595"/>
                    </a:lnTo>
                    <a:lnTo>
                      <a:pt x="2022" y="570"/>
                    </a:lnTo>
                    <a:lnTo>
                      <a:pt x="2007" y="522"/>
                    </a:lnTo>
                    <a:lnTo>
                      <a:pt x="1992" y="486"/>
                    </a:lnTo>
                    <a:lnTo>
                      <a:pt x="1961" y="461"/>
                    </a:lnTo>
                    <a:lnTo>
                      <a:pt x="1946" y="437"/>
                    </a:lnTo>
                    <a:lnTo>
                      <a:pt x="1915" y="413"/>
                    </a:lnTo>
                    <a:lnTo>
                      <a:pt x="1885" y="389"/>
                    </a:lnTo>
                    <a:lnTo>
                      <a:pt x="1869" y="363"/>
                    </a:lnTo>
                    <a:lnTo>
                      <a:pt x="1839" y="351"/>
                    </a:lnTo>
                    <a:lnTo>
                      <a:pt x="1793" y="327"/>
                    </a:lnTo>
                    <a:lnTo>
                      <a:pt x="1762" y="315"/>
                    </a:lnTo>
                    <a:lnTo>
                      <a:pt x="1731" y="303"/>
                    </a:lnTo>
                    <a:lnTo>
                      <a:pt x="1701" y="291"/>
                    </a:lnTo>
                    <a:lnTo>
                      <a:pt x="1670" y="278"/>
                    </a:lnTo>
                    <a:lnTo>
                      <a:pt x="1640" y="266"/>
                    </a:lnTo>
                    <a:lnTo>
                      <a:pt x="1609" y="254"/>
                    </a:lnTo>
                    <a:lnTo>
                      <a:pt x="1578" y="254"/>
                    </a:lnTo>
                    <a:lnTo>
                      <a:pt x="1548" y="242"/>
                    </a:lnTo>
                    <a:lnTo>
                      <a:pt x="1517" y="230"/>
                    </a:lnTo>
                    <a:lnTo>
                      <a:pt x="1471" y="218"/>
                    </a:lnTo>
                    <a:lnTo>
                      <a:pt x="1440" y="218"/>
                    </a:lnTo>
                    <a:lnTo>
                      <a:pt x="1379" y="194"/>
                    </a:lnTo>
                    <a:lnTo>
                      <a:pt x="1348" y="181"/>
                    </a:lnTo>
                    <a:lnTo>
                      <a:pt x="1318" y="181"/>
                    </a:lnTo>
                    <a:lnTo>
                      <a:pt x="1287" y="169"/>
                    </a:lnTo>
                    <a:lnTo>
                      <a:pt x="1257" y="157"/>
                    </a:lnTo>
                    <a:lnTo>
                      <a:pt x="1226" y="145"/>
                    </a:lnTo>
                    <a:lnTo>
                      <a:pt x="1195" y="133"/>
                    </a:lnTo>
                    <a:lnTo>
                      <a:pt x="1165" y="121"/>
                    </a:lnTo>
                    <a:lnTo>
                      <a:pt x="1103" y="109"/>
                    </a:lnTo>
                    <a:lnTo>
                      <a:pt x="1073" y="84"/>
                    </a:lnTo>
                    <a:lnTo>
                      <a:pt x="1010" y="72"/>
                    </a:lnTo>
                    <a:lnTo>
                      <a:pt x="980" y="48"/>
                    </a:lnTo>
                    <a:lnTo>
                      <a:pt x="949" y="48"/>
                    </a:lnTo>
                    <a:lnTo>
                      <a:pt x="903" y="24"/>
                    </a:lnTo>
                    <a:lnTo>
                      <a:pt x="873" y="0"/>
                    </a:lnTo>
                    <a:lnTo>
                      <a:pt x="827" y="0"/>
                    </a:lnTo>
                    <a:lnTo>
                      <a:pt x="796" y="0"/>
                    </a:lnTo>
                    <a:lnTo>
                      <a:pt x="765" y="0"/>
                    </a:lnTo>
                    <a:lnTo>
                      <a:pt x="735" y="0"/>
                    </a:lnTo>
                    <a:lnTo>
                      <a:pt x="704" y="0"/>
                    </a:lnTo>
                    <a:lnTo>
                      <a:pt x="658" y="0"/>
                    </a:lnTo>
                    <a:lnTo>
                      <a:pt x="612" y="0"/>
                    </a:lnTo>
                    <a:lnTo>
                      <a:pt x="582" y="0"/>
                    </a:lnTo>
                    <a:lnTo>
                      <a:pt x="536" y="12"/>
                    </a:lnTo>
                    <a:lnTo>
                      <a:pt x="490" y="12"/>
                    </a:lnTo>
                    <a:lnTo>
                      <a:pt x="459" y="12"/>
                    </a:lnTo>
                    <a:lnTo>
                      <a:pt x="413" y="12"/>
                    </a:lnTo>
                    <a:lnTo>
                      <a:pt x="367" y="24"/>
                    </a:lnTo>
                    <a:lnTo>
                      <a:pt x="306" y="24"/>
                    </a:lnTo>
                    <a:lnTo>
                      <a:pt x="260" y="24"/>
                    </a:lnTo>
                    <a:lnTo>
                      <a:pt x="229" y="24"/>
                    </a:lnTo>
                    <a:lnTo>
                      <a:pt x="199" y="24"/>
                    </a:lnTo>
                    <a:lnTo>
                      <a:pt x="168" y="24"/>
                    </a:lnTo>
                    <a:lnTo>
                      <a:pt x="137" y="24"/>
                    </a:lnTo>
                    <a:lnTo>
                      <a:pt x="91" y="24"/>
                    </a:lnTo>
                    <a:lnTo>
                      <a:pt x="61" y="12"/>
                    </a:lnTo>
                    <a:lnTo>
                      <a:pt x="30" y="12"/>
                    </a:lnTo>
                    <a:lnTo>
                      <a:pt x="0" y="12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8960" y="5719680"/>
                <a:ext cx="243000" cy="0"/>
              </a:xfrm>
              <a:prstGeom prst="line">
                <a:avLst/>
              </a:prstGeom>
              <a:ln w="7632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1809720" y="5724360"/>
                <a:ext cx="2192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SONE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11360" y="5176800"/>
                <a:ext cx="678240" cy="246600"/>
              </a:xfrm>
              <a:custGeom>
                <a:avLst/>
                <a:gdLst/>
                <a:ahLst/>
                <a:rect l="0" t="0" r="r" b="b"/>
                <a:pathLst>
                  <a:path fill="none" w="1884" h="685">
                    <a:moveTo>
                      <a:pt x="957" y="685"/>
                    </a:moveTo>
                    <a:lnTo>
                      <a:pt x="942" y="661"/>
                    </a:lnTo>
                    <a:lnTo>
                      <a:pt x="912" y="661"/>
                    </a:lnTo>
                    <a:lnTo>
                      <a:pt x="881" y="661"/>
                    </a:lnTo>
                    <a:lnTo>
                      <a:pt x="836" y="661"/>
                    </a:lnTo>
                    <a:lnTo>
                      <a:pt x="805" y="661"/>
                    </a:lnTo>
                    <a:lnTo>
                      <a:pt x="775" y="661"/>
                    </a:lnTo>
                    <a:lnTo>
                      <a:pt x="729" y="649"/>
                    </a:lnTo>
                    <a:lnTo>
                      <a:pt x="699" y="649"/>
                    </a:lnTo>
                    <a:lnTo>
                      <a:pt x="669" y="637"/>
                    </a:lnTo>
                    <a:lnTo>
                      <a:pt x="638" y="637"/>
                    </a:lnTo>
                    <a:lnTo>
                      <a:pt x="608" y="625"/>
                    </a:lnTo>
                    <a:lnTo>
                      <a:pt x="578" y="625"/>
                    </a:lnTo>
                    <a:lnTo>
                      <a:pt x="547" y="625"/>
                    </a:lnTo>
                    <a:lnTo>
                      <a:pt x="517" y="625"/>
                    </a:lnTo>
                    <a:lnTo>
                      <a:pt x="486" y="625"/>
                    </a:lnTo>
                    <a:lnTo>
                      <a:pt x="455" y="625"/>
                    </a:lnTo>
                    <a:lnTo>
                      <a:pt x="425" y="625"/>
                    </a:lnTo>
                    <a:lnTo>
                      <a:pt x="394" y="625"/>
                    </a:lnTo>
                    <a:lnTo>
                      <a:pt x="364" y="625"/>
                    </a:lnTo>
                    <a:lnTo>
                      <a:pt x="334" y="625"/>
                    </a:lnTo>
                    <a:lnTo>
                      <a:pt x="303" y="625"/>
                    </a:lnTo>
                    <a:lnTo>
                      <a:pt x="273" y="625"/>
                    </a:lnTo>
                    <a:lnTo>
                      <a:pt x="242" y="625"/>
                    </a:lnTo>
                    <a:lnTo>
                      <a:pt x="212" y="613"/>
                    </a:lnTo>
                    <a:lnTo>
                      <a:pt x="182" y="613"/>
                    </a:lnTo>
                    <a:lnTo>
                      <a:pt x="151" y="601"/>
                    </a:lnTo>
                    <a:lnTo>
                      <a:pt x="121" y="601"/>
                    </a:lnTo>
                    <a:lnTo>
                      <a:pt x="91" y="601"/>
                    </a:lnTo>
                    <a:lnTo>
                      <a:pt x="60" y="601"/>
                    </a:lnTo>
                    <a:lnTo>
                      <a:pt x="30" y="601"/>
                    </a:lnTo>
                    <a:lnTo>
                      <a:pt x="0" y="601"/>
                    </a:lnTo>
                    <a:lnTo>
                      <a:pt x="15" y="577"/>
                    </a:lnTo>
                    <a:lnTo>
                      <a:pt x="45" y="577"/>
                    </a:lnTo>
                    <a:lnTo>
                      <a:pt x="75" y="565"/>
                    </a:lnTo>
                    <a:lnTo>
                      <a:pt x="106" y="553"/>
                    </a:lnTo>
                    <a:lnTo>
                      <a:pt x="136" y="541"/>
                    </a:lnTo>
                    <a:lnTo>
                      <a:pt x="167" y="517"/>
                    </a:lnTo>
                    <a:lnTo>
                      <a:pt x="197" y="504"/>
                    </a:lnTo>
                    <a:lnTo>
                      <a:pt x="227" y="480"/>
                    </a:lnTo>
                    <a:lnTo>
                      <a:pt x="258" y="468"/>
                    </a:lnTo>
                    <a:lnTo>
                      <a:pt x="288" y="456"/>
                    </a:lnTo>
                    <a:lnTo>
                      <a:pt x="318" y="444"/>
                    </a:lnTo>
                    <a:lnTo>
                      <a:pt x="349" y="432"/>
                    </a:lnTo>
                    <a:lnTo>
                      <a:pt x="379" y="420"/>
                    </a:lnTo>
                    <a:lnTo>
                      <a:pt x="409" y="396"/>
                    </a:lnTo>
                    <a:lnTo>
                      <a:pt x="440" y="396"/>
                    </a:lnTo>
                    <a:lnTo>
                      <a:pt x="470" y="384"/>
                    </a:lnTo>
                    <a:lnTo>
                      <a:pt x="502" y="372"/>
                    </a:lnTo>
                    <a:lnTo>
                      <a:pt x="532" y="360"/>
                    </a:lnTo>
                    <a:lnTo>
                      <a:pt x="562" y="348"/>
                    </a:lnTo>
                    <a:lnTo>
                      <a:pt x="593" y="348"/>
                    </a:lnTo>
                    <a:lnTo>
                      <a:pt x="623" y="336"/>
                    </a:lnTo>
                    <a:lnTo>
                      <a:pt x="653" y="324"/>
                    </a:lnTo>
                    <a:lnTo>
                      <a:pt x="684" y="324"/>
                    </a:lnTo>
                    <a:lnTo>
                      <a:pt x="729" y="312"/>
                    </a:lnTo>
                    <a:lnTo>
                      <a:pt x="760" y="300"/>
                    </a:lnTo>
                    <a:lnTo>
                      <a:pt x="790" y="288"/>
                    </a:lnTo>
                    <a:lnTo>
                      <a:pt x="820" y="264"/>
                    </a:lnTo>
                    <a:lnTo>
                      <a:pt x="851" y="252"/>
                    </a:lnTo>
                    <a:lnTo>
                      <a:pt x="881" y="216"/>
                    </a:lnTo>
                    <a:lnTo>
                      <a:pt x="896" y="192"/>
                    </a:lnTo>
                    <a:lnTo>
                      <a:pt x="927" y="167"/>
                    </a:lnTo>
                    <a:lnTo>
                      <a:pt x="942" y="143"/>
                    </a:lnTo>
                    <a:lnTo>
                      <a:pt x="972" y="131"/>
                    </a:lnTo>
                    <a:lnTo>
                      <a:pt x="988" y="107"/>
                    </a:lnTo>
                    <a:lnTo>
                      <a:pt x="988" y="83"/>
                    </a:lnTo>
                    <a:lnTo>
                      <a:pt x="1018" y="71"/>
                    </a:lnTo>
                    <a:lnTo>
                      <a:pt x="1018" y="47"/>
                    </a:lnTo>
                    <a:lnTo>
                      <a:pt x="1048" y="35"/>
                    </a:lnTo>
                    <a:lnTo>
                      <a:pt x="1048" y="11"/>
                    </a:lnTo>
                    <a:lnTo>
                      <a:pt x="1079" y="11"/>
                    </a:lnTo>
                    <a:lnTo>
                      <a:pt x="1109" y="0"/>
                    </a:lnTo>
                    <a:lnTo>
                      <a:pt x="1139" y="0"/>
                    </a:lnTo>
                    <a:lnTo>
                      <a:pt x="1170" y="11"/>
                    </a:lnTo>
                    <a:lnTo>
                      <a:pt x="1200" y="11"/>
                    </a:lnTo>
                    <a:lnTo>
                      <a:pt x="1230" y="23"/>
                    </a:lnTo>
                    <a:lnTo>
                      <a:pt x="1261" y="47"/>
                    </a:lnTo>
                    <a:lnTo>
                      <a:pt x="1291" y="47"/>
                    </a:lnTo>
                    <a:lnTo>
                      <a:pt x="1337" y="59"/>
                    </a:lnTo>
                    <a:lnTo>
                      <a:pt x="1367" y="71"/>
                    </a:lnTo>
                    <a:lnTo>
                      <a:pt x="1398" y="71"/>
                    </a:lnTo>
                    <a:lnTo>
                      <a:pt x="1429" y="83"/>
                    </a:lnTo>
                    <a:lnTo>
                      <a:pt x="1459" y="83"/>
                    </a:lnTo>
                    <a:lnTo>
                      <a:pt x="1490" y="95"/>
                    </a:lnTo>
                    <a:lnTo>
                      <a:pt x="1520" y="95"/>
                    </a:lnTo>
                    <a:lnTo>
                      <a:pt x="1550" y="107"/>
                    </a:lnTo>
                    <a:lnTo>
                      <a:pt x="1581" y="107"/>
                    </a:lnTo>
                    <a:lnTo>
                      <a:pt x="1626" y="119"/>
                    </a:lnTo>
                    <a:lnTo>
                      <a:pt x="1657" y="131"/>
                    </a:lnTo>
                    <a:lnTo>
                      <a:pt x="1687" y="131"/>
                    </a:lnTo>
                    <a:lnTo>
                      <a:pt x="1717" y="143"/>
                    </a:lnTo>
                    <a:lnTo>
                      <a:pt x="1748" y="155"/>
                    </a:lnTo>
                    <a:lnTo>
                      <a:pt x="1763" y="180"/>
                    </a:lnTo>
                    <a:lnTo>
                      <a:pt x="1793" y="204"/>
                    </a:lnTo>
                    <a:lnTo>
                      <a:pt x="1824" y="228"/>
                    </a:lnTo>
                    <a:lnTo>
                      <a:pt x="1854" y="240"/>
                    </a:lnTo>
                    <a:lnTo>
                      <a:pt x="1869" y="264"/>
                    </a:lnTo>
                    <a:lnTo>
                      <a:pt x="1869" y="288"/>
                    </a:lnTo>
                    <a:lnTo>
                      <a:pt x="1884" y="312"/>
                    </a:lnTo>
                    <a:lnTo>
                      <a:pt x="1884" y="336"/>
                    </a:lnTo>
                    <a:lnTo>
                      <a:pt x="1884" y="360"/>
                    </a:lnTo>
                    <a:lnTo>
                      <a:pt x="1884" y="384"/>
                    </a:lnTo>
                    <a:lnTo>
                      <a:pt x="1884" y="408"/>
                    </a:lnTo>
                    <a:lnTo>
                      <a:pt x="1869" y="432"/>
                    </a:lnTo>
                    <a:lnTo>
                      <a:pt x="1854" y="456"/>
                    </a:lnTo>
                    <a:lnTo>
                      <a:pt x="1839" y="480"/>
                    </a:lnTo>
                    <a:lnTo>
                      <a:pt x="1809" y="504"/>
                    </a:lnTo>
                    <a:lnTo>
                      <a:pt x="1778" y="517"/>
                    </a:lnTo>
                    <a:lnTo>
                      <a:pt x="1748" y="529"/>
                    </a:lnTo>
                    <a:lnTo>
                      <a:pt x="1733" y="553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21200" y="5297400"/>
                <a:ext cx="360720" cy="340200"/>
              </a:xfrm>
              <a:custGeom>
                <a:avLst/>
                <a:gdLst/>
                <a:ahLst/>
                <a:rect l="0" t="0" r="r" b="b"/>
                <a:pathLst>
                  <a:path fill="none" w="1002" h="945">
                    <a:moveTo>
                      <a:pt x="0" y="400"/>
                    </a:moveTo>
                    <a:lnTo>
                      <a:pt x="45" y="400"/>
                    </a:lnTo>
                    <a:lnTo>
                      <a:pt x="75" y="376"/>
                    </a:lnTo>
                    <a:lnTo>
                      <a:pt x="106" y="351"/>
                    </a:lnTo>
                    <a:lnTo>
                      <a:pt x="151" y="351"/>
                    </a:lnTo>
                    <a:lnTo>
                      <a:pt x="182" y="327"/>
                    </a:lnTo>
                    <a:lnTo>
                      <a:pt x="212" y="303"/>
                    </a:lnTo>
                    <a:lnTo>
                      <a:pt x="257" y="303"/>
                    </a:lnTo>
                    <a:lnTo>
                      <a:pt x="288" y="279"/>
                    </a:lnTo>
                    <a:lnTo>
                      <a:pt x="318" y="255"/>
                    </a:lnTo>
                    <a:lnTo>
                      <a:pt x="348" y="229"/>
                    </a:lnTo>
                    <a:lnTo>
                      <a:pt x="348" y="193"/>
                    </a:lnTo>
                    <a:lnTo>
                      <a:pt x="379" y="169"/>
                    </a:lnTo>
                    <a:lnTo>
                      <a:pt x="409" y="169"/>
                    </a:lnTo>
                    <a:lnTo>
                      <a:pt x="409" y="145"/>
                    </a:lnTo>
                    <a:lnTo>
                      <a:pt x="439" y="120"/>
                    </a:lnTo>
                    <a:lnTo>
                      <a:pt x="470" y="96"/>
                    </a:lnTo>
                    <a:lnTo>
                      <a:pt x="500" y="72"/>
                    </a:lnTo>
                    <a:lnTo>
                      <a:pt x="531" y="48"/>
                    </a:lnTo>
                    <a:lnTo>
                      <a:pt x="562" y="24"/>
                    </a:lnTo>
                    <a:lnTo>
                      <a:pt x="592" y="24"/>
                    </a:lnTo>
                    <a:lnTo>
                      <a:pt x="622" y="0"/>
                    </a:lnTo>
                    <a:lnTo>
                      <a:pt x="653" y="0"/>
                    </a:lnTo>
                    <a:lnTo>
                      <a:pt x="683" y="0"/>
                    </a:lnTo>
                    <a:lnTo>
                      <a:pt x="713" y="0"/>
                    </a:lnTo>
                    <a:lnTo>
                      <a:pt x="744" y="0"/>
                    </a:lnTo>
                    <a:lnTo>
                      <a:pt x="789" y="0"/>
                    </a:lnTo>
                    <a:lnTo>
                      <a:pt x="820" y="24"/>
                    </a:lnTo>
                    <a:lnTo>
                      <a:pt x="850" y="48"/>
                    </a:lnTo>
                    <a:lnTo>
                      <a:pt x="880" y="72"/>
                    </a:lnTo>
                    <a:lnTo>
                      <a:pt x="880" y="108"/>
                    </a:lnTo>
                    <a:lnTo>
                      <a:pt x="911" y="108"/>
                    </a:lnTo>
                    <a:lnTo>
                      <a:pt x="911" y="133"/>
                    </a:lnTo>
                    <a:lnTo>
                      <a:pt x="911" y="157"/>
                    </a:lnTo>
                    <a:lnTo>
                      <a:pt x="911" y="193"/>
                    </a:lnTo>
                    <a:lnTo>
                      <a:pt x="941" y="217"/>
                    </a:lnTo>
                    <a:lnTo>
                      <a:pt x="941" y="242"/>
                    </a:lnTo>
                    <a:lnTo>
                      <a:pt x="941" y="267"/>
                    </a:lnTo>
                    <a:lnTo>
                      <a:pt x="941" y="303"/>
                    </a:lnTo>
                    <a:lnTo>
                      <a:pt x="971" y="327"/>
                    </a:lnTo>
                    <a:lnTo>
                      <a:pt x="971" y="351"/>
                    </a:lnTo>
                    <a:lnTo>
                      <a:pt x="1002" y="376"/>
                    </a:lnTo>
                    <a:lnTo>
                      <a:pt x="1002" y="400"/>
                    </a:lnTo>
                    <a:lnTo>
                      <a:pt x="1002" y="424"/>
                    </a:lnTo>
                    <a:lnTo>
                      <a:pt x="1002" y="460"/>
                    </a:lnTo>
                    <a:lnTo>
                      <a:pt x="1002" y="497"/>
                    </a:lnTo>
                    <a:lnTo>
                      <a:pt x="1002" y="533"/>
                    </a:lnTo>
                    <a:lnTo>
                      <a:pt x="1002" y="569"/>
                    </a:lnTo>
                    <a:lnTo>
                      <a:pt x="1002" y="593"/>
                    </a:lnTo>
                    <a:lnTo>
                      <a:pt x="1002" y="618"/>
                    </a:lnTo>
                    <a:lnTo>
                      <a:pt x="1002" y="642"/>
                    </a:lnTo>
                    <a:lnTo>
                      <a:pt x="1002" y="678"/>
                    </a:lnTo>
                    <a:lnTo>
                      <a:pt x="971" y="702"/>
                    </a:lnTo>
                    <a:lnTo>
                      <a:pt x="971" y="752"/>
                    </a:lnTo>
                    <a:lnTo>
                      <a:pt x="941" y="776"/>
                    </a:lnTo>
                    <a:lnTo>
                      <a:pt x="911" y="800"/>
                    </a:lnTo>
                    <a:lnTo>
                      <a:pt x="880" y="824"/>
                    </a:lnTo>
                    <a:lnTo>
                      <a:pt x="850" y="848"/>
                    </a:lnTo>
                    <a:lnTo>
                      <a:pt x="820" y="873"/>
                    </a:lnTo>
                    <a:lnTo>
                      <a:pt x="789" y="897"/>
                    </a:lnTo>
                    <a:lnTo>
                      <a:pt x="759" y="921"/>
                    </a:lnTo>
                    <a:lnTo>
                      <a:pt x="729" y="945"/>
                    </a:lnTo>
                    <a:lnTo>
                      <a:pt x="698" y="945"/>
                    </a:lnTo>
                    <a:lnTo>
                      <a:pt x="668" y="945"/>
                    </a:lnTo>
                    <a:lnTo>
                      <a:pt x="622" y="945"/>
                    </a:lnTo>
                    <a:lnTo>
                      <a:pt x="577" y="945"/>
                    </a:lnTo>
                    <a:lnTo>
                      <a:pt x="531" y="945"/>
                    </a:lnTo>
                    <a:lnTo>
                      <a:pt x="500" y="945"/>
                    </a:lnTo>
                    <a:lnTo>
                      <a:pt x="470" y="945"/>
                    </a:lnTo>
                    <a:lnTo>
                      <a:pt x="424" y="945"/>
                    </a:lnTo>
                    <a:lnTo>
                      <a:pt x="424" y="921"/>
                    </a:lnTo>
                    <a:lnTo>
                      <a:pt x="394" y="897"/>
                    </a:lnTo>
                    <a:lnTo>
                      <a:pt x="364" y="873"/>
                    </a:lnTo>
                    <a:lnTo>
                      <a:pt x="333" y="848"/>
                    </a:lnTo>
                    <a:lnTo>
                      <a:pt x="303" y="824"/>
                    </a:lnTo>
                    <a:lnTo>
                      <a:pt x="273" y="800"/>
                    </a:lnTo>
                    <a:lnTo>
                      <a:pt x="242" y="776"/>
                    </a:lnTo>
                    <a:lnTo>
                      <a:pt x="242" y="740"/>
                    </a:lnTo>
                    <a:lnTo>
                      <a:pt x="212" y="740"/>
                    </a:lnTo>
                    <a:lnTo>
                      <a:pt x="182" y="715"/>
                    </a:lnTo>
                    <a:lnTo>
                      <a:pt x="151" y="690"/>
                    </a:lnTo>
                    <a:lnTo>
                      <a:pt x="121" y="666"/>
                    </a:lnTo>
                    <a:lnTo>
                      <a:pt x="91" y="642"/>
                    </a:lnTo>
                    <a:lnTo>
                      <a:pt x="60" y="618"/>
                    </a:lnTo>
                    <a:lnTo>
                      <a:pt x="30" y="593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44760" y="5450040"/>
                <a:ext cx="574920" cy="255960"/>
              </a:xfrm>
              <a:custGeom>
                <a:avLst/>
                <a:gdLst/>
                <a:ahLst/>
                <a:rect l="0" t="0" r="r" b="b"/>
                <a:pathLst>
                  <a:path fill="none" w="1597" h="711">
                    <a:moveTo>
                      <a:pt x="1141" y="24"/>
                    </a:moveTo>
                    <a:lnTo>
                      <a:pt x="1126" y="0"/>
                    </a:lnTo>
                    <a:lnTo>
                      <a:pt x="1095" y="0"/>
                    </a:lnTo>
                    <a:lnTo>
                      <a:pt x="1034" y="12"/>
                    </a:lnTo>
                    <a:lnTo>
                      <a:pt x="1004" y="24"/>
                    </a:lnTo>
                    <a:lnTo>
                      <a:pt x="958" y="24"/>
                    </a:lnTo>
                    <a:lnTo>
                      <a:pt x="928" y="24"/>
                    </a:lnTo>
                    <a:lnTo>
                      <a:pt x="882" y="24"/>
                    </a:lnTo>
                    <a:lnTo>
                      <a:pt x="837" y="36"/>
                    </a:lnTo>
                    <a:lnTo>
                      <a:pt x="790" y="36"/>
                    </a:lnTo>
                    <a:lnTo>
                      <a:pt x="760" y="36"/>
                    </a:lnTo>
                    <a:lnTo>
                      <a:pt x="729" y="36"/>
                    </a:lnTo>
                    <a:lnTo>
                      <a:pt x="699" y="36"/>
                    </a:lnTo>
                    <a:lnTo>
                      <a:pt x="668" y="24"/>
                    </a:lnTo>
                    <a:lnTo>
                      <a:pt x="638" y="24"/>
                    </a:lnTo>
                    <a:lnTo>
                      <a:pt x="608" y="24"/>
                    </a:lnTo>
                    <a:lnTo>
                      <a:pt x="577" y="24"/>
                    </a:lnTo>
                    <a:lnTo>
                      <a:pt x="547" y="24"/>
                    </a:lnTo>
                    <a:lnTo>
                      <a:pt x="516" y="24"/>
                    </a:lnTo>
                    <a:lnTo>
                      <a:pt x="486" y="12"/>
                    </a:lnTo>
                    <a:lnTo>
                      <a:pt x="456" y="12"/>
                    </a:lnTo>
                    <a:lnTo>
                      <a:pt x="425" y="12"/>
                    </a:lnTo>
                    <a:lnTo>
                      <a:pt x="395" y="12"/>
                    </a:lnTo>
                    <a:lnTo>
                      <a:pt x="364" y="12"/>
                    </a:lnTo>
                    <a:lnTo>
                      <a:pt x="334" y="12"/>
                    </a:lnTo>
                    <a:lnTo>
                      <a:pt x="304" y="12"/>
                    </a:lnTo>
                    <a:lnTo>
                      <a:pt x="273" y="12"/>
                    </a:lnTo>
                    <a:lnTo>
                      <a:pt x="243" y="12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2"/>
                    </a:lnTo>
                    <a:lnTo>
                      <a:pt x="121" y="12"/>
                    </a:lnTo>
                    <a:lnTo>
                      <a:pt x="91" y="24"/>
                    </a:lnTo>
                    <a:lnTo>
                      <a:pt x="76" y="48"/>
                    </a:lnTo>
                    <a:lnTo>
                      <a:pt x="60" y="72"/>
                    </a:lnTo>
                    <a:lnTo>
                      <a:pt x="45" y="96"/>
                    </a:lnTo>
                    <a:lnTo>
                      <a:pt x="45" y="120"/>
                    </a:lnTo>
                    <a:lnTo>
                      <a:pt x="45" y="144"/>
                    </a:lnTo>
                    <a:lnTo>
                      <a:pt x="45" y="168"/>
                    </a:lnTo>
                    <a:lnTo>
                      <a:pt x="45" y="193"/>
                    </a:lnTo>
                    <a:lnTo>
                      <a:pt x="45" y="217"/>
                    </a:lnTo>
                    <a:lnTo>
                      <a:pt x="45" y="241"/>
                    </a:lnTo>
                    <a:lnTo>
                      <a:pt x="45" y="265"/>
                    </a:lnTo>
                    <a:lnTo>
                      <a:pt x="30" y="289"/>
                    </a:lnTo>
                    <a:lnTo>
                      <a:pt x="30" y="313"/>
                    </a:lnTo>
                    <a:lnTo>
                      <a:pt x="15" y="337"/>
                    </a:lnTo>
                    <a:lnTo>
                      <a:pt x="15" y="361"/>
                    </a:lnTo>
                    <a:lnTo>
                      <a:pt x="0" y="386"/>
                    </a:lnTo>
                    <a:lnTo>
                      <a:pt x="30" y="410"/>
                    </a:lnTo>
                    <a:lnTo>
                      <a:pt x="60" y="434"/>
                    </a:lnTo>
                    <a:lnTo>
                      <a:pt x="91" y="458"/>
                    </a:lnTo>
                    <a:lnTo>
                      <a:pt x="121" y="470"/>
                    </a:lnTo>
                    <a:lnTo>
                      <a:pt x="167" y="494"/>
                    </a:lnTo>
                    <a:lnTo>
                      <a:pt x="197" y="494"/>
                    </a:lnTo>
                    <a:lnTo>
                      <a:pt x="228" y="506"/>
                    </a:lnTo>
                    <a:lnTo>
                      <a:pt x="258" y="518"/>
                    </a:lnTo>
                    <a:lnTo>
                      <a:pt x="288" y="518"/>
                    </a:lnTo>
                    <a:lnTo>
                      <a:pt x="319" y="518"/>
                    </a:lnTo>
                    <a:lnTo>
                      <a:pt x="349" y="518"/>
                    </a:lnTo>
                    <a:lnTo>
                      <a:pt x="380" y="518"/>
                    </a:lnTo>
                    <a:lnTo>
                      <a:pt x="410" y="518"/>
                    </a:lnTo>
                    <a:lnTo>
                      <a:pt x="440" y="518"/>
                    </a:lnTo>
                    <a:lnTo>
                      <a:pt x="471" y="530"/>
                    </a:lnTo>
                    <a:lnTo>
                      <a:pt x="501" y="530"/>
                    </a:lnTo>
                    <a:lnTo>
                      <a:pt x="532" y="555"/>
                    </a:lnTo>
                    <a:lnTo>
                      <a:pt x="562" y="555"/>
                    </a:lnTo>
                    <a:lnTo>
                      <a:pt x="608" y="579"/>
                    </a:lnTo>
                    <a:lnTo>
                      <a:pt x="638" y="591"/>
                    </a:lnTo>
                    <a:lnTo>
                      <a:pt x="668" y="603"/>
                    </a:lnTo>
                    <a:lnTo>
                      <a:pt x="699" y="603"/>
                    </a:lnTo>
                    <a:lnTo>
                      <a:pt x="729" y="615"/>
                    </a:lnTo>
                    <a:lnTo>
                      <a:pt x="760" y="627"/>
                    </a:lnTo>
                    <a:lnTo>
                      <a:pt x="790" y="627"/>
                    </a:lnTo>
                    <a:lnTo>
                      <a:pt x="837" y="639"/>
                    </a:lnTo>
                    <a:lnTo>
                      <a:pt x="882" y="639"/>
                    </a:lnTo>
                    <a:lnTo>
                      <a:pt x="928" y="651"/>
                    </a:lnTo>
                    <a:lnTo>
                      <a:pt x="958" y="651"/>
                    </a:lnTo>
                    <a:lnTo>
                      <a:pt x="989" y="651"/>
                    </a:lnTo>
                    <a:lnTo>
                      <a:pt x="1019" y="651"/>
                    </a:lnTo>
                    <a:lnTo>
                      <a:pt x="1050" y="651"/>
                    </a:lnTo>
                    <a:lnTo>
                      <a:pt x="1080" y="651"/>
                    </a:lnTo>
                    <a:lnTo>
                      <a:pt x="1126" y="651"/>
                    </a:lnTo>
                    <a:lnTo>
                      <a:pt x="1156" y="663"/>
                    </a:lnTo>
                    <a:lnTo>
                      <a:pt x="1186" y="663"/>
                    </a:lnTo>
                    <a:lnTo>
                      <a:pt x="1217" y="675"/>
                    </a:lnTo>
                    <a:lnTo>
                      <a:pt x="1247" y="675"/>
                    </a:lnTo>
                    <a:lnTo>
                      <a:pt x="1278" y="687"/>
                    </a:lnTo>
                    <a:lnTo>
                      <a:pt x="1323" y="687"/>
                    </a:lnTo>
                    <a:lnTo>
                      <a:pt x="1354" y="699"/>
                    </a:lnTo>
                    <a:lnTo>
                      <a:pt x="1384" y="699"/>
                    </a:lnTo>
                    <a:lnTo>
                      <a:pt x="1414" y="711"/>
                    </a:lnTo>
                    <a:lnTo>
                      <a:pt x="1445" y="699"/>
                    </a:lnTo>
                    <a:lnTo>
                      <a:pt x="1460" y="675"/>
                    </a:lnTo>
                    <a:lnTo>
                      <a:pt x="1490" y="663"/>
                    </a:lnTo>
                    <a:lnTo>
                      <a:pt x="1506" y="639"/>
                    </a:lnTo>
                    <a:lnTo>
                      <a:pt x="1506" y="615"/>
                    </a:lnTo>
                    <a:lnTo>
                      <a:pt x="1521" y="591"/>
                    </a:lnTo>
                    <a:lnTo>
                      <a:pt x="1521" y="567"/>
                    </a:lnTo>
                    <a:lnTo>
                      <a:pt x="1506" y="543"/>
                    </a:lnTo>
                    <a:lnTo>
                      <a:pt x="1506" y="518"/>
                    </a:lnTo>
                    <a:lnTo>
                      <a:pt x="1506" y="494"/>
                    </a:lnTo>
                    <a:lnTo>
                      <a:pt x="1506" y="470"/>
                    </a:lnTo>
                    <a:lnTo>
                      <a:pt x="1506" y="446"/>
                    </a:lnTo>
                    <a:lnTo>
                      <a:pt x="1521" y="422"/>
                    </a:lnTo>
                    <a:lnTo>
                      <a:pt x="1521" y="398"/>
                    </a:lnTo>
                    <a:lnTo>
                      <a:pt x="1536" y="374"/>
                    </a:lnTo>
                    <a:lnTo>
                      <a:pt x="1536" y="349"/>
                    </a:lnTo>
                    <a:lnTo>
                      <a:pt x="1551" y="325"/>
                    </a:lnTo>
                    <a:lnTo>
                      <a:pt x="1566" y="301"/>
                    </a:lnTo>
                    <a:lnTo>
                      <a:pt x="1582" y="277"/>
                    </a:lnTo>
                    <a:lnTo>
                      <a:pt x="1582" y="253"/>
                    </a:lnTo>
                    <a:lnTo>
                      <a:pt x="1597" y="229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8960" y="5821200"/>
                <a:ext cx="24300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1784520" y="5830920"/>
                <a:ext cx="20808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fc0128"/>
                    </a:solidFill>
                    <a:latin typeface="Palatino"/>
                    <a:ea typeface="Palatino"/>
                  </a:rPr>
                  <a:t>Analo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43280" y="5021280"/>
                <a:ext cx="1178280" cy="941760"/>
              </a:xfrm>
              <a:custGeom>
                <a:avLst/>
                <a:gdLst/>
                <a:ahLst/>
                <a:rect l="0" t="0" r="r" b="b"/>
                <a:pathLst>
                  <a:path fill="none" w="3273" h="2616">
                    <a:moveTo>
                      <a:pt x="1872" y="2616"/>
                    </a:moveTo>
                    <a:lnTo>
                      <a:pt x="1903" y="2616"/>
                    </a:lnTo>
                    <a:lnTo>
                      <a:pt x="1933" y="2592"/>
                    </a:lnTo>
                    <a:lnTo>
                      <a:pt x="1964" y="2568"/>
                    </a:lnTo>
                    <a:lnTo>
                      <a:pt x="1994" y="2544"/>
                    </a:lnTo>
                    <a:lnTo>
                      <a:pt x="1994" y="2508"/>
                    </a:lnTo>
                    <a:lnTo>
                      <a:pt x="2025" y="2484"/>
                    </a:lnTo>
                    <a:lnTo>
                      <a:pt x="2025" y="2448"/>
                    </a:lnTo>
                    <a:lnTo>
                      <a:pt x="2055" y="2448"/>
                    </a:lnTo>
                    <a:lnTo>
                      <a:pt x="2055" y="2424"/>
                    </a:lnTo>
                    <a:lnTo>
                      <a:pt x="2085" y="2400"/>
                    </a:lnTo>
                    <a:lnTo>
                      <a:pt x="2085" y="2375"/>
                    </a:lnTo>
                    <a:lnTo>
                      <a:pt x="2116" y="2351"/>
                    </a:lnTo>
                    <a:lnTo>
                      <a:pt x="2146" y="2327"/>
                    </a:lnTo>
                    <a:lnTo>
                      <a:pt x="2146" y="2303"/>
                    </a:lnTo>
                    <a:lnTo>
                      <a:pt x="2177" y="2279"/>
                    </a:lnTo>
                    <a:lnTo>
                      <a:pt x="2177" y="2243"/>
                    </a:lnTo>
                    <a:lnTo>
                      <a:pt x="2207" y="2219"/>
                    </a:lnTo>
                    <a:lnTo>
                      <a:pt x="2238" y="2195"/>
                    </a:lnTo>
                    <a:lnTo>
                      <a:pt x="2268" y="2171"/>
                    </a:lnTo>
                    <a:lnTo>
                      <a:pt x="2299" y="2146"/>
                    </a:lnTo>
                    <a:lnTo>
                      <a:pt x="2329" y="2122"/>
                    </a:lnTo>
                    <a:lnTo>
                      <a:pt x="2359" y="2098"/>
                    </a:lnTo>
                    <a:lnTo>
                      <a:pt x="2390" y="2074"/>
                    </a:lnTo>
                    <a:lnTo>
                      <a:pt x="2420" y="2050"/>
                    </a:lnTo>
                    <a:lnTo>
                      <a:pt x="2451" y="2050"/>
                    </a:lnTo>
                    <a:lnTo>
                      <a:pt x="2481" y="2026"/>
                    </a:lnTo>
                    <a:lnTo>
                      <a:pt x="2512" y="2026"/>
                    </a:lnTo>
                    <a:lnTo>
                      <a:pt x="2542" y="2002"/>
                    </a:lnTo>
                    <a:lnTo>
                      <a:pt x="2572" y="2002"/>
                    </a:lnTo>
                    <a:lnTo>
                      <a:pt x="2618" y="2002"/>
                    </a:lnTo>
                    <a:lnTo>
                      <a:pt x="2649" y="2002"/>
                    </a:lnTo>
                    <a:lnTo>
                      <a:pt x="2679" y="2002"/>
                    </a:lnTo>
                    <a:lnTo>
                      <a:pt x="2725" y="2002"/>
                    </a:lnTo>
                    <a:lnTo>
                      <a:pt x="2770" y="2002"/>
                    </a:lnTo>
                    <a:lnTo>
                      <a:pt x="2801" y="2026"/>
                    </a:lnTo>
                    <a:lnTo>
                      <a:pt x="2831" y="2026"/>
                    </a:lnTo>
                    <a:lnTo>
                      <a:pt x="2877" y="2026"/>
                    </a:lnTo>
                    <a:lnTo>
                      <a:pt x="2922" y="2026"/>
                    </a:lnTo>
                    <a:lnTo>
                      <a:pt x="2968" y="2026"/>
                    </a:lnTo>
                    <a:lnTo>
                      <a:pt x="3029" y="2026"/>
                    </a:lnTo>
                    <a:lnTo>
                      <a:pt x="3075" y="2026"/>
                    </a:lnTo>
                    <a:lnTo>
                      <a:pt x="3120" y="2026"/>
                    </a:lnTo>
                    <a:lnTo>
                      <a:pt x="3151" y="2026"/>
                    </a:lnTo>
                    <a:lnTo>
                      <a:pt x="3181" y="2002"/>
                    </a:lnTo>
                    <a:lnTo>
                      <a:pt x="3212" y="2002"/>
                    </a:lnTo>
                    <a:lnTo>
                      <a:pt x="3242" y="1978"/>
                    </a:lnTo>
                    <a:lnTo>
                      <a:pt x="3273" y="1953"/>
                    </a:lnTo>
                    <a:lnTo>
                      <a:pt x="3273" y="1929"/>
                    </a:lnTo>
                    <a:lnTo>
                      <a:pt x="3273" y="1892"/>
                    </a:lnTo>
                    <a:lnTo>
                      <a:pt x="3273" y="1856"/>
                    </a:lnTo>
                    <a:lnTo>
                      <a:pt x="3273" y="1820"/>
                    </a:lnTo>
                    <a:lnTo>
                      <a:pt x="3273" y="1796"/>
                    </a:lnTo>
                    <a:lnTo>
                      <a:pt x="3273" y="1772"/>
                    </a:lnTo>
                    <a:lnTo>
                      <a:pt x="3273" y="1748"/>
                    </a:lnTo>
                    <a:lnTo>
                      <a:pt x="3273" y="1724"/>
                    </a:lnTo>
                    <a:lnTo>
                      <a:pt x="3273" y="1700"/>
                    </a:lnTo>
                    <a:lnTo>
                      <a:pt x="3273" y="1676"/>
                    </a:lnTo>
                    <a:lnTo>
                      <a:pt x="3273" y="1651"/>
                    </a:lnTo>
                    <a:lnTo>
                      <a:pt x="3273" y="1627"/>
                    </a:lnTo>
                    <a:lnTo>
                      <a:pt x="3242" y="1603"/>
                    </a:lnTo>
                    <a:lnTo>
                      <a:pt x="3242" y="1579"/>
                    </a:lnTo>
                    <a:lnTo>
                      <a:pt x="3212" y="1555"/>
                    </a:lnTo>
                    <a:lnTo>
                      <a:pt x="3181" y="1531"/>
                    </a:lnTo>
                    <a:lnTo>
                      <a:pt x="3181" y="1495"/>
                    </a:lnTo>
                    <a:lnTo>
                      <a:pt x="3151" y="1495"/>
                    </a:lnTo>
                    <a:lnTo>
                      <a:pt x="3120" y="1471"/>
                    </a:lnTo>
                    <a:lnTo>
                      <a:pt x="3090" y="1447"/>
                    </a:lnTo>
                    <a:lnTo>
                      <a:pt x="3059" y="1422"/>
                    </a:lnTo>
                    <a:lnTo>
                      <a:pt x="3014" y="1422"/>
                    </a:lnTo>
                    <a:lnTo>
                      <a:pt x="3014" y="1398"/>
                    </a:lnTo>
                    <a:lnTo>
                      <a:pt x="2968" y="1398"/>
                    </a:lnTo>
                    <a:lnTo>
                      <a:pt x="2968" y="1374"/>
                    </a:lnTo>
                    <a:lnTo>
                      <a:pt x="2938" y="1374"/>
                    </a:lnTo>
                    <a:lnTo>
                      <a:pt x="2907" y="1374"/>
                    </a:lnTo>
                    <a:lnTo>
                      <a:pt x="2862" y="1374"/>
                    </a:lnTo>
                    <a:lnTo>
                      <a:pt x="2831" y="1350"/>
                    </a:lnTo>
                    <a:lnTo>
                      <a:pt x="2801" y="1350"/>
                    </a:lnTo>
                    <a:lnTo>
                      <a:pt x="2770" y="1350"/>
                    </a:lnTo>
                    <a:lnTo>
                      <a:pt x="2740" y="1326"/>
                    </a:lnTo>
                    <a:lnTo>
                      <a:pt x="2694" y="1326"/>
                    </a:lnTo>
                    <a:lnTo>
                      <a:pt x="2694" y="1302"/>
                    </a:lnTo>
                    <a:lnTo>
                      <a:pt x="2664" y="1278"/>
                    </a:lnTo>
                    <a:lnTo>
                      <a:pt x="2633" y="1254"/>
                    </a:lnTo>
                    <a:lnTo>
                      <a:pt x="2603" y="1230"/>
                    </a:lnTo>
                    <a:lnTo>
                      <a:pt x="2603" y="1194"/>
                    </a:lnTo>
                    <a:lnTo>
                      <a:pt x="2572" y="1169"/>
                    </a:lnTo>
                    <a:lnTo>
                      <a:pt x="2542" y="1145"/>
                    </a:lnTo>
                    <a:lnTo>
                      <a:pt x="2542" y="1109"/>
                    </a:lnTo>
                    <a:lnTo>
                      <a:pt x="2512" y="1085"/>
                    </a:lnTo>
                    <a:lnTo>
                      <a:pt x="2481" y="1061"/>
                    </a:lnTo>
                    <a:lnTo>
                      <a:pt x="2451" y="1037"/>
                    </a:lnTo>
                    <a:lnTo>
                      <a:pt x="2451" y="1013"/>
                    </a:lnTo>
                    <a:lnTo>
                      <a:pt x="2420" y="1013"/>
                    </a:lnTo>
                    <a:lnTo>
                      <a:pt x="2420" y="989"/>
                    </a:lnTo>
                    <a:lnTo>
                      <a:pt x="2390" y="989"/>
                    </a:lnTo>
                    <a:lnTo>
                      <a:pt x="2344" y="989"/>
                    </a:lnTo>
                    <a:lnTo>
                      <a:pt x="2299" y="989"/>
                    </a:lnTo>
                    <a:lnTo>
                      <a:pt x="2253" y="989"/>
                    </a:lnTo>
                    <a:lnTo>
                      <a:pt x="2253" y="965"/>
                    </a:lnTo>
                    <a:lnTo>
                      <a:pt x="2222" y="965"/>
                    </a:lnTo>
                    <a:lnTo>
                      <a:pt x="2192" y="965"/>
                    </a:lnTo>
                    <a:lnTo>
                      <a:pt x="2162" y="965"/>
                    </a:lnTo>
                    <a:lnTo>
                      <a:pt x="2116" y="965"/>
                    </a:lnTo>
                    <a:lnTo>
                      <a:pt x="2085" y="940"/>
                    </a:lnTo>
                    <a:lnTo>
                      <a:pt x="2055" y="940"/>
                    </a:lnTo>
                    <a:lnTo>
                      <a:pt x="2025" y="940"/>
                    </a:lnTo>
                    <a:lnTo>
                      <a:pt x="1979" y="940"/>
                    </a:lnTo>
                    <a:lnTo>
                      <a:pt x="1979" y="916"/>
                    </a:lnTo>
                    <a:lnTo>
                      <a:pt x="1948" y="892"/>
                    </a:lnTo>
                    <a:lnTo>
                      <a:pt x="1948" y="868"/>
                    </a:lnTo>
                    <a:lnTo>
                      <a:pt x="1948" y="832"/>
                    </a:lnTo>
                    <a:lnTo>
                      <a:pt x="1918" y="808"/>
                    </a:lnTo>
                    <a:lnTo>
                      <a:pt x="1918" y="784"/>
                    </a:lnTo>
                    <a:lnTo>
                      <a:pt x="1918" y="760"/>
                    </a:lnTo>
                    <a:lnTo>
                      <a:pt x="1918" y="736"/>
                    </a:lnTo>
                    <a:lnTo>
                      <a:pt x="1918" y="711"/>
                    </a:lnTo>
                    <a:lnTo>
                      <a:pt x="1918" y="687"/>
                    </a:lnTo>
                    <a:lnTo>
                      <a:pt x="1918" y="663"/>
                    </a:lnTo>
                    <a:lnTo>
                      <a:pt x="1918" y="638"/>
                    </a:lnTo>
                    <a:lnTo>
                      <a:pt x="1918" y="614"/>
                    </a:lnTo>
                    <a:lnTo>
                      <a:pt x="1918" y="590"/>
                    </a:lnTo>
                    <a:lnTo>
                      <a:pt x="1918" y="554"/>
                    </a:lnTo>
                    <a:lnTo>
                      <a:pt x="1918" y="518"/>
                    </a:lnTo>
                    <a:lnTo>
                      <a:pt x="1888" y="494"/>
                    </a:lnTo>
                    <a:lnTo>
                      <a:pt x="1888" y="457"/>
                    </a:lnTo>
                    <a:lnTo>
                      <a:pt x="1857" y="433"/>
                    </a:lnTo>
                    <a:lnTo>
                      <a:pt x="1857" y="397"/>
                    </a:lnTo>
                    <a:lnTo>
                      <a:pt x="1827" y="397"/>
                    </a:lnTo>
                    <a:lnTo>
                      <a:pt x="1796" y="373"/>
                    </a:lnTo>
                    <a:lnTo>
                      <a:pt x="1766" y="349"/>
                    </a:lnTo>
                    <a:lnTo>
                      <a:pt x="1735" y="325"/>
                    </a:lnTo>
                    <a:lnTo>
                      <a:pt x="1705" y="301"/>
                    </a:lnTo>
                    <a:lnTo>
                      <a:pt x="1675" y="277"/>
                    </a:lnTo>
                    <a:lnTo>
                      <a:pt x="1628" y="277"/>
                    </a:lnTo>
                    <a:lnTo>
                      <a:pt x="1628" y="253"/>
                    </a:lnTo>
                    <a:lnTo>
                      <a:pt x="1597" y="253"/>
                    </a:lnTo>
                    <a:lnTo>
                      <a:pt x="1552" y="253"/>
                    </a:lnTo>
                    <a:lnTo>
                      <a:pt x="1521" y="228"/>
                    </a:lnTo>
                    <a:lnTo>
                      <a:pt x="1491" y="228"/>
                    </a:lnTo>
                    <a:lnTo>
                      <a:pt x="1460" y="204"/>
                    </a:lnTo>
                    <a:lnTo>
                      <a:pt x="1430" y="204"/>
                    </a:lnTo>
                    <a:lnTo>
                      <a:pt x="1384" y="204"/>
                    </a:lnTo>
                    <a:lnTo>
                      <a:pt x="1354" y="180"/>
                    </a:lnTo>
                    <a:lnTo>
                      <a:pt x="1308" y="180"/>
                    </a:lnTo>
                    <a:lnTo>
                      <a:pt x="1278" y="156"/>
                    </a:lnTo>
                    <a:lnTo>
                      <a:pt x="1247" y="132"/>
                    </a:lnTo>
                    <a:lnTo>
                      <a:pt x="1217" y="132"/>
                    </a:lnTo>
                    <a:lnTo>
                      <a:pt x="1187" y="108"/>
                    </a:lnTo>
                    <a:lnTo>
                      <a:pt x="1156" y="108"/>
                    </a:lnTo>
                    <a:lnTo>
                      <a:pt x="1126" y="84"/>
                    </a:lnTo>
                    <a:lnTo>
                      <a:pt x="1080" y="84"/>
                    </a:lnTo>
                    <a:lnTo>
                      <a:pt x="1034" y="48"/>
                    </a:lnTo>
                    <a:lnTo>
                      <a:pt x="1004" y="48"/>
                    </a:lnTo>
                    <a:lnTo>
                      <a:pt x="958" y="48"/>
                    </a:lnTo>
                    <a:lnTo>
                      <a:pt x="928" y="24"/>
                    </a:lnTo>
                    <a:lnTo>
                      <a:pt x="897" y="24"/>
                    </a:lnTo>
                    <a:lnTo>
                      <a:pt x="867" y="24"/>
                    </a:lnTo>
                    <a:lnTo>
                      <a:pt x="821" y="24"/>
                    </a:lnTo>
                    <a:lnTo>
                      <a:pt x="791" y="0"/>
                    </a:lnTo>
                    <a:lnTo>
                      <a:pt x="760" y="0"/>
                    </a:lnTo>
                    <a:lnTo>
                      <a:pt x="730" y="0"/>
                    </a:lnTo>
                    <a:lnTo>
                      <a:pt x="700" y="0"/>
                    </a:lnTo>
                    <a:lnTo>
                      <a:pt x="669" y="0"/>
                    </a:lnTo>
                    <a:lnTo>
                      <a:pt x="639" y="0"/>
                    </a:lnTo>
                    <a:lnTo>
                      <a:pt x="593" y="0"/>
                    </a:lnTo>
                    <a:lnTo>
                      <a:pt x="532" y="0"/>
                    </a:lnTo>
                    <a:lnTo>
                      <a:pt x="502" y="24"/>
                    </a:lnTo>
                    <a:lnTo>
                      <a:pt x="471" y="24"/>
                    </a:lnTo>
                    <a:lnTo>
                      <a:pt x="441" y="24"/>
                    </a:lnTo>
                    <a:lnTo>
                      <a:pt x="395" y="24"/>
                    </a:lnTo>
                    <a:lnTo>
                      <a:pt x="365" y="48"/>
                    </a:lnTo>
                    <a:lnTo>
                      <a:pt x="319" y="48"/>
                    </a:lnTo>
                    <a:lnTo>
                      <a:pt x="289" y="48"/>
                    </a:lnTo>
                    <a:lnTo>
                      <a:pt x="243" y="48"/>
                    </a:lnTo>
                    <a:lnTo>
                      <a:pt x="213" y="48"/>
                    </a:lnTo>
                    <a:lnTo>
                      <a:pt x="182" y="48"/>
                    </a:lnTo>
                    <a:lnTo>
                      <a:pt x="152" y="48"/>
                    </a:lnTo>
                    <a:lnTo>
                      <a:pt x="121" y="48"/>
                    </a:lnTo>
                    <a:lnTo>
                      <a:pt x="91" y="48"/>
                    </a:lnTo>
                    <a:lnTo>
                      <a:pt x="60" y="48"/>
                    </a:lnTo>
                    <a:lnTo>
                      <a:pt x="30" y="48"/>
                    </a:lnTo>
                    <a:lnTo>
                      <a:pt x="0" y="48"/>
                    </a:lnTo>
                  </a:path>
                </a:pathLst>
              </a:custGeom>
              <a:ln w="38160">
                <a:solidFill>
                  <a:srgbClr val="51dc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8960" y="5545080"/>
                <a:ext cx="243000" cy="0"/>
              </a:xfrm>
              <a:prstGeom prst="line">
                <a:avLst/>
              </a:prstGeom>
              <a:ln w="7632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739880" y="5551560"/>
                <a:ext cx="365040" cy="2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51dc00"/>
                    </a:solidFill>
                    <a:latin typeface="Palatino"/>
                    <a:ea typeface="Palatino"/>
                  </a:rPr>
                  <a:t>Digital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51dc00"/>
                    </a:solidFill>
                    <a:latin typeface="Palatino"/>
                    <a:ea typeface="Palatino"/>
                  </a:rPr>
                  <a:t>entertainm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2373480" y="5640480"/>
                <a:ext cx="222120" cy="145800"/>
                <a:chOff x="2373480" y="5640480"/>
                <a:chExt cx="222120" cy="1458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373480" y="5649840"/>
                  <a:ext cx="222120" cy="1364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>
                  <a:off x="2401920" y="564048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86000" y="5187960"/>
                <a:ext cx="220680" cy="149400"/>
                <a:chOff x="2286000" y="5187960"/>
                <a:chExt cx="220680" cy="1494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286000" y="5199120"/>
                  <a:ext cx="220680" cy="1382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 txBox="1"/>
                <p:nvPr/>
              </p:nvSpPr>
              <p:spPr>
                <a:xfrm>
                  <a:off x="2311560" y="5187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792520" y="4998960"/>
                <a:ext cx="216000" cy="146160"/>
                <a:chOff x="2792520" y="4998960"/>
                <a:chExt cx="216000" cy="146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792520" y="5008680"/>
                  <a:ext cx="216000" cy="1364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 txBox="1"/>
                <p:nvPr/>
              </p:nvSpPr>
              <p:spPr>
                <a:xfrm>
                  <a:off x="2814480" y="4998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381480" y="5135400"/>
                <a:ext cx="220680" cy="149400"/>
                <a:chOff x="3381480" y="5135400"/>
                <a:chExt cx="220680" cy="1494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381480" y="5145120"/>
                  <a:ext cx="220680" cy="13968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3408480" y="513540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703600" y="5284800"/>
                <a:ext cx="461880" cy="328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2768760" y="5362560"/>
                <a:ext cx="330120" cy="147600"/>
                <a:chOff x="2768760" y="5362560"/>
                <a:chExt cx="330120" cy="1476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768760" y="5373720"/>
                  <a:ext cx="330120" cy="136440"/>
                </a:xfrm>
                <a:prstGeom prst="rect">
                  <a:avLst/>
                </a:prstGeom>
                <a:solidFill>
                  <a:srgbClr val="f6bf69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 txBox="1"/>
                <p:nvPr/>
              </p:nvSpPr>
              <p:spPr>
                <a:xfrm>
                  <a:off x="2773440" y="5362560"/>
                  <a:ext cx="249120" cy="139680"/>
                </a:xfrm>
                <a:prstGeom prst="rect">
                  <a:avLst/>
                </a:prstGeom>
                <a:solidFill>
                  <a:srgbClr val="f6bf69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Primary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eadend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2620800" y="5581800"/>
                <a:ext cx="549720" cy="444960"/>
              </a:xfrm>
              <a:custGeom>
                <a:avLst/>
                <a:gdLst/>
                <a:ahLst/>
                <a:rect l="0" t="0" r="r" b="b"/>
                <a:pathLst>
                  <a:path fill="none" w="1527" h="1236">
                    <a:moveTo>
                      <a:pt x="1512" y="0"/>
                    </a:moveTo>
                    <a:lnTo>
                      <a:pt x="1481" y="0"/>
                    </a:lnTo>
                    <a:lnTo>
                      <a:pt x="1512" y="83"/>
                    </a:lnTo>
                    <a:lnTo>
                      <a:pt x="1527" y="107"/>
                    </a:lnTo>
                    <a:lnTo>
                      <a:pt x="1527" y="131"/>
                    </a:lnTo>
                    <a:lnTo>
                      <a:pt x="1527" y="155"/>
                    </a:lnTo>
                    <a:lnTo>
                      <a:pt x="1512" y="179"/>
                    </a:lnTo>
                    <a:lnTo>
                      <a:pt x="1497" y="203"/>
                    </a:lnTo>
                    <a:lnTo>
                      <a:pt x="1481" y="227"/>
                    </a:lnTo>
                    <a:lnTo>
                      <a:pt x="1451" y="239"/>
                    </a:lnTo>
                    <a:lnTo>
                      <a:pt x="1436" y="263"/>
                    </a:lnTo>
                    <a:lnTo>
                      <a:pt x="1420" y="287"/>
                    </a:lnTo>
                    <a:lnTo>
                      <a:pt x="1405" y="312"/>
                    </a:lnTo>
                    <a:lnTo>
                      <a:pt x="1405" y="348"/>
                    </a:lnTo>
                    <a:lnTo>
                      <a:pt x="1405" y="372"/>
                    </a:lnTo>
                    <a:lnTo>
                      <a:pt x="1405" y="396"/>
                    </a:lnTo>
                    <a:lnTo>
                      <a:pt x="1405" y="420"/>
                    </a:lnTo>
                    <a:lnTo>
                      <a:pt x="1390" y="444"/>
                    </a:lnTo>
                    <a:lnTo>
                      <a:pt x="1390" y="516"/>
                    </a:lnTo>
                    <a:lnTo>
                      <a:pt x="1359" y="528"/>
                    </a:lnTo>
                    <a:lnTo>
                      <a:pt x="1314" y="540"/>
                    </a:lnTo>
                    <a:lnTo>
                      <a:pt x="1283" y="552"/>
                    </a:lnTo>
                    <a:lnTo>
                      <a:pt x="1253" y="552"/>
                    </a:lnTo>
                    <a:lnTo>
                      <a:pt x="1222" y="552"/>
                    </a:lnTo>
                    <a:lnTo>
                      <a:pt x="1192" y="552"/>
                    </a:lnTo>
                    <a:lnTo>
                      <a:pt x="977" y="552"/>
                    </a:lnTo>
                    <a:lnTo>
                      <a:pt x="946" y="552"/>
                    </a:lnTo>
                    <a:lnTo>
                      <a:pt x="840" y="564"/>
                    </a:lnTo>
                    <a:lnTo>
                      <a:pt x="809" y="576"/>
                    </a:lnTo>
                    <a:lnTo>
                      <a:pt x="779" y="576"/>
                    </a:lnTo>
                    <a:lnTo>
                      <a:pt x="748" y="576"/>
                    </a:lnTo>
                    <a:lnTo>
                      <a:pt x="718" y="588"/>
                    </a:lnTo>
                    <a:lnTo>
                      <a:pt x="687" y="588"/>
                    </a:lnTo>
                    <a:lnTo>
                      <a:pt x="657" y="588"/>
                    </a:lnTo>
                    <a:lnTo>
                      <a:pt x="626" y="600"/>
                    </a:lnTo>
                    <a:lnTo>
                      <a:pt x="596" y="600"/>
                    </a:lnTo>
                    <a:lnTo>
                      <a:pt x="565" y="600"/>
                    </a:lnTo>
                    <a:lnTo>
                      <a:pt x="535" y="612"/>
                    </a:lnTo>
                    <a:lnTo>
                      <a:pt x="504" y="612"/>
                    </a:lnTo>
                    <a:lnTo>
                      <a:pt x="473" y="624"/>
                    </a:lnTo>
                    <a:lnTo>
                      <a:pt x="458" y="648"/>
                    </a:lnTo>
                    <a:lnTo>
                      <a:pt x="428" y="648"/>
                    </a:lnTo>
                    <a:lnTo>
                      <a:pt x="412" y="672"/>
                    </a:lnTo>
                    <a:lnTo>
                      <a:pt x="397" y="696"/>
                    </a:lnTo>
                    <a:lnTo>
                      <a:pt x="381" y="720"/>
                    </a:lnTo>
                    <a:lnTo>
                      <a:pt x="366" y="744"/>
                    </a:lnTo>
                    <a:lnTo>
                      <a:pt x="335" y="780"/>
                    </a:lnTo>
                    <a:lnTo>
                      <a:pt x="320" y="804"/>
                    </a:lnTo>
                    <a:lnTo>
                      <a:pt x="320" y="828"/>
                    </a:lnTo>
                    <a:lnTo>
                      <a:pt x="289" y="852"/>
                    </a:lnTo>
                    <a:lnTo>
                      <a:pt x="274" y="876"/>
                    </a:lnTo>
                    <a:lnTo>
                      <a:pt x="259" y="900"/>
                    </a:lnTo>
                    <a:lnTo>
                      <a:pt x="244" y="924"/>
                    </a:lnTo>
                    <a:lnTo>
                      <a:pt x="167" y="1020"/>
                    </a:lnTo>
                    <a:lnTo>
                      <a:pt x="152" y="1044"/>
                    </a:lnTo>
                    <a:lnTo>
                      <a:pt x="137" y="1068"/>
                    </a:lnTo>
                    <a:lnTo>
                      <a:pt x="106" y="1092"/>
                    </a:lnTo>
                    <a:lnTo>
                      <a:pt x="91" y="1116"/>
                    </a:lnTo>
                    <a:lnTo>
                      <a:pt x="76" y="1140"/>
                    </a:lnTo>
                    <a:lnTo>
                      <a:pt x="61" y="1164"/>
                    </a:lnTo>
                    <a:lnTo>
                      <a:pt x="30" y="1188"/>
                    </a:lnTo>
                    <a:lnTo>
                      <a:pt x="0" y="1236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749680" y="5500800"/>
                <a:ext cx="2649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300,0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91080" y="5475240"/>
                <a:ext cx="87480" cy="6984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3920" y="5634000"/>
                <a:ext cx="92160" cy="684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24120" y="5719680"/>
                <a:ext cx="88920" cy="666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3602160" y="5510160"/>
                <a:ext cx="88920" cy="3492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02160" y="5597640"/>
                <a:ext cx="131760" cy="5220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35200" y="5634000"/>
                <a:ext cx="88920" cy="12060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78200" y="5510160"/>
                <a:ext cx="200160" cy="1908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3906720" y="5442120"/>
                <a:ext cx="46080" cy="8712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25720" y="5665680"/>
                <a:ext cx="193680" cy="540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3720" y="5702400"/>
                <a:ext cx="19080" cy="6804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13040" y="5754600"/>
                <a:ext cx="152640" cy="11916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801960" y="5805360"/>
                <a:ext cx="85680" cy="1584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78200" y="5805360"/>
                <a:ext cx="0" cy="684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3720" y="5529240"/>
                <a:ext cx="44640" cy="684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3693960" y="5381640"/>
                <a:ext cx="13320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75000"/>
                  </a:lnSpc>
                </a:pPr>
                <a:r>
                  <a:rPr b="1" lang="en-US" sz="3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Fiber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</a:pPr>
                <a:r>
                  <a:rPr b="1" lang="en-US" sz="3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Node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3693960" y="5533920"/>
                <a:ext cx="1760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5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381480" y="5484960"/>
                <a:ext cx="220680" cy="149040"/>
                <a:chOff x="3381480" y="5484960"/>
                <a:chExt cx="220680" cy="149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81480" y="5494320"/>
                  <a:ext cx="220680" cy="13968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3386160" y="5484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 txBox="1"/>
              <p:nvPr/>
            </p:nvSpPr>
            <p:spPr>
              <a:xfrm>
                <a:off x="3408480" y="5619600"/>
                <a:ext cx="2397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20,0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946240" y="5692680"/>
                <a:ext cx="219240" cy="147960"/>
                <a:chOff x="2946240" y="5692680"/>
                <a:chExt cx="219240" cy="1479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946240" y="5702400"/>
                  <a:ext cx="219240" cy="1382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2970360" y="569268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2" name="" descr=""/>
            <p:cNvPicPr/>
            <p:nvPr/>
          </p:nvPicPr>
          <p:blipFill>
            <a:blip r:embed="rId21"/>
            <a:stretch/>
          </p:blipFill>
          <p:spPr>
            <a:xfrm>
              <a:off x="3917880" y="51973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2"/>
            <a:stretch/>
          </p:blipFill>
          <p:spPr>
            <a:xfrm>
              <a:off x="2882880" y="6188040"/>
              <a:ext cx="75564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3"/>
            <a:stretch/>
          </p:blipFill>
          <p:spPr>
            <a:xfrm>
              <a:off x="4299120" y="58831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4"/>
            <a:stretch/>
          </p:blipFill>
          <p:spPr>
            <a:xfrm>
              <a:off x="3689280" y="48927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5"/>
            <a:stretch/>
          </p:blipFill>
          <p:spPr>
            <a:xfrm>
              <a:off x="3765600" y="58831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6"/>
            <a:stretch/>
          </p:blipFill>
          <p:spPr>
            <a:xfrm>
              <a:off x="1555920" y="48927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7"/>
            <a:stretch/>
          </p:blipFill>
          <p:spPr>
            <a:xfrm>
              <a:off x="4070520" y="618804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8"/>
            <a:stretch/>
          </p:blipFill>
          <p:spPr>
            <a:xfrm>
              <a:off x="4070520" y="55785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9"/>
            <a:stretch/>
          </p:blipFill>
          <p:spPr>
            <a:xfrm>
              <a:off x="2013120" y="58071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0"/>
            <a:stretch/>
          </p:blipFill>
          <p:spPr>
            <a:xfrm>
              <a:off x="1784520" y="51213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flipH="1">
              <a:off x="2190600" y="5492880"/>
              <a:ext cx="685800" cy="9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29040" y="5492880"/>
              <a:ext cx="2286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31"/>
            <a:stretch/>
          </p:blipFill>
          <p:spPr>
            <a:xfrm>
              <a:off x="3905280" y="6283440"/>
              <a:ext cx="6476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105000" y="5492880"/>
              <a:ext cx="914400" cy="1066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2"/>
            <a:stretch/>
          </p:blipFill>
          <p:spPr>
            <a:xfrm>
              <a:off x="4222800" y="4968720"/>
              <a:ext cx="27792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 flipH="1">
            <a:off x="7372440" y="282564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1520" y="4273560"/>
            <a:ext cx="3048120" cy="1219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105000" y="4044960"/>
            <a:ext cx="3886200" cy="14479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945640" y="2701800"/>
            <a:ext cx="941400" cy="916200"/>
            <a:chOff x="8945640" y="2701800"/>
            <a:chExt cx="941400" cy="916200"/>
          </a:xfrm>
        </p:grpSpPr>
        <p:pic>
          <p:nvPicPr>
            <p:cNvPr id="241" name="" descr=""/>
            <p:cNvPicPr/>
            <p:nvPr/>
          </p:nvPicPr>
          <p:blipFill>
            <a:blip r:embed="rId33"/>
            <a:stretch/>
          </p:blipFill>
          <p:spPr>
            <a:xfrm>
              <a:off x="9010800" y="2701800"/>
              <a:ext cx="87624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945640" y="3281400"/>
              <a:ext cx="816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OL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8362800" y="3054240"/>
            <a:ext cx="762120" cy="6098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4"/>
          <a:stretch/>
        </p:blipFill>
        <p:spPr>
          <a:xfrm>
            <a:off x="7943760" y="2174760"/>
            <a:ext cx="723960" cy="896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8515440" y="2214720"/>
            <a:ext cx="1373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Pathfinder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Palatino"/>
                <a:ea typeface="Palatino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86640" y="2825640"/>
            <a:ext cx="533160" cy="7621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5"/>
          <a:stretch/>
        </p:blipFill>
        <p:spPr>
          <a:xfrm>
            <a:off x="9055080" y="3749760"/>
            <a:ext cx="755640" cy="58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6"/>
          <a:stretch/>
        </p:blipFill>
        <p:spPr>
          <a:xfrm>
            <a:off x="4508640" y="2289240"/>
            <a:ext cx="730080" cy="51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933800" y="274968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8210520" y="396864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051840" y="427212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76800" y="2062080"/>
            <a:ext cx="1008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52720" y="4273560"/>
            <a:ext cx="609480" cy="11430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Typical TWC Division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290196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47800" y="473076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3120" y="259704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5200" y="503568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34000" y="434988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72040" y="213984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4400" y="3130560"/>
            <a:ext cx="2743560" cy="1295640"/>
          </a:xfrm>
          <a:custGeom>
            <a:avLst/>
            <a:gdLst/>
            <a:ahLst/>
            <a:rect l="0" t="0" r="r" b="b"/>
            <a:pathLst>
              <a:path fill="none" w="7621" h="3599">
                <a:moveTo>
                  <a:pt x="3704" y="3599"/>
                </a:moveTo>
                <a:lnTo>
                  <a:pt x="3545" y="3599"/>
                </a:lnTo>
                <a:lnTo>
                  <a:pt x="3439" y="3599"/>
                </a:lnTo>
                <a:lnTo>
                  <a:pt x="3333" y="3599"/>
                </a:lnTo>
                <a:lnTo>
                  <a:pt x="3227" y="3599"/>
                </a:lnTo>
                <a:lnTo>
                  <a:pt x="3069" y="3599"/>
                </a:lnTo>
                <a:lnTo>
                  <a:pt x="2910" y="3599"/>
                </a:lnTo>
                <a:lnTo>
                  <a:pt x="2804" y="3599"/>
                </a:lnTo>
                <a:lnTo>
                  <a:pt x="2592" y="3599"/>
                </a:lnTo>
                <a:lnTo>
                  <a:pt x="2434" y="3599"/>
                </a:lnTo>
                <a:lnTo>
                  <a:pt x="2275" y="3599"/>
                </a:lnTo>
                <a:lnTo>
                  <a:pt x="2116" y="3599"/>
                </a:lnTo>
                <a:lnTo>
                  <a:pt x="1957" y="3599"/>
                </a:lnTo>
                <a:lnTo>
                  <a:pt x="1799" y="3599"/>
                </a:lnTo>
                <a:lnTo>
                  <a:pt x="1640" y="3599"/>
                </a:lnTo>
                <a:lnTo>
                  <a:pt x="1428" y="3599"/>
                </a:lnTo>
                <a:lnTo>
                  <a:pt x="1270" y="3599"/>
                </a:lnTo>
                <a:lnTo>
                  <a:pt x="1111" y="3599"/>
                </a:lnTo>
                <a:lnTo>
                  <a:pt x="1005" y="3493"/>
                </a:lnTo>
                <a:lnTo>
                  <a:pt x="899" y="3493"/>
                </a:lnTo>
                <a:lnTo>
                  <a:pt x="793" y="3493"/>
                </a:lnTo>
                <a:lnTo>
                  <a:pt x="687" y="3493"/>
                </a:lnTo>
                <a:lnTo>
                  <a:pt x="582" y="3493"/>
                </a:lnTo>
                <a:lnTo>
                  <a:pt x="423" y="3493"/>
                </a:lnTo>
                <a:lnTo>
                  <a:pt x="264" y="3493"/>
                </a:lnTo>
                <a:lnTo>
                  <a:pt x="105" y="3493"/>
                </a:lnTo>
                <a:lnTo>
                  <a:pt x="105" y="3334"/>
                </a:lnTo>
                <a:lnTo>
                  <a:pt x="105" y="3175"/>
                </a:lnTo>
                <a:lnTo>
                  <a:pt x="105" y="3017"/>
                </a:lnTo>
                <a:lnTo>
                  <a:pt x="0" y="2911"/>
                </a:lnTo>
                <a:lnTo>
                  <a:pt x="0" y="2805"/>
                </a:lnTo>
                <a:lnTo>
                  <a:pt x="0" y="2699"/>
                </a:lnTo>
                <a:lnTo>
                  <a:pt x="0" y="2593"/>
                </a:lnTo>
                <a:lnTo>
                  <a:pt x="0" y="2488"/>
                </a:lnTo>
                <a:lnTo>
                  <a:pt x="105" y="2488"/>
                </a:lnTo>
                <a:lnTo>
                  <a:pt x="211" y="2488"/>
                </a:lnTo>
                <a:lnTo>
                  <a:pt x="317" y="2488"/>
                </a:lnTo>
                <a:lnTo>
                  <a:pt x="476" y="2488"/>
                </a:lnTo>
                <a:lnTo>
                  <a:pt x="635" y="2488"/>
                </a:lnTo>
                <a:lnTo>
                  <a:pt x="740" y="2382"/>
                </a:lnTo>
                <a:lnTo>
                  <a:pt x="899" y="2382"/>
                </a:lnTo>
                <a:lnTo>
                  <a:pt x="1005" y="2276"/>
                </a:lnTo>
                <a:lnTo>
                  <a:pt x="1005" y="2117"/>
                </a:lnTo>
                <a:lnTo>
                  <a:pt x="1111" y="2117"/>
                </a:lnTo>
                <a:lnTo>
                  <a:pt x="1217" y="2011"/>
                </a:lnTo>
                <a:lnTo>
                  <a:pt x="1322" y="1905"/>
                </a:lnTo>
                <a:lnTo>
                  <a:pt x="1428" y="1800"/>
                </a:lnTo>
                <a:lnTo>
                  <a:pt x="1534" y="1693"/>
                </a:lnTo>
                <a:lnTo>
                  <a:pt x="1640" y="1693"/>
                </a:lnTo>
                <a:lnTo>
                  <a:pt x="1746" y="1587"/>
                </a:lnTo>
                <a:lnTo>
                  <a:pt x="1852" y="1587"/>
                </a:lnTo>
                <a:lnTo>
                  <a:pt x="1957" y="1481"/>
                </a:lnTo>
                <a:lnTo>
                  <a:pt x="2063" y="1481"/>
                </a:lnTo>
                <a:lnTo>
                  <a:pt x="2169" y="1375"/>
                </a:lnTo>
                <a:lnTo>
                  <a:pt x="2275" y="1375"/>
                </a:lnTo>
                <a:lnTo>
                  <a:pt x="2434" y="1375"/>
                </a:lnTo>
                <a:lnTo>
                  <a:pt x="2434" y="1270"/>
                </a:lnTo>
                <a:lnTo>
                  <a:pt x="2592" y="1270"/>
                </a:lnTo>
                <a:lnTo>
                  <a:pt x="2698" y="1164"/>
                </a:lnTo>
                <a:lnTo>
                  <a:pt x="2857" y="1164"/>
                </a:lnTo>
                <a:lnTo>
                  <a:pt x="2963" y="1058"/>
                </a:lnTo>
                <a:lnTo>
                  <a:pt x="3069" y="952"/>
                </a:lnTo>
                <a:lnTo>
                  <a:pt x="3175" y="952"/>
                </a:lnTo>
                <a:lnTo>
                  <a:pt x="3280" y="846"/>
                </a:lnTo>
                <a:lnTo>
                  <a:pt x="3386" y="740"/>
                </a:lnTo>
                <a:lnTo>
                  <a:pt x="3492" y="740"/>
                </a:lnTo>
                <a:lnTo>
                  <a:pt x="3598" y="635"/>
                </a:lnTo>
                <a:lnTo>
                  <a:pt x="3704" y="529"/>
                </a:lnTo>
                <a:lnTo>
                  <a:pt x="3811" y="423"/>
                </a:lnTo>
                <a:lnTo>
                  <a:pt x="3916" y="317"/>
                </a:lnTo>
                <a:lnTo>
                  <a:pt x="4022" y="211"/>
                </a:lnTo>
                <a:lnTo>
                  <a:pt x="4022" y="105"/>
                </a:lnTo>
                <a:lnTo>
                  <a:pt x="4128" y="0"/>
                </a:lnTo>
                <a:lnTo>
                  <a:pt x="4287" y="0"/>
                </a:lnTo>
                <a:lnTo>
                  <a:pt x="4393" y="105"/>
                </a:lnTo>
                <a:lnTo>
                  <a:pt x="4498" y="105"/>
                </a:lnTo>
                <a:lnTo>
                  <a:pt x="4657" y="105"/>
                </a:lnTo>
                <a:lnTo>
                  <a:pt x="4763" y="211"/>
                </a:lnTo>
                <a:lnTo>
                  <a:pt x="4869" y="211"/>
                </a:lnTo>
                <a:lnTo>
                  <a:pt x="4975" y="211"/>
                </a:lnTo>
                <a:lnTo>
                  <a:pt x="5133" y="211"/>
                </a:lnTo>
                <a:lnTo>
                  <a:pt x="5239" y="317"/>
                </a:lnTo>
                <a:lnTo>
                  <a:pt x="5345" y="317"/>
                </a:lnTo>
                <a:lnTo>
                  <a:pt x="5451" y="317"/>
                </a:lnTo>
                <a:lnTo>
                  <a:pt x="5610" y="317"/>
                </a:lnTo>
                <a:lnTo>
                  <a:pt x="5716" y="423"/>
                </a:lnTo>
                <a:lnTo>
                  <a:pt x="5821" y="423"/>
                </a:lnTo>
                <a:lnTo>
                  <a:pt x="5980" y="423"/>
                </a:lnTo>
                <a:lnTo>
                  <a:pt x="6086" y="529"/>
                </a:lnTo>
                <a:lnTo>
                  <a:pt x="6245" y="529"/>
                </a:lnTo>
                <a:lnTo>
                  <a:pt x="6351" y="635"/>
                </a:lnTo>
                <a:lnTo>
                  <a:pt x="6456" y="635"/>
                </a:lnTo>
                <a:lnTo>
                  <a:pt x="6615" y="635"/>
                </a:lnTo>
                <a:lnTo>
                  <a:pt x="6615" y="740"/>
                </a:lnTo>
                <a:lnTo>
                  <a:pt x="6774" y="740"/>
                </a:lnTo>
                <a:lnTo>
                  <a:pt x="6880" y="846"/>
                </a:lnTo>
                <a:lnTo>
                  <a:pt x="6986" y="952"/>
                </a:lnTo>
                <a:lnTo>
                  <a:pt x="7091" y="952"/>
                </a:lnTo>
                <a:lnTo>
                  <a:pt x="7197" y="1058"/>
                </a:lnTo>
                <a:lnTo>
                  <a:pt x="7303" y="1164"/>
                </a:lnTo>
                <a:lnTo>
                  <a:pt x="7409" y="1270"/>
                </a:lnTo>
                <a:lnTo>
                  <a:pt x="7515" y="1375"/>
                </a:lnTo>
                <a:lnTo>
                  <a:pt x="7621" y="1481"/>
                </a:lnTo>
                <a:lnTo>
                  <a:pt x="7621" y="1640"/>
                </a:lnTo>
                <a:lnTo>
                  <a:pt x="7621" y="1800"/>
                </a:lnTo>
                <a:lnTo>
                  <a:pt x="7621" y="1958"/>
                </a:lnTo>
                <a:lnTo>
                  <a:pt x="7621" y="2117"/>
                </a:lnTo>
                <a:lnTo>
                  <a:pt x="7621" y="2276"/>
                </a:lnTo>
                <a:lnTo>
                  <a:pt x="7515" y="2382"/>
                </a:lnTo>
                <a:lnTo>
                  <a:pt x="7409" y="2488"/>
                </a:lnTo>
                <a:lnTo>
                  <a:pt x="7303" y="2593"/>
                </a:lnTo>
                <a:lnTo>
                  <a:pt x="7197" y="2699"/>
                </a:lnTo>
                <a:lnTo>
                  <a:pt x="7091" y="2805"/>
                </a:lnTo>
                <a:lnTo>
                  <a:pt x="6986" y="2911"/>
                </a:lnTo>
                <a:lnTo>
                  <a:pt x="6880" y="3017"/>
                </a:lnTo>
                <a:lnTo>
                  <a:pt x="6774" y="3123"/>
                </a:lnTo>
                <a:lnTo>
                  <a:pt x="6668" y="3228"/>
                </a:lnTo>
                <a:lnTo>
                  <a:pt x="6562" y="3334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90840" y="4349880"/>
            <a:ext cx="2229120" cy="1333800"/>
          </a:xfrm>
          <a:custGeom>
            <a:avLst/>
            <a:gdLst/>
            <a:ahLst/>
            <a:rect l="0" t="0" r="r" b="b"/>
            <a:pathLst>
              <a:path fill="none" w="6192" h="3705">
                <a:moveTo>
                  <a:pt x="476" y="0"/>
                </a:moveTo>
                <a:lnTo>
                  <a:pt x="476" y="105"/>
                </a:lnTo>
                <a:lnTo>
                  <a:pt x="423" y="211"/>
                </a:lnTo>
                <a:lnTo>
                  <a:pt x="370" y="317"/>
                </a:lnTo>
                <a:lnTo>
                  <a:pt x="317" y="423"/>
                </a:lnTo>
                <a:lnTo>
                  <a:pt x="317" y="529"/>
                </a:lnTo>
                <a:lnTo>
                  <a:pt x="317" y="635"/>
                </a:lnTo>
                <a:lnTo>
                  <a:pt x="317" y="740"/>
                </a:lnTo>
                <a:lnTo>
                  <a:pt x="264" y="846"/>
                </a:lnTo>
                <a:lnTo>
                  <a:pt x="264" y="952"/>
                </a:lnTo>
                <a:lnTo>
                  <a:pt x="211" y="1058"/>
                </a:lnTo>
                <a:lnTo>
                  <a:pt x="211" y="1164"/>
                </a:lnTo>
                <a:lnTo>
                  <a:pt x="158" y="1270"/>
                </a:lnTo>
                <a:lnTo>
                  <a:pt x="52" y="1428"/>
                </a:lnTo>
                <a:lnTo>
                  <a:pt x="52" y="1534"/>
                </a:lnTo>
                <a:lnTo>
                  <a:pt x="0" y="1640"/>
                </a:lnTo>
                <a:lnTo>
                  <a:pt x="0" y="1746"/>
                </a:lnTo>
                <a:lnTo>
                  <a:pt x="0" y="1853"/>
                </a:lnTo>
                <a:lnTo>
                  <a:pt x="52" y="1958"/>
                </a:lnTo>
                <a:lnTo>
                  <a:pt x="52" y="2064"/>
                </a:lnTo>
                <a:lnTo>
                  <a:pt x="105" y="2170"/>
                </a:lnTo>
                <a:lnTo>
                  <a:pt x="105" y="2276"/>
                </a:lnTo>
                <a:lnTo>
                  <a:pt x="158" y="2382"/>
                </a:lnTo>
                <a:lnTo>
                  <a:pt x="158" y="2488"/>
                </a:lnTo>
                <a:lnTo>
                  <a:pt x="211" y="2593"/>
                </a:lnTo>
                <a:lnTo>
                  <a:pt x="317" y="2646"/>
                </a:lnTo>
                <a:lnTo>
                  <a:pt x="317" y="2752"/>
                </a:lnTo>
                <a:lnTo>
                  <a:pt x="423" y="2752"/>
                </a:lnTo>
                <a:lnTo>
                  <a:pt x="529" y="2752"/>
                </a:lnTo>
                <a:lnTo>
                  <a:pt x="635" y="2752"/>
                </a:lnTo>
                <a:lnTo>
                  <a:pt x="740" y="2752"/>
                </a:lnTo>
                <a:lnTo>
                  <a:pt x="846" y="2752"/>
                </a:lnTo>
                <a:lnTo>
                  <a:pt x="952" y="2752"/>
                </a:lnTo>
                <a:lnTo>
                  <a:pt x="1058" y="2805"/>
                </a:lnTo>
                <a:lnTo>
                  <a:pt x="1164" y="2805"/>
                </a:lnTo>
                <a:lnTo>
                  <a:pt x="1269" y="2858"/>
                </a:lnTo>
                <a:lnTo>
                  <a:pt x="1428" y="2858"/>
                </a:lnTo>
                <a:lnTo>
                  <a:pt x="1534" y="2911"/>
                </a:lnTo>
                <a:lnTo>
                  <a:pt x="1640" y="2964"/>
                </a:lnTo>
                <a:lnTo>
                  <a:pt x="1746" y="3017"/>
                </a:lnTo>
                <a:lnTo>
                  <a:pt x="1852" y="3017"/>
                </a:lnTo>
                <a:lnTo>
                  <a:pt x="1957" y="3070"/>
                </a:lnTo>
                <a:lnTo>
                  <a:pt x="2063" y="3070"/>
                </a:lnTo>
                <a:lnTo>
                  <a:pt x="2169" y="3123"/>
                </a:lnTo>
                <a:lnTo>
                  <a:pt x="2328" y="3123"/>
                </a:lnTo>
                <a:lnTo>
                  <a:pt x="2434" y="3176"/>
                </a:lnTo>
                <a:lnTo>
                  <a:pt x="2539" y="3176"/>
                </a:lnTo>
                <a:lnTo>
                  <a:pt x="2645" y="3228"/>
                </a:lnTo>
                <a:lnTo>
                  <a:pt x="2751" y="3228"/>
                </a:lnTo>
                <a:lnTo>
                  <a:pt x="2857" y="3281"/>
                </a:lnTo>
                <a:lnTo>
                  <a:pt x="2963" y="3281"/>
                </a:lnTo>
                <a:lnTo>
                  <a:pt x="3069" y="3334"/>
                </a:lnTo>
                <a:lnTo>
                  <a:pt x="3175" y="3334"/>
                </a:lnTo>
                <a:lnTo>
                  <a:pt x="3281" y="3334"/>
                </a:lnTo>
                <a:lnTo>
                  <a:pt x="3387" y="3387"/>
                </a:lnTo>
                <a:lnTo>
                  <a:pt x="3493" y="3440"/>
                </a:lnTo>
                <a:lnTo>
                  <a:pt x="3599" y="3493"/>
                </a:lnTo>
                <a:lnTo>
                  <a:pt x="3705" y="3493"/>
                </a:lnTo>
                <a:lnTo>
                  <a:pt x="3863" y="3546"/>
                </a:lnTo>
                <a:lnTo>
                  <a:pt x="3969" y="3599"/>
                </a:lnTo>
                <a:lnTo>
                  <a:pt x="4075" y="3599"/>
                </a:lnTo>
                <a:lnTo>
                  <a:pt x="4181" y="3599"/>
                </a:lnTo>
                <a:lnTo>
                  <a:pt x="4287" y="3652"/>
                </a:lnTo>
                <a:lnTo>
                  <a:pt x="4393" y="3652"/>
                </a:lnTo>
                <a:lnTo>
                  <a:pt x="4498" y="3652"/>
                </a:lnTo>
                <a:lnTo>
                  <a:pt x="4604" y="3652"/>
                </a:lnTo>
                <a:lnTo>
                  <a:pt x="4710" y="3705"/>
                </a:lnTo>
                <a:lnTo>
                  <a:pt x="4816" y="3705"/>
                </a:lnTo>
                <a:lnTo>
                  <a:pt x="4922" y="3705"/>
                </a:lnTo>
                <a:lnTo>
                  <a:pt x="5028" y="3705"/>
                </a:lnTo>
                <a:lnTo>
                  <a:pt x="5133" y="3705"/>
                </a:lnTo>
                <a:lnTo>
                  <a:pt x="5239" y="3705"/>
                </a:lnTo>
                <a:lnTo>
                  <a:pt x="5345" y="3705"/>
                </a:lnTo>
                <a:lnTo>
                  <a:pt x="5451" y="3705"/>
                </a:lnTo>
                <a:lnTo>
                  <a:pt x="5557" y="3705"/>
                </a:lnTo>
                <a:lnTo>
                  <a:pt x="5663" y="3652"/>
                </a:lnTo>
                <a:lnTo>
                  <a:pt x="5768" y="3599"/>
                </a:lnTo>
                <a:lnTo>
                  <a:pt x="5874" y="3546"/>
                </a:lnTo>
                <a:lnTo>
                  <a:pt x="5980" y="3440"/>
                </a:lnTo>
                <a:lnTo>
                  <a:pt x="6033" y="3281"/>
                </a:lnTo>
                <a:lnTo>
                  <a:pt x="6139" y="3176"/>
                </a:lnTo>
                <a:lnTo>
                  <a:pt x="6139" y="3070"/>
                </a:lnTo>
                <a:lnTo>
                  <a:pt x="6139" y="2964"/>
                </a:lnTo>
                <a:lnTo>
                  <a:pt x="6192" y="2858"/>
                </a:lnTo>
                <a:lnTo>
                  <a:pt x="6192" y="2752"/>
                </a:lnTo>
                <a:lnTo>
                  <a:pt x="6192" y="2593"/>
                </a:lnTo>
                <a:lnTo>
                  <a:pt x="6192" y="2488"/>
                </a:lnTo>
                <a:lnTo>
                  <a:pt x="6192" y="2382"/>
                </a:lnTo>
                <a:lnTo>
                  <a:pt x="6192" y="2276"/>
                </a:lnTo>
                <a:lnTo>
                  <a:pt x="6139" y="2170"/>
                </a:lnTo>
                <a:lnTo>
                  <a:pt x="6086" y="2064"/>
                </a:lnTo>
                <a:lnTo>
                  <a:pt x="6086" y="1958"/>
                </a:lnTo>
                <a:lnTo>
                  <a:pt x="6033" y="1853"/>
                </a:lnTo>
                <a:lnTo>
                  <a:pt x="5980" y="1746"/>
                </a:lnTo>
                <a:lnTo>
                  <a:pt x="5980" y="1640"/>
                </a:lnTo>
                <a:lnTo>
                  <a:pt x="5927" y="1534"/>
                </a:lnTo>
                <a:lnTo>
                  <a:pt x="5927" y="1428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34080" y="3625920"/>
            <a:ext cx="1486440" cy="1810080"/>
          </a:xfrm>
          <a:custGeom>
            <a:avLst/>
            <a:gdLst/>
            <a:ahLst/>
            <a:rect l="0" t="0" r="r" b="b"/>
            <a:pathLst>
              <a:path fill="none" w="4129" h="5028">
                <a:moveTo>
                  <a:pt x="105" y="3281"/>
                </a:moveTo>
                <a:lnTo>
                  <a:pt x="0" y="3281"/>
                </a:lnTo>
                <a:lnTo>
                  <a:pt x="105" y="3334"/>
                </a:lnTo>
                <a:lnTo>
                  <a:pt x="211" y="3493"/>
                </a:lnTo>
                <a:lnTo>
                  <a:pt x="317" y="3493"/>
                </a:lnTo>
                <a:lnTo>
                  <a:pt x="370" y="3599"/>
                </a:lnTo>
                <a:lnTo>
                  <a:pt x="476" y="3652"/>
                </a:lnTo>
                <a:lnTo>
                  <a:pt x="529" y="3758"/>
                </a:lnTo>
                <a:lnTo>
                  <a:pt x="635" y="3863"/>
                </a:lnTo>
                <a:lnTo>
                  <a:pt x="687" y="3969"/>
                </a:lnTo>
                <a:lnTo>
                  <a:pt x="793" y="4075"/>
                </a:lnTo>
                <a:lnTo>
                  <a:pt x="846" y="4234"/>
                </a:lnTo>
                <a:lnTo>
                  <a:pt x="952" y="4393"/>
                </a:lnTo>
                <a:lnTo>
                  <a:pt x="1059" y="4446"/>
                </a:lnTo>
                <a:lnTo>
                  <a:pt x="1165" y="4551"/>
                </a:lnTo>
                <a:lnTo>
                  <a:pt x="1271" y="4657"/>
                </a:lnTo>
                <a:lnTo>
                  <a:pt x="1376" y="4710"/>
                </a:lnTo>
                <a:lnTo>
                  <a:pt x="1482" y="4816"/>
                </a:lnTo>
                <a:lnTo>
                  <a:pt x="1588" y="4869"/>
                </a:lnTo>
                <a:lnTo>
                  <a:pt x="1694" y="4922"/>
                </a:lnTo>
                <a:lnTo>
                  <a:pt x="1800" y="4975"/>
                </a:lnTo>
                <a:lnTo>
                  <a:pt x="1906" y="4975"/>
                </a:lnTo>
                <a:lnTo>
                  <a:pt x="2011" y="4975"/>
                </a:lnTo>
                <a:lnTo>
                  <a:pt x="2117" y="4975"/>
                </a:lnTo>
                <a:lnTo>
                  <a:pt x="2223" y="5028"/>
                </a:lnTo>
                <a:lnTo>
                  <a:pt x="2329" y="5028"/>
                </a:lnTo>
                <a:lnTo>
                  <a:pt x="2435" y="5028"/>
                </a:lnTo>
                <a:lnTo>
                  <a:pt x="2541" y="5028"/>
                </a:lnTo>
                <a:lnTo>
                  <a:pt x="2646" y="5028"/>
                </a:lnTo>
                <a:lnTo>
                  <a:pt x="2752" y="4975"/>
                </a:lnTo>
                <a:lnTo>
                  <a:pt x="2805" y="4869"/>
                </a:lnTo>
                <a:lnTo>
                  <a:pt x="2911" y="4816"/>
                </a:lnTo>
                <a:lnTo>
                  <a:pt x="3017" y="4763"/>
                </a:lnTo>
                <a:lnTo>
                  <a:pt x="3124" y="4710"/>
                </a:lnTo>
                <a:lnTo>
                  <a:pt x="3229" y="4604"/>
                </a:lnTo>
                <a:lnTo>
                  <a:pt x="3335" y="4551"/>
                </a:lnTo>
                <a:lnTo>
                  <a:pt x="3441" y="4498"/>
                </a:lnTo>
                <a:lnTo>
                  <a:pt x="3547" y="4393"/>
                </a:lnTo>
                <a:lnTo>
                  <a:pt x="3600" y="4287"/>
                </a:lnTo>
                <a:lnTo>
                  <a:pt x="3653" y="4181"/>
                </a:lnTo>
                <a:lnTo>
                  <a:pt x="3706" y="4075"/>
                </a:lnTo>
                <a:lnTo>
                  <a:pt x="3759" y="3969"/>
                </a:lnTo>
                <a:lnTo>
                  <a:pt x="3759" y="3863"/>
                </a:lnTo>
                <a:lnTo>
                  <a:pt x="3864" y="3758"/>
                </a:lnTo>
                <a:lnTo>
                  <a:pt x="3917" y="3652"/>
                </a:lnTo>
                <a:lnTo>
                  <a:pt x="3970" y="3546"/>
                </a:lnTo>
                <a:lnTo>
                  <a:pt x="4023" y="3440"/>
                </a:lnTo>
                <a:lnTo>
                  <a:pt x="4076" y="3334"/>
                </a:lnTo>
                <a:lnTo>
                  <a:pt x="4076" y="3228"/>
                </a:lnTo>
                <a:lnTo>
                  <a:pt x="4129" y="3123"/>
                </a:lnTo>
                <a:lnTo>
                  <a:pt x="4129" y="3017"/>
                </a:lnTo>
                <a:lnTo>
                  <a:pt x="4129" y="2911"/>
                </a:lnTo>
                <a:lnTo>
                  <a:pt x="4129" y="2752"/>
                </a:lnTo>
                <a:lnTo>
                  <a:pt x="4129" y="2541"/>
                </a:lnTo>
                <a:lnTo>
                  <a:pt x="4076" y="2434"/>
                </a:lnTo>
                <a:lnTo>
                  <a:pt x="4023" y="2328"/>
                </a:lnTo>
                <a:lnTo>
                  <a:pt x="3970" y="2222"/>
                </a:lnTo>
                <a:lnTo>
                  <a:pt x="3970" y="2116"/>
                </a:lnTo>
                <a:lnTo>
                  <a:pt x="3917" y="2010"/>
                </a:lnTo>
                <a:lnTo>
                  <a:pt x="3917" y="1905"/>
                </a:lnTo>
                <a:lnTo>
                  <a:pt x="3917" y="1799"/>
                </a:lnTo>
                <a:lnTo>
                  <a:pt x="3917" y="1693"/>
                </a:lnTo>
                <a:lnTo>
                  <a:pt x="3917" y="1587"/>
                </a:lnTo>
                <a:lnTo>
                  <a:pt x="3917" y="1481"/>
                </a:lnTo>
                <a:lnTo>
                  <a:pt x="3917" y="1375"/>
                </a:lnTo>
                <a:lnTo>
                  <a:pt x="3917" y="1270"/>
                </a:lnTo>
                <a:lnTo>
                  <a:pt x="3917" y="1164"/>
                </a:lnTo>
                <a:lnTo>
                  <a:pt x="3917" y="1058"/>
                </a:lnTo>
                <a:lnTo>
                  <a:pt x="3864" y="952"/>
                </a:lnTo>
                <a:lnTo>
                  <a:pt x="3864" y="846"/>
                </a:lnTo>
                <a:lnTo>
                  <a:pt x="3864" y="740"/>
                </a:lnTo>
                <a:lnTo>
                  <a:pt x="3812" y="635"/>
                </a:lnTo>
                <a:lnTo>
                  <a:pt x="3812" y="529"/>
                </a:lnTo>
                <a:lnTo>
                  <a:pt x="3759" y="423"/>
                </a:lnTo>
                <a:lnTo>
                  <a:pt x="3706" y="317"/>
                </a:lnTo>
                <a:lnTo>
                  <a:pt x="3600" y="317"/>
                </a:lnTo>
                <a:lnTo>
                  <a:pt x="3494" y="264"/>
                </a:lnTo>
                <a:lnTo>
                  <a:pt x="3388" y="264"/>
                </a:lnTo>
                <a:lnTo>
                  <a:pt x="3282" y="211"/>
                </a:lnTo>
                <a:lnTo>
                  <a:pt x="3177" y="158"/>
                </a:lnTo>
                <a:lnTo>
                  <a:pt x="3070" y="158"/>
                </a:lnTo>
                <a:lnTo>
                  <a:pt x="2964" y="105"/>
                </a:lnTo>
                <a:lnTo>
                  <a:pt x="2858" y="105"/>
                </a:lnTo>
                <a:lnTo>
                  <a:pt x="2752" y="52"/>
                </a:lnTo>
                <a:lnTo>
                  <a:pt x="2646" y="0"/>
                </a:lnTo>
                <a:lnTo>
                  <a:pt x="2541" y="0"/>
                </a:lnTo>
                <a:lnTo>
                  <a:pt x="2382" y="0"/>
                </a:lnTo>
                <a:lnTo>
                  <a:pt x="2276" y="0"/>
                </a:lnTo>
                <a:lnTo>
                  <a:pt x="2170" y="0"/>
                </a:lnTo>
                <a:lnTo>
                  <a:pt x="2064" y="0"/>
                </a:lnTo>
                <a:lnTo>
                  <a:pt x="1958" y="0"/>
                </a:lnTo>
                <a:lnTo>
                  <a:pt x="1853" y="52"/>
                </a:lnTo>
                <a:lnTo>
                  <a:pt x="1747" y="105"/>
                </a:lnTo>
                <a:lnTo>
                  <a:pt x="1641" y="158"/>
                </a:lnTo>
                <a:lnTo>
                  <a:pt x="1588" y="264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09720" y="2444760"/>
            <a:ext cx="2534040" cy="1219680"/>
          </a:xfrm>
          <a:custGeom>
            <a:avLst/>
            <a:gdLst/>
            <a:ahLst/>
            <a:rect l="0" t="0" r="r" b="b"/>
            <a:pathLst>
              <a:path fill="none" w="7039" h="3388">
                <a:moveTo>
                  <a:pt x="6987" y="3388"/>
                </a:moveTo>
                <a:lnTo>
                  <a:pt x="6987" y="3229"/>
                </a:lnTo>
                <a:lnTo>
                  <a:pt x="7039" y="3124"/>
                </a:lnTo>
                <a:lnTo>
                  <a:pt x="7039" y="3018"/>
                </a:lnTo>
                <a:lnTo>
                  <a:pt x="7039" y="2912"/>
                </a:lnTo>
                <a:lnTo>
                  <a:pt x="7039" y="2806"/>
                </a:lnTo>
                <a:lnTo>
                  <a:pt x="7039" y="2700"/>
                </a:lnTo>
                <a:lnTo>
                  <a:pt x="6987" y="2594"/>
                </a:lnTo>
                <a:lnTo>
                  <a:pt x="6987" y="2488"/>
                </a:lnTo>
                <a:lnTo>
                  <a:pt x="6934" y="2276"/>
                </a:lnTo>
                <a:lnTo>
                  <a:pt x="6881" y="2117"/>
                </a:lnTo>
                <a:lnTo>
                  <a:pt x="6775" y="2011"/>
                </a:lnTo>
                <a:lnTo>
                  <a:pt x="6722" y="1906"/>
                </a:lnTo>
                <a:lnTo>
                  <a:pt x="6616" y="1800"/>
                </a:lnTo>
                <a:lnTo>
                  <a:pt x="6510" y="1694"/>
                </a:lnTo>
                <a:lnTo>
                  <a:pt x="6457" y="1588"/>
                </a:lnTo>
                <a:lnTo>
                  <a:pt x="6352" y="1535"/>
                </a:lnTo>
                <a:lnTo>
                  <a:pt x="6193" y="1429"/>
                </a:lnTo>
                <a:lnTo>
                  <a:pt x="6087" y="1376"/>
                </a:lnTo>
                <a:lnTo>
                  <a:pt x="5981" y="1323"/>
                </a:lnTo>
                <a:lnTo>
                  <a:pt x="5875" y="1271"/>
                </a:lnTo>
                <a:lnTo>
                  <a:pt x="5769" y="1218"/>
                </a:lnTo>
                <a:lnTo>
                  <a:pt x="5664" y="1165"/>
                </a:lnTo>
                <a:lnTo>
                  <a:pt x="5558" y="1112"/>
                </a:lnTo>
                <a:lnTo>
                  <a:pt x="5452" y="1112"/>
                </a:lnTo>
                <a:lnTo>
                  <a:pt x="5346" y="1059"/>
                </a:lnTo>
                <a:lnTo>
                  <a:pt x="5239" y="1006"/>
                </a:lnTo>
                <a:lnTo>
                  <a:pt x="5080" y="953"/>
                </a:lnTo>
                <a:lnTo>
                  <a:pt x="4975" y="953"/>
                </a:lnTo>
                <a:lnTo>
                  <a:pt x="4763" y="846"/>
                </a:lnTo>
                <a:lnTo>
                  <a:pt x="4657" y="793"/>
                </a:lnTo>
                <a:lnTo>
                  <a:pt x="4551" y="793"/>
                </a:lnTo>
                <a:lnTo>
                  <a:pt x="4445" y="740"/>
                </a:lnTo>
                <a:lnTo>
                  <a:pt x="4340" y="687"/>
                </a:lnTo>
                <a:lnTo>
                  <a:pt x="4234" y="635"/>
                </a:lnTo>
                <a:lnTo>
                  <a:pt x="4128" y="582"/>
                </a:lnTo>
                <a:lnTo>
                  <a:pt x="4022" y="529"/>
                </a:lnTo>
                <a:lnTo>
                  <a:pt x="3810" y="476"/>
                </a:lnTo>
                <a:lnTo>
                  <a:pt x="3705" y="370"/>
                </a:lnTo>
                <a:lnTo>
                  <a:pt x="3493" y="317"/>
                </a:lnTo>
                <a:lnTo>
                  <a:pt x="3387" y="211"/>
                </a:lnTo>
                <a:lnTo>
                  <a:pt x="3281" y="211"/>
                </a:lnTo>
                <a:lnTo>
                  <a:pt x="3123" y="105"/>
                </a:lnTo>
                <a:lnTo>
                  <a:pt x="3017" y="0"/>
                </a:lnTo>
                <a:lnTo>
                  <a:pt x="2858" y="0"/>
                </a:lnTo>
                <a:lnTo>
                  <a:pt x="2752" y="0"/>
                </a:lnTo>
                <a:lnTo>
                  <a:pt x="2646" y="0"/>
                </a:lnTo>
                <a:lnTo>
                  <a:pt x="2540" y="0"/>
                </a:lnTo>
                <a:lnTo>
                  <a:pt x="2435" y="0"/>
                </a:lnTo>
                <a:lnTo>
                  <a:pt x="2276" y="0"/>
                </a:lnTo>
                <a:lnTo>
                  <a:pt x="2117" y="0"/>
                </a:lnTo>
                <a:lnTo>
                  <a:pt x="2011" y="0"/>
                </a:lnTo>
                <a:lnTo>
                  <a:pt x="1853" y="52"/>
                </a:lnTo>
                <a:lnTo>
                  <a:pt x="1693" y="52"/>
                </a:lnTo>
                <a:lnTo>
                  <a:pt x="1587" y="52"/>
                </a:lnTo>
                <a:lnTo>
                  <a:pt x="1428" y="52"/>
                </a:lnTo>
                <a:lnTo>
                  <a:pt x="1269" y="105"/>
                </a:lnTo>
                <a:lnTo>
                  <a:pt x="1058" y="105"/>
                </a:lnTo>
                <a:lnTo>
                  <a:pt x="899" y="105"/>
                </a:lnTo>
                <a:lnTo>
                  <a:pt x="793" y="105"/>
                </a:lnTo>
                <a:lnTo>
                  <a:pt x="687" y="105"/>
                </a:lnTo>
                <a:lnTo>
                  <a:pt x="582" y="105"/>
                </a:lnTo>
                <a:lnTo>
                  <a:pt x="476" y="105"/>
                </a:lnTo>
                <a:lnTo>
                  <a:pt x="317" y="105"/>
                </a:lnTo>
                <a:lnTo>
                  <a:pt x="211" y="52"/>
                </a:lnTo>
                <a:lnTo>
                  <a:pt x="105" y="52"/>
                </a:lnTo>
                <a:lnTo>
                  <a:pt x="0" y="52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23920" y="4959360"/>
            <a:ext cx="838080" cy="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60360" y="501156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3263760"/>
            <a:ext cx="2362680" cy="1086120"/>
          </a:xfrm>
          <a:custGeom>
            <a:avLst/>
            <a:gdLst/>
            <a:ahLst/>
            <a:rect l="0" t="0" r="r" b="b"/>
            <a:pathLst>
              <a:path fill="none" w="6563" h="3017">
                <a:moveTo>
                  <a:pt x="3334" y="3017"/>
                </a:moveTo>
                <a:lnTo>
                  <a:pt x="3281" y="2911"/>
                </a:lnTo>
                <a:lnTo>
                  <a:pt x="3176" y="2911"/>
                </a:lnTo>
                <a:lnTo>
                  <a:pt x="3070" y="2911"/>
                </a:lnTo>
                <a:lnTo>
                  <a:pt x="2911" y="2911"/>
                </a:lnTo>
                <a:lnTo>
                  <a:pt x="2805" y="2911"/>
                </a:lnTo>
                <a:lnTo>
                  <a:pt x="2699" y="2911"/>
                </a:lnTo>
                <a:lnTo>
                  <a:pt x="2541" y="2858"/>
                </a:lnTo>
                <a:lnTo>
                  <a:pt x="2435" y="2858"/>
                </a:lnTo>
                <a:lnTo>
                  <a:pt x="2329" y="2805"/>
                </a:lnTo>
                <a:lnTo>
                  <a:pt x="2223" y="2805"/>
                </a:lnTo>
                <a:lnTo>
                  <a:pt x="2117" y="2752"/>
                </a:lnTo>
                <a:lnTo>
                  <a:pt x="2011" y="2752"/>
                </a:lnTo>
                <a:lnTo>
                  <a:pt x="1906" y="2752"/>
                </a:lnTo>
                <a:lnTo>
                  <a:pt x="1800" y="2752"/>
                </a:lnTo>
                <a:lnTo>
                  <a:pt x="1694" y="2752"/>
                </a:lnTo>
                <a:lnTo>
                  <a:pt x="1587" y="2752"/>
                </a:lnTo>
                <a:lnTo>
                  <a:pt x="1481" y="2752"/>
                </a:lnTo>
                <a:lnTo>
                  <a:pt x="1375" y="2752"/>
                </a:lnTo>
                <a:lnTo>
                  <a:pt x="1270" y="2752"/>
                </a:lnTo>
                <a:lnTo>
                  <a:pt x="1164" y="2752"/>
                </a:lnTo>
                <a:lnTo>
                  <a:pt x="1058" y="2752"/>
                </a:lnTo>
                <a:lnTo>
                  <a:pt x="952" y="2752"/>
                </a:lnTo>
                <a:lnTo>
                  <a:pt x="846" y="2752"/>
                </a:lnTo>
                <a:lnTo>
                  <a:pt x="740" y="2699"/>
                </a:lnTo>
                <a:lnTo>
                  <a:pt x="635" y="2699"/>
                </a:lnTo>
                <a:lnTo>
                  <a:pt x="529" y="2646"/>
                </a:lnTo>
                <a:lnTo>
                  <a:pt x="423" y="2646"/>
                </a:lnTo>
                <a:lnTo>
                  <a:pt x="317" y="2646"/>
                </a:lnTo>
                <a:lnTo>
                  <a:pt x="211" y="2646"/>
                </a:lnTo>
                <a:lnTo>
                  <a:pt x="105" y="2646"/>
                </a:lnTo>
                <a:lnTo>
                  <a:pt x="0" y="2646"/>
                </a:lnTo>
                <a:lnTo>
                  <a:pt x="52" y="2541"/>
                </a:lnTo>
                <a:lnTo>
                  <a:pt x="158" y="2541"/>
                </a:lnTo>
                <a:lnTo>
                  <a:pt x="264" y="2488"/>
                </a:lnTo>
                <a:lnTo>
                  <a:pt x="370" y="2435"/>
                </a:lnTo>
                <a:lnTo>
                  <a:pt x="476" y="2382"/>
                </a:lnTo>
                <a:lnTo>
                  <a:pt x="582" y="2276"/>
                </a:lnTo>
                <a:lnTo>
                  <a:pt x="687" y="2223"/>
                </a:lnTo>
                <a:lnTo>
                  <a:pt x="793" y="2117"/>
                </a:lnTo>
                <a:lnTo>
                  <a:pt x="899" y="2064"/>
                </a:lnTo>
                <a:lnTo>
                  <a:pt x="1005" y="2011"/>
                </a:lnTo>
                <a:lnTo>
                  <a:pt x="1111" y="1958"/>
                </a:lnTo>
                <a:lnTo>
                  <a:pt x="1217" y="1906"/>
                </a:lnTo>
                <a:lnTo>
                  <a:pt x="1322" y="1853"/>
                </a:lnTo>
                <a:lnTo>
                  <a:pt x="1428" y="1747"/>
                </a:lnTo>
                <a:lnTo>
                  <a:pt x="1534" y="1747"/>
                </a:lnTo>
                <a:lnTo>
                  <a:pt x="1640" y="1694"/>
                </a:lnTo>
                <a:lnTo>
                  <a:pt x="1747" y="1641"/>
                </a:lnTo>
                <a:lnTo>
                  <a:pt x="1853" y="1588"/>
                </a:lnTo>
                <a:lnTo>
                  <a:pt x="1958" y="1535"/>
                </a:lnTo>
                <a:lnTo>
                  <a:pt x="2064" y="1535"/>
                </a:lnTo>
                <a:lnTo>
                  <a:pt x="2170" y="1481"/>
                </a:lnTo>
                <a:lnTo>
                  <a:pt x="2276" y="1428"/>
                </a:lnTo>
                <a:lnTo>
                  <a:pt x="2382" y="1428"/>
                </a:lnTo>
                <a:lnTo>
                  <a:pt x="2541" y="1375"/>
                </a:lnTo>
                <a:lnTo>
                  <a:pt x="2646" y="1322"/>
                </a:lnTo>
                <a:lnTo>
                  <a:pt x="2752" y="1270"/>
                </a:lnTo>
                <a:lnTo>
                  <a:pt x="2858" y="1164"/>
                </a:lnTo>
                <a:lnTo>
                  <a:pt x="2964" y="1111"/>
                </a:lnTo>
                <a:lnTo>
                  <a:pt x="3070" y="952"/>
                </a:lnTo>
                <a:lnTo>
                  <a:pt x="3123" y="846"/>
                </a:lnTo>
                <a:lnTo>
                  <a:pt x="3228" y="740"/>
                </a:lnTo>
                <a:lnTo>
                  <a:pt x="3281" y="635"/>
                </a:lnTo>
                <a:lnTo>
                  <a:pt x="3387" y="582"/>
                </a:lnTo>
                <a:lnTo>
                  <a:pt x="3440" y="476"/>
                </a:lnTo>
                <a:lnTo>
                  <a:pt x="3440" y="370"/>
                </a:lnTo>
                <a:lnTo>
                  <a:pt x="3546" y="317"/>
                </a:lnTo>
                <a:lnTo>
                  <a:pt x="3546" y="211"/>
                </a:lnTo>
                <a:lnTo>
                  <a:pt x="3652" y="158"/>
                </a:lnTo>
                <a:lnTo>
                  <a:pt x="3652" y="52"/>
                </a:lnTo>
                <a:lnTo>
                  <a:pt x="3758" y="52"/>
                </a:lnTo>
                <a:lnTo>
                  <a:pt x="3863" y="0"/>
                </a:lnTo>
                <a:lnTo>
                  <a:pt x="3969" y="0"/>
                </a:lnTo>
                <a:lnTo>
                  <a:pt x="4075" y="52"/>
                </a:lnTo>
                <a:lnTo>
                  <a:pt x="4181" y="52"/>
                </a:lnTo>
                <a:lnTo>
                  <a:pt x="4287" y="105"/>
                </a:lnTo>
                <a:lnTo>
                  <a:pt x="4393" y="211"/>
                </a:lnTo>
                <a:lnTo>
                  <a:pt x="4498" y="211"/>
                </a:lnTo>
                <a:lnTo>
                  <a:pt x="4657" y="264"/>
                </a:lnTo>
                <a:lnTo>
                  <a:pt x="4763" y="317"/>
                </a:lnTo>
                <a:lnTo>
                  <a:pt x="4869" y="317"/>
                </a:lnTo>
                <a:lnTo>
                  <a:pt x="4976" y="370"/>
                </a:lnTo>
                <a:lnTo>
                  <a:pt x="5082" y="370"/>
                </a:lnTo>
                <a:lnTo>
                  <a:pt x="5187" y="423"/>
                </a:lnTo>
                <a:lnTo>
                  <a:pt x="5293" y="423"/>
                </a:lnTo>
                <a:lnTo>
                  <a:pt x="5399" y="476"/>
                </a:lnTo>
                <a:lnTo>
                  <a:pt x="5505" y="476"/>
                </a:lnTo>
                <a:lnTo>
                  <a:pt x="5664" y="529"/>
                </a:lnTo>
                <a:lnTo>
                  <a:pt x="5769" y="582"/>
                </a:lnTo>
                <a:lnTo>
                  <a:pt x="5875" y="582"/>
                </a:lnTo>
                <a:lnTo>
                  <a:pt x="5981" y="635"/>
                </a:lnTo>
                <a:lnTo>
                  <a:pt x="6087" y="687"/>
                </a:lnTo>
                <a:lnTo>
                  <a:pt x="6140" y="793"/>
                </a:lnTo>
                <a:lnTo>
                  <a:pt x="6246" y="899"/>
                </a:lnTo>
                <a:lnTo>
                  <a:pt x="6352" y="1005"/>
                </a:lnTo>
                <a:lnTo>
                  <a:pt x="6457" y="1058"/>
                </a:lnTo>
                <a:lnTo>
                  <a:pt x="6510" y="1164"/>
                </a:lnTo>
                <a:lnTo>
                  <a:pt x="6510" y="1270"/>
                </a:lnTo>
                <a:lnTo>
                  <a:pt x="6563" y="1375"/>
                </a:lnTo>
                <a:lnTo>
                  <a:pt x="6563" y="1481"/>
                </a:lnTo>
                <a:lnTo>
                  <a:pt x="6563" y="1588"/>
                </a:lnTo>
                <a:lnTo>
                  <a:pt x="6563" y="1694"/>
                </a:lnTo>
                <a:lnTo>
                  <a:pt x="6563" y="1800"/>
                </a:lnTo>
                <a:lnTo>
                  <a:pt x="6510" y="1906"/>
                </a:lnTo>
                <a:lnTo>
                  <a:pt x="6457" y="2011"/>
                </a:lnTo>
                <a:lnTo>
                  <a:pt x="6404" y="2117"/>
                </a:lnTo>
                <a:lnTo>
                  <a:pt x="6299" y="2223"/>
                </a:lnTo>
                <a:lnTo>
                  <a:pt x="6193" y="2276"/>
                </a:lnTo>
                <a:lnTo>
                  <a:pt x="6087" y="2329"/>
                </a:lnTo>
                <a:lnTo>
                  <a:pt x="6034" y="2435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48200" y="3797280"/>
            <a:ext cx="1257840" cy="1486440"/>
          </a:xfrm>
          <a:custGeom>
            <a:avLst/>
            <a:gdLst/>
            <a:ahLst/>
            <a:rect l="0" t="0" r="r" b="b"/>
            <a:pathLst>
              <a:path fill="none" w="3494" h="4129">
                <a:moveTo>
                  <a:pt x="0" y="1747"/>
                </a:moveTo>
                <a:lnTo>
                  <a:pt x="158" y="1747"/>
                </a:lnTo>
                <a:lnTo>
                  <a:pt x="264" y="1641"/>
                </a:lnTo>
                <a:lnTo>
                  <a:pt x="370" y="1535"/>
                </a:lnTo>
                <a:lnTo>
                  <a:pt x="529" y="1535"/>
                </a:lnTo>
                <a:lnTo>
                  <a:pt x="635" y="1429"/>
                </a:lnTo>
                <a:lnTo>
                  <a:pt x="740" y="1323"/>
                </a:lnTo>
                <a:lnTo>
                  <a:pt x="900" y="1323"/>
                </a:lnTo>
                <a:lnTo>
                  <a:pt x="1006" y="1218"/>
                </a:lnTo>
                <a:lnTo>
                  <a:pt x="1112" y="1112"/>
                </a:lnTo>
                <a:lnTo>
                  <a:pt x="1218" y="1005"/>
                </a:lnTo>
                <a:lnTo>
                  <a:pt x="1218" y="846"/>
                </a:lnTo>
                <a:lnTo>
                  <a:pt x="1323" y="740"/>
                </a:lnTo>
                <a:lnTo>
                  <a:pt x="1429" y="740"/>
                </a:lnTo>
                <a:lnTo>
                  <a:pt x="1429" y="635"/>
                </a:lnTo>
                <a:lnTo>
                  <a:pt x="1535" y="529"/>
                </a:lnTo>
                <a:lnTo>
                  <a:pt x="1641" y="423"/>
                </a:lnTo>
                <a:lnTo>
                  <a:pt x="1747" y="317"/>
                </a:lnTo>
                <a:lnTo>
                  <a:pt x="1853" y="211"/>
                </a:lnTo>
                <a:lnTo>
                  <a:pt x="1958" y="105"/>
                </a:lnTo>
                <a:lnTo>
                  <a:pt x="2064" y="105"/>
                </a:lnTo>
                <a:lnTo>
                  <a:pt x="2170" y="0"/>
                </a:lnTo>
                <a:lnTo>
                  <a:pt x="2276" y="0"/>
                </a:lnTo>
                <a:lnTo>
                  <a:pt x="2382" y="0"/>
                </a:lnTo>
                <a:lnTo>
                  <a:pt x="2488" y="0"/>
                </a:lnTo>
                <a:lnTo>
                  <a:pt x="2593" y="0"/>
                </a:lnTo>
                <a:lnTo>
                  <a:pt x="2753" y="0"/>
                </a:lnTo>
                <a:lnTo>
                  <a:pt x="2859" y="105"/>
                </a:lnTo>
                <a:lnTo>
                  <a:pt x="2965" y="211"/>
                </a:lnTo>
                <a:lnTo>
                  <a:pt x="3071" y="317"/>
                </a:lnTo>
                <a:lnTo>
                  <a:pt x="3071" y="476"/>
                </a:lnTo>
                <a:lnTo>
                  <a:pt x="3177" y="476"/>
                </a:lnTo>
                <a:lnTo>
                  <a:pt x="3177" y="582"/>
                </a:lnTo>
                <a:lnTo>
                  <a:pt x="3177" y="687"/>
                </a:lnTo>
                <a:lnTo>
                  <a:pt x="3177" y="846"/>
                </a:lnTo>
                <a:lnTo>
                  <a:pt x="3282" y="952"/>
                </a:lnTo>
                <a:lnTo>
                  <a:pt x="3282" y="1059"/>
                </a:lnTo>
                <a:lnTo>
                  <a:pt x="3282" y="1165"/>
                </a:lnTo>
                <a:lnTo>
                  <a:pt x="3282" y="1323"/>
                </a:lnTo>
                <a:lnTo>
                  <a:pt x="3388" y="1429"/>
                </a:lnTo>
                <a:lnTo>
                  <a:pt x="3388" y="1535"/>
                </a:lnTo>
                <a:lnTo>
                  <a:pt x="3494" y="1641"/>
                </a:lnTo>
                <a:lnTo>
                  <a:pt x="3494" y="1747"/>
                </a:lnTo>
                <a:lnTo>
                  <a:pt x="3494" y="1853"/>
                </a:lnTo>
                <a:lnTo>
                  <a:pt x="3494" y="2011"/>
                </a:lnTo>
                <a:lnTo>
                  <a:pt x="3494" y="2170"/>
                </a:lnTo>
                <a:lnTo>
                  <a:pt x="3494" y="2329"/>
                </a:lnTo>
                <a:lnTo>
                  <a:pt x="3494" y="2488"/>
                </a:lnTo>
                <a:lnTo>
                  <a:pt x="3494" y="2593"/>
                </a:lnTo>
                <a:lnTo>
                  <a:pt x="3494" y="2699"/>
                </a:lnTo>
                <a:lnTo>
                  <a:pt x="3494" y="2805"/>
                </a:lnTo>
                <a:lnTo>
                  <a:pt x="3494" y="2964"/>
                </a:lnTo>
                <a:lnTo>
                  <a:pt x="3388" y="3070"/>
                </a:lnTo>
                <a:lnTo>
                  <a:pt x="3388" y="3282"/>
                </a:lnTo>
                <a:lnTo>
                  <a:pt x="3282" y="3388"/>
                </a:lnTo>
                <a:lnTo>
                  <a:pt x="3177" y="3494"/>
                </a:lnTo>
                <a:lnTo>
                  <a:pt x="3071" y="3600"/>
                </a:lnTo>
                <a:lnTo>
                  <a:pt x="2965" y="3706"/>
                </a:lnTo>
                <a:lnTo>
                  <a:pt x="2859" y="3812"/>
                </a:lnTo>
                <a:lnTo>
                  <a:pt x="2753" y="3917"/>
                </a:lnTo>
                <a:lnTo>
                  <a:pt x="2647" y="4023"/>
                </a:lnTo>
                <a:lnTo>
                  <a:pt x="2541" y="4129"/>
                </a:lnTo>
                <a:lnTo>
                  <a:pt x="2435" y="4129"/>
                </a:lnTo>
                <a:lnTo>
                  <a:pt x="2329" y="4129"/>
                </a:lnTo>
                <a:lnTo>
                  <a:pt x="2170" y="4129"/>
                </a:lnTo>
                <a:lnTo>
                  <a:pt x="2011" y="4129"/>
                </a:lnTo>
                <a:lnTo>
                  <a:pt x="1853" y="4129"/>
                </a:lnTo>
                <a:lnTo>
                  <a:pt x="1747" y="4129"/>
                </a:lnTo>
                <a:lnTo>
                  <a:pt x="1641" y="4129"/>
                </a:lnTo>
                <a:lnTo>
                  <a:pt x="1482" y="4129"/>
                </a:lnTo>
                <a:lnTo>
                  <a:pt x="1482" y="4023"/>
                </a:lnTo>
                <a:lnTo>
                  <a:pt x="1376" y="3917"/>
                </a:lnTo>
                <a:lnTo>
                  <a:pt x="1271" y="3812"/>
                </a:lnTo>
                <a:lnTo>
                  <a:pt x="1165" y="3706"/>
                </a:lnTo>
                <a:lnTo>
                  <a:pt x="1059" y="3600"/>
                </a:lnTo>
                <a:lnTo>
                  <a:pt x="953" y="3494"/>
                </a:lnTo>
                <a:lnTo>
                  <a:pt x="846" y="3388"/>
                </a:lnTo>
                <a:lnTo>
                  <a:pt x="846" y="3229"/>
                </a:lnTo>
                <a:lnTo>
                  <a:pt x="740" y="3229"/>
                </a:lnTo>
                <a:lnTo>
                  <a:pt x="635" y="3124"/>
                </a:lnTo>
                <a:lnTo>
                  <a:pt x="529" y="3017"/>
                </a:lnTo>
                <a:lnTo>
                  <a:pt x="423" y="2911"/>
                </a:lnTo>
                <a:lnTo>
                  <a:pt x="317" y="2805"/>
                </a:lnTo>
                <a:lnTo>
                  <a:pt x="211" y="2699"/>
                </a:lnTo>
                <a:lnTo>
                  <a:pt x="105" y="2593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4464000"/>
            <a:ext cx="2000520" cy="1124280"/>
          </a:xfrm>
          <a:custGeom>
            <a:avLst/>
            <a:gdLst/>
            <a:ahLst/>
            <a:rect l="0" t="0" r="r" b="b"/>
            <a:pathLst>
              <a:path fill="none" w="5557" h="3123">
                <a:moveTo>
                  <a:pt x="3969" y="105"/>
                </a:moveTo>
                <a:lnTo>
                  <a:pt x="3916" y="0"/>
                </a:lnTo>
                <a:lnTo>
                  <a:pt x="3810" y="0"/>
                </a:lnTo>
                <a:lnTo>
                  <a:pt x="3599" y="52"/>
                </a:lnTo>
                <a:lnTo>
                  <a:pt x="3493" y="105"/>
                </a:lnTo>
                <a:lnTo>
                  <a:pt x="3334" y="105"/>
                </a:lnTo>
                <a:lnTo>
                  <a:pt x="3228" y="105"/>
                </a:lnTo>
                <a:lnTo>
                  <a:pt x="3070" y="105"/>
                </a:lnTo>
                <a:lnTo>
                  <a:pt x="2911" y="158"/>
                </a:lnTo>
                <a:lnTo>
                  <a:pt x="2751" y="158"/>
                </a:lnTo>
                <a:lnTo>
                  <a:pt x="2645" y="158"/>
                </a:lnTo>
                <a:lnTo>
                  <a:pt x="2539" y="158"/>
                </a:lnTo>
                <a:lnTo>
                  <a:pt x="2434" y="158"/>
                </a:lnTo>
                <a:lnTo>
                  <a:pt x="2328" y="105"/>
                </a:lnTo>
                <a:lnTo>
                  <a:pt x="2222" y="105"/>
                </a:lnTo>
                <a:lnTo>
                  <a:pt x="2116" y="105"/>
                </a:lnTo>
                <a:lnTo>
                  <a:pt x="2010" y="105"/>
                </a:lnTo>
                <a:lnTo>
                  <a:pt x="1904" y="105"/>
                </a:lnTo>
                <a:lnTo>
                  <a:pt x="1799" y="105"/>
                </a:lnTo>
                <a:lnTo>
                  <a:pt x="1693" y="52"/>
                </a:lnTo>
                <a:lnTo>
                  <a:pt x="1587" y="52"/>
                </a:lnTo>
                <a:lnTo>
                  <a:pt x="1481" y="52"/>
                </a:lnTo>
                <a:lnTo>
                  <a:pt x="1375" y="52"/>
                </a:lnTo>
                <a:lnTo>
                  <a:pt x="1269" y="52"/>
                </a:lnTo>
                <a:lnTo>
                  <a:pt x="1164" y="52"/>
                </a:lnTo>
                <a:lnTo>
                  <a:pt x="1058" y="52"/>
                </a:lnTo>
                <a:lnTo>
                  <a:pt x="952" y="52"/>
                </a:lnTo>
                <a:lnTo>
                  <a:pt x="846" y="52"/>
                </a:lnTo>
                <a:lnTo>
                  <a:pt x="740" y="52"/>
                </a:lnTo>
                <a:lnTo>
                  <a:pt x="634" y="52"/>
                </a:lnTo>
                <a:lnTo>
                  <a:pt x="529" y="52"/>
                </a:lnTo>
                <a:lnTo>
                  <a:pt x="423" y="52"/>
                </a:lnTo>
                <a:lnTo>
                  <a:pt x="317" y="105"/>
                </a:lnTo>
                <a:lnTo>
                  <a:pt x="264" y="211"/>
                </a:lnTo>
                <a:lnTo>
                  <a:pt x="211" y="317"/>
                </a:lnTo>
                <a:lnTo>
                  <a:pt x="158" y="423"/>
                </a:lnTo>
                <a:lnTo>
                  <a:pt x="158" y="529"/>
                </a:lnTo>
                <a:lnTo>
                  <a:pt x="158" y="635"/>
                </a:lnTo>
                <a:lnTo>
                  <a:pt x="158" y="740"/>
                </a:lnTo>
                <a:lnTo>
                  <a:pt x="158" y="846"/>
                </a:lnTo>
                <a:lnTo>
                  <a:pt x="158" y="952"/>
                </a:lnTo>
                <a:lnTo>
                  <a:pt x="158" y="1058"/>
                </a:lnTo>
                <a:lnTo>
                  <a:pt x="158" y="1164"/>
                </a:lnTo>
                <a:lnTo>
                  <a:pt x="105" y="1270"/>
                </a:lnTo>
                <a:lnTo>
                  <a:pt x="105" y="1375"/>
                </a:lnTo>
                <a:lnTo>
                  <a:pt x="52" y="1481"/>
                </a:lnTo>
                <a:lnTo>
                  <a:pt x="52" y="1588"/>
                </a:lnTo>
                <a:lnTo>
                  <a:pt x="0" y="1694"/>
                </a:lnTo>
                <a:lnTo>
                  <a:pt x="105" y="1800"/>
                </a:lnTo>
                <a:lnTo>
                  <a:pt x="211" y="1906"/>
                </a:lnTo>
                <a:lnTo>
                  <a:pt x="317" y="2011"/>
                </a:lnTo>
                <a:lnTo>
                  <a:pt x="423" y="2064"/>
                </a:lnTo>
                <a:lnTo>
                  <a:pt x="582" y="2170"/>
                </a:lnTo>
                <a:lnTo>
                  <a:pt x="687" y="2170"/>
                </a:lnTo>
                <a:lnTo>
                  <a:pt x="793" y="2223"/>
                </a:lnTo>
                <a:lnTo>
                  <a:pt x="899" y="2276"/>
                </a:lnTo>
                <a:lnTo>
                  <a:pt x="1005" y="2276"/>
                </a:lnTo>
                <a:lnTo>
                  <a:pt x="1111" y="2276"/>
                </a:lnTo>
                <a:lnTo>
                  <a:pt x="1217" y="2276"/>
                </a:lnTo>
                <a:lnTo>
                  <a:pt x="1322" y="2276"/>
                </a:lnTo>
                <a:lnTo>
                  <a:pt x="1428" y="2276"/>
                </a:lnTo>
                <a:lnTo>
                  <a:pt x="1534" y="2276"/>
                </a:lnTo>
                <a:lnTo>
                  <a:pt x="1640" y="2329"/>
                </a:lnTo>
                <a:lnTo>
                  <a:pt x="1746" y="2329"/>
                </a:lnTo>
                <a:lnTo>
                  <a:pt x="1852" y="2435"/>
                </a:lnTo>
                <a:lnTo>
                  <a:pt x="1957" y="2435"/>
                </a:lnTo>
                <a:lnTo>
                  <a:pt x="2116" y="2541"/>
                </a:lnTo>
                <a:lnTo>
                  <a:pt x="2222" y="2593"/>
                </a:lnTo>
                <a:lnTo>
                  <a:pt x="2328" y="2646"/>
                </a:lnTo>
                <a:lnTo>
                  <a:pt x="2434" y="2646"/>
                </a:lnTo>
                <a:lnTo>
                  <a:pt x="2539" y="2699"/>
                </a:lnTo>
                <a:lnTo>
                  <a:pt x="2645" y="2752"/>
                </a:lnTo>
                <a:lnTo>
                  <a:pt x="2751" y="2752"/>
                </a:lnTo>
                <a:lnTo>
                  <a:pt x="2911" y="2805"/>
                </a:lnTo>
                <a:lnTo>
                  <a:pt x="3070" y="2805"/>
                </a:lnTo>
                <a:lnTo>
                  <a:pt x="3228" y="2858"/>
                </a:lnTo>
                <a:lnTo>
                  <a:pt x="3334" y="2858"/>
                </a:lnTo>
                <a:lnTo>
                  <a:pt x="3440" y="2858"/>
                </a:lnTo>
                <a:lnTo>
                  <a:pt x="3546" y="2858"/>
                </a:lnTo>
                <a:lnTo>
                  <a:pt x="3652" y="2858"/>
                </a:lnTo>
                <a:lnTo>
                  <a:pt x="3758" y="2858"/>
                </a:lnTo>
                <a:lnTo>
                  <a:pt x="3916" y="2858"/>
                </a:lnTo>
                <a:lnTo>
                  <a:pt x="4022" y="2911"/>
                </a:lnTo>
                <a:lnTo>
                  <a:pt x="4128" y="2911"/>
                </a:lnTo>
                <a:lnTo>
                  <a:pt x="4234" y="2964"/>
                </a:lnTo>
                <a:lnTo>
                  <a:pt x="4340" y="2964"/>
                </a:lnTo>
                <a:lnTo>
                  <a:pt x="4445" y="3017"/>
                </a:lnTo>
                <a:lnTo>
                  <a:pt x="4604" y="3017"/>
                </a:lnTo>
                <a:lnTo>
                  <a:pt x="4710" y="3070"/>
                </a:lnTo>
                <a:lnTo>
                  <a:pt x="4816" y="3070"/>
                </a:lnTo>
                <a:lnTo>
                  <a:pt x="4922" y="3123"/>
                </a:lnTo>
                <a:lnTo>
                  <a:pt x="5028" y="3070"/>
                </a:lnTo>
                <a:lnTo>
                  <a:pt x="5080" y="2964"/>
                </a:lnTo>
                <a:lnTo>
                  <a:pt x="5186" y="2911"/>
                </a:lnTo>
                <a:lnTo>
                  <a:pt x="5239" y="2805"/>
                </a:lnTo>
                <a:lnTo>
                  <a:pt x="5239" y="2699"/>
                </a:lnTo>
                <a:lnTo>
                  <a:pt x="5292" y="2593"/>
                </a:lnTo>
                <a:lnTo>
                  <a:pt x="5292" y="2488"/>
                </a:lnTo>
                <a:lnTo>
                  <a:pt x="5239" y="2382"/>
                </a:lnTo>
                <a:lnTo>
                  <a:pt x="5239" y="2276"/>
                </a:lnTo>
                <a:lnTo>
                  <a:pt x="5239" y="2170"/>
                </a:lnTo>
                <a:lnTo>
                  <a:pt x="5239" y="2064"/>
                </a:lnTo>
                <a:lnTo>
                  <a:pt x="5239" y="1958"/>
                </a:lnTo>
                <a:lnTo>
                  <a:pt x="5292" y="1853"/>
                </a:lnTo>
                <a:lnTo>
                  <a:pt x="5292" y="1747"/>
                </a:lnTo>
                <a:lnTo>
                  <a:pt x="5345" y="1641"/>
                </a:lnTo>
                <a:lnTo>
                  <a:pt x="5345" y="1534"/>
                </a:lnTo>
                <a:lnTo>
                  <a:pt x="5398" y="1428"/>
                </a:lnTo>
                <a:lnTo>
                  <a:pt x="5451" y="1322"/>
                </a:lnTo>
                <a:lnTo>
                  <a:pt x="5504" y="1217"/>
                </a:lnTo>
                <a:lnTo>
                  <a:pt x="5504" y="1111"/>
                </a:lnTo>
                <a:lnTo>
                  <a:pt x="5557" y="1005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23920" y="5568840"/>
            <a:ext cx="83808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84400" y="5621400"/>
            <a:ext cx="946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2577960"/>
            <a:ext cx="4096080" cy="4134240"/>
          </a:xfrm>
          <a:custGeom>
            <a:avLst/>
            <a:gdLst/>
            <a:ahLst/>
            <a:rect l="0" t="0" r="r" b="b"/>
            <a:pathLst>
              <a:path fill="none" w="11378" h="11484">
                <a:moveTo>
                  <a:pt x="6509" y="11484"/>
                </a:moveTo>
                <a:lnTo>
                  <a:pt x="6615" y="11484"/>
                </a:lnTo>
                <a:lnTo>
                  <a:pt x="6721" y="11379"/>
                </a:lnTo>
                <a:lnTo>
                  <a:pt x="6827" y="11273"/>
                </a:lnTo>
                <a:lnTo>
                  <a:pt x="6933" y="11167"/>
                </a:lnTo>
                <a:lnTo>
                  <a:pt x="6933" y="11008"/>
                </a:lnTo>
                <a:lnTo>
                  <a:pt x="7038" y="10902"/>
                </a:lnTo>
                <a:lnTo>
                  <a:pt x="7038" y="10744"/>
                </a:lnTo>
                <a:lnTo>
                  <a:pt x="7144" y="10744"/>
                </a:lnTo>
                <a:lnTo>
                  <a:pt x="7144" y="10638"/>
                </a:lnTo>
                <a:lnTo>
                  <a:pt x="7250" y="10532"/>
                </a:lnTo>
                <a:lnTo>
                  <a:pt x="7250" y="10426"/>
                </a:lnTo>
                <a:lnTo>
                  <a:pt x="7356" y="10320"/>
                </a:lnTo>
                <a:lnTo>
                  <a:pt x="7462" y="10214"/>
                </a:lnTo>
                <a:lnTo>
                  <a:pt x="7462" y="10109"/>
                </a:lnTo>
                <a:lnTo>
                  <a:pt x="7568" y="10003"/>
                </a:lnTo>
                <a:lnTo>
                  <a:pt x="7568" y="9844"/>
                </a:lnTo>
                <a:lnTo>
                  <a:pt x="7673" y="9738"/>
                </a:lnTo>
                <a:lnTo>
                  <a:pt x="7779" y="9632"/>
                </a:lnTo>
                <a:lnTo>
                  <a:pt x="7885" y="9527"/>
                </a:lnTo>
                <a:lnTo>
                  <a:pt x="7991" y="9421"/>
                </a:lnTo>
                <a:lnTo>
                  <a:pt x="8097" y="9315"/>
                </a:lnTo>
                <a:lnTo>
                  <a:pt x="8203" y="9209"/>
                </a:lnTo>
                <a:lnTo>
                  <a:pt x="8308" y="9103"/>
                </a:lnTo>
                <a:lnTo>
                  <a:pt x="8414" y="8997"/>
                </a:lnTo>
                <a:lnTo>
                  <a:pt x="8520" y="8997"/>
                </a:lnTo>
                <a:lnTo>
                  <a:pt x="8626" y="8892"/>
                </a:lnTo>
                <a:lnTo>
                  <a:pt x="8732" y="8892"/>
                </a:lnTo>
                <a:lnTo>
                  <a:pt x="8838" y="8786"/>
                </a:lnTo>
                <a:lnTo>
                  <a:pt x="8943" y="8786"/>
                </a:lnTo>
                <a:lnTo>
                  <a:pt x="9102" y="8786"/>
                </a:lnTo>
                <a:lnTo>
                  <a:pt x="9208" y="8786"/>
                </a:lnTo>
                <a:lnTo>
                  <a:pt x="9314" y="8786"/>
                </a:lnTo>
                <a:lnTo>
                  <a:pt x="9473" y="8786"/>
                </a:lnTo>
                <a:lnTo>
                  <a:pt x="9631" y="8786"/>
                </a:lnTo>
                <a:lnTo>
                  <a:pt x="9737" y="8892"/>
                </a:lnTo>
                <a:lnTo>
                  <a:pt x="9843" y="8892"/>
                </a:lnTo>
                <a:lnTo>
                  <a:pt x="10002" y="8892"/>
                </a:lnTo>
                <a:lnTo>
                  <a:pt x="10161" y="8892"/>
                </a:lnTo>
                <a:lnTo>
                  <a:pt x="10319" y="8892"/>
                </a:lnTo>
                <a:lnTo>
                  <a:pt x="10531" y="8892"/>
                </a:lnTo>
                <a:lnTo>
                  <a:pt x="10690" y="8892"/>
                </a:lnTo>
                <a:lnTo>
                  <a:pt x="10848" y="8892"/>
                </a:lnTo>
                <a:lnTo>
                  <a:pt x="10954" y="8892"/>
                </a:lnTo>
                <a:lnTo>
                  <a:pt x="11060" y="8786"/>
                </a:lnTo>
                <a:lnTo>
                  <a:pt x="11166" y="8786"/>
                </a:lnTo>
                <a:lnTo>
                  <a:pt x="11272" y="8680"/>
                </a:lnTo>
                <a:lnTo>
                  <a:pt x="11378" y="8573"/>
                </a:lnTo>
                <a:lnTo>
                  <a:pt x="11378" y="8467"/>
                </a:lnTo>
                <a:lnTo>
                  <a:pt x="11378" y="8308"/>
                </a:lnTo>
                <a:lnTo>
                  <a:pt x="11378" y="8150"/>
                </a:lnTo>
                <a:lnTo>
                  <a:pt x="11378" y="7991"/>
                </a:lnTo>
                <a:lnTo>
                  <a:pt x="11378" y="7885"/>
                </a:lnTo>
                <a:lnTo>
                  <a:pt x="11378" y="7779"/>
                </a:lnTo>
                <a:lnTo>
                  <a:pt x="11378" y="7673"/>
                </a:lnTo>
                <a:lnTo>
                  <a:pt x="11378" y="7568"/>
                </a:lnTo>
                <a:lnTo>
                  <a:pt x="11378" y="7462"/>
                </a:lnTo>
                <a:lnTo>
                  <a:pt x="11378" y="7356"/>
                </a:lnTo>
                <a:lnTo>
                  <a:pt x="11378" y="7250"/>
                </a:lnTo>
                <a:lnTo>
                  <a:pt x="11378" y="7144"/>
                </a:lnTo>
                <a:lnTo>
                  <a:pt x="11272" y="7038"/>
                </a:lnTo>
                <a:lnTo>
                  <a:pt x="11272" y="6933"/>
                </a:lnTo>
                <a:lnTo>
                  <a:pt x="11166" y="6827"/>
                </a:lnTo>
                <a:lnTo>
                  <a:pt x="11060" y="6721"/>
                </a:lnTo>
                <a:lnTo>
                  <a:pt x="11060" y="6562"/>
                </a:lnTo>
                <a:lnTo>
                  <a:pt x="10954" y="6562"/>
                </a:lnTo>
                <a:lnTo>
                  <a:pt x="10848" y="6456"/>
                </a:lnTo>
                <a:lnTo>
                  <a:pt x="10743" y="6351"/>
                </a:lnTo>
                <a:lnTo>
                  <a:pt x="10637" y="6245"/>
                </a:lnTo>
                <a:lnTo>
                  <a:pt x="10478" y="6245"/>
                </a:lnTo>
                <a:lnTo>
                  <a:pt x="10478" y="6139"/>
                </a:lnTo>
                <a:lnTo>
                  <a:pt x="10319" y="6139"/>
                </a:lnTo>
                <a:lnTo>
                  <a:pt x="10319" y="6033"/>
                </a:lnTo>
                <a:lnTo>
                  <a:pt x="10213" y="6033"/>
                </a:lnTo>
                <a:lnTo>
                  <a:pt x="10108" y="6033"/>
                </a:lnTo>
                <a:lnTo>
                  <a:pt x="9949" y="6033"/>
                </a:lnTo>
                <a:lnTo>
                  <a:pt x="9843" y="5927"/>
                </a:lnTo>
                <a:lnTo>
                  <a:pt x="9737" y="5927"/>
                </a:lnTo>
                <a:lnTo>
                  <a:pt x="9631" y="5927"/>
                </a:lnTo>
                <a:lnTo>
                  <a:pt x="9526" y="5821"/>
                </a:lnTo>
                <a:lnTo>
                  <a:pt x="9367" y="5821"/>
                </a:lnTo>
                <a:lnTo>
                  <a:pt x="9367" y="5716"/>
                </a:lnTo>
                <a:lnTo>
                  <a:pt x="9261" y="5610"/>
                </a:lnTo>
                <a:lnTo>
                  <a:pt x="9155" y="5504"/>
                </a:lnTo>
                <a:lnTo>
                  <a:pt x="9049" y="5398"/>
                </a:lnTo>
                <a:lnTo>
                  <a:pt x="9049" y="5239"/>
                </a:lnTo>
                <a:lnTo>
                  <a:pt x="8943" y="5133"/>
                </a:lnTo>
                <a:lnTo>
                  <a:pt x="8838" y="5028"/>
                </a:lnTo>
                <a:lnTo>
                  <a:pt x="8838" y="4869"/>
                </a:lnTo>
                <a:lnTo>
                  <a:pt x="8732" y="4763"/>
                </a:lnTo>
                <a:lnTo>
                  <a:pt x="8626" y="4657"/>
                </a:lnTo>
                <a:lnTo>
                  <a:pt x="8520" y="4551"/>
                </a:lnTo>
                <a:lnTo>
                  <a:pt x="8520" y="4446"/>
                </a:lnTo>
                <a:lnTo>
                  <a:pt x="8414" y="4446"/>
                </a:lnTo>
                <a:lnTo>
                  <a:pt x="8414" y="4340"/>
                </a:lnTo>
                <a:lnTo>
                  <a:pt x="8308" y="4340"/>
                </a:lnTo>
                <a:lnTo>
                  <a:pt x="8150" y="4340"/>
                </a:lnTo>
                <a:lnTo>
                  <a:pt x="7991" y="4340"/>
                </a:lnTo>
                <a:lnTo>
                  <a:pt x="7832" y="4340"/>
                </a:lnTo>
                <a:lnTo>
                  <a:pt x="7832" y="4234"/>
                </a:lnTo>
                <a:lnTo>
                  <a:pt x="7726" y="4234"/>
                </a:lnTo>
                <a:lnTo>
                  <a:pt x="7621" y="4234"/>
                </a:lnTo>
                <a:lnTo>
                  <a:pt x="7515" y="4234"/>
                </a:lnTo>
                <a:lnTo>
                  <a:pt x="7356" y="4234"/>
                </a:lnTo>
                <a:lnTo>
                  <a:pt x="7250" y="4128"/>
                </a:lnTo>
                <a:lnTo>
                  <a:pt x="7144" y="4128"/>
                </a:lnTo>
                <a:lnTo>
                  <a:pt x="7038" y="4128"/>
                </a:lnTo>
                <a:lnTo>
                  <a:pt x="6880" y="4128"/>
                </a:lnTo>
                <a:lnTo>
                  <a:pt x="6880" y="4022"/>
                </a:lnTo>
                <a:lnTo>
                  <a:pt x="6774" y="3916"/>
                </a:lnTo>
                <a:lnTo>
                  <a:pt x="6774" y="3811"/>
                </a:lnTo>
                <a:lnTo>
                  <a:pt x="6774" y="3652"/>
                </a:lnTo>
                <a:lnTo>
                  <a:pt x="6668" y="3546"/>
                </a:lnTo>
                <a:lnTo>
                  <a:pt x="6668" y="3440"/>
                </a:lnTo>
                <a:lnTo>
                  <a:pt x="6668" y="3334"/>
                </a:lnTo>
                <a:lnTo>
                  <a:pt x="6668" y="3228"/>
                </a:lnTo>
                <a:lnTo>
                  <a:pt x="6668" y="3123"/>
                </a:lnTo>
                <a:lnTo>
                  <a:pt x="6668" y="3017"/>
                </a:lnTo>
                <a:lnTo>
                  <a:pt x="6668" y="2911"/>
                </a:lnTo>
                <a:lnTo>
                  <a:pt x="6668" y="2804"/>
                </a:lnTo>
                <a:lnTo>
                  <a:pt x="6668" y="2698"/>
                </a:lnTo>
                <a:lnTo>
                  <a:pt x="6668" y="2592"/>
                </a:lnTo>
                <a:lnTo>
                  <a:pt x="6668" y="2434"/>
                </a:lnTo>
                <a:lnTo>
                  <a:pt x="6668" y="2275"/>
                </a:lnTo>
                <a:lnTo>
                  <a:pt x="6562" y="2169"/>
                </a:lnTo>
                <a:lnTo>
                  <a:pt x="6562" y="2010"/>
                </a:lnTo>
                <a:lnTo>
                  <a:pt x="6456" y="1905"/>
                </a:lnTo>
                <a:lnTo>
                  <a:pt x="6456" y="1746"/>
                </a:lnTo>
                <a:lnTo>
                  <a:pt x="6351" y="1746"/>
                </a:lnTo>
                <a:lnTo>
                  <a:pt x="6245" y="1640"/>
                </a:lnTo>
                <a:lnTo>
                  <a:pt x="6139" y="1534"/>
                </a:lnTo>
                <a:lnTo>
                  <a:pt x="6033" y="1428"/>
                </a:lnTo>
                <a:lnTo>
                  <a:pt x="5927" y="1322"/>
                </a:lnTo>
                <a:lnTo>
                  <a:pt x="5821" y="1217"/>
                </a:lnTo>
                <a:lnTo>
                  <a:pt x="5662" y="1217"/>
                </a:lnTo>
                <a:lnTo>
                  <a:pt x="5662" y="1111"/>
                </a:lnTo>
                <a:lnTo>
                  <a:pt x="5556" y="1111"/>
                </a:lnTo>
                <a:lnTo>
                  <a:pt x="5397" y="1111"/>
                </a:lnTo>
                <a:lnTo>
                  <a:pt x="5291" y="1005"/>
                </a:lnTo>
                <a:lnTo>
                  <a:pt x="5185" y="1005"/>
                </a:lnTo>
                <a:lnTo>
                  <a:pt x="5079" y="899"/>
                </a:lnTo>
                <a:lnTo>
                  <a:pt x="4974" y="899"/>
                </a:lnTo>
                <a:lnTo>
                  <a:pt x="4815" y="899"/>
                </a:lnTo>
                <a:lnTo>
                  <a:pt x="4709" y="793"/>
                </a:lnTo>
                <a:lnTo>
                  <a:pt x="4550" y="793"/>
                </a:lnTo>
                <a:lnTo>
                  <a:pt x="4444" y="687"/>
                </a:lnTo>
                <a:lnTo>
                  <a:pt x="4339" y="582"/>
                </a:lnTo>
                <a:lnTo>
                  <a:pt x="4233" y="582"/>
                </a:lnTo>
                <a:lnTo>
                  <a:pt x="4127" y="476"/>
                </a:lnTo>
                <a:lnTo>
                  <a:pt x="4021" y="476"/>
                </a:lnTo>
                <a:lnTo>
                  <a:pt x="3915" y="370"/>
                </a:lnTo>
                <a:lnTo>
                  <a:pt x="3757" y="370"/>
                </a:lnTo>
                <a:lnTo>
                  <a:pt x="3598" y="211"/>
                </a:lnTo>
                <a:lnTo>
                  <a:pt x="3492" y="211"/>
                </a:lnTo>
                <a:lnTo>
                  <a:pt x="3333" y="211"/>
                </a:lnTo>
                <a:lnTo>
                  <a:pt x="3227" y="105"/>
                </a:lnTo>
                <a:lnTo>
                  <a:pt x="3122" y="105"/>
                </a:lnTo>
                <a:lnTo>
                  <a:pt x="3016" y="105"/>
                </a:lnTo>
                <a:lnTo>
                  <a:pt x="2857" y="105"/>
                </a:lnTo>
                <a:lnTo>
                  <a:pt x="2751" y="0"/>
                </a:lnTo>
                <a:lnTo>
                  <a:pt x="2645" y="0"/>
                </a:lnTo>
                <a:lnTo>
                  <a:pt x="2539" y="0"/>
                </a:lnTo>
                <a:lnTo>
                  <a:pt x="2434" y="0"/>
                </a:lnTo>
                <a:lnTo>
                  <a:pt x="2328" y="0"/>
                </a:lnTo>
                <a:lnTo>
                  <a:pt x="2222" y="0"/>
                </a:lnTo>
                <a:lnTo>
                  <a:pt x="2063" y="0"/>
                </a:lnTo>
                <a:lnTo>
                  <a:pt x="1852" y="0"/>
                </a:lnTo>
                <a:lnTo>
                  <a:pt x="1746" y="105"/>
                </a:lnTo>
                <a:lnTo>
                  <a:pt x="1640" y="105"/>
                </a:lnTo>
                <a:lnTo>
                  <a:pt x="1534" y="105"/>
                </a:lnTo>
                <a:lnTo>
                  <a:pt x="1375" y="105"/>
                </a:lnTo>
                <a:lnTo>
                  <a:pt x="1269" y="211"/>
                </a:lnTo>
                <a:lnTo>
                  <a:pt x="1111" y="211"/>
                </a:lnTo>
                <a:lnTo>
                  <a:pt x="1005" y="211"/>
                </a:lnTo>
                <a:lnTo>
                  <a:pt x="846" y="211"/>
                </a:lnTo>
                <a:lnTo>
                  <a:pt x="740" y="211"/>
                </a:lnTo>
                <a:lnTo>
                  <a:pt x="634" y="211"/>
                </a:lnTo>
                <a:lnTo>
                  <a:pt x="529" y="211"/>
                </a:lnTo>
                <a:lnTo>
                  <a:pt x="423" y="211"/>
                </a:lnTo>
                <a:lnTo>
                  <a:pt x="317" y="211"/>
                </a:lnTo>
                <a:lnTo>
                  <a:pt x="211" y="211"/>
                </a:lnTo>
                <a:lnTo>
                  <a:pt x="105" y="211"/>
                </a:lnTo>
                <a:lnTo>
                  <a:pt x="0" y="211"/>
                </a:lnTo>
              </a:path>
            </a:pathLst>
          </a:custGeom>
          <a:ln w="25560">
            <a:solidFill>
              <a:srgbClr val="51dc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23920" y="6026040"/>
            <a:ext cx="838080" cy="0"/>
          </a:xfrm>
          <a:prstGeom prst="line">
            <a:avLst/>
          </a:prstGeom>
          <a:ln w="2556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31760" y="6078600"/>
            <a:ext cx="16574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1dc00"/>
                </a:solidFill>
                <a:latin typeface="Palatino"/>
                <a:ea typeface="Palatino"/>
              </a:rPr>
              <a:t>Dig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1dc00"/>
                </a:solidFill>
                <a:latin typeface="Palatino"/>
                <a:ea typeface="Palatino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57640" y="5316480"/>
            <a:ext cx="834840" cy="641520"/>
            <a:chOff x="3257640" y="5316480"/>
            <a:chExt cx="834840" cy="641520"/>
          </a:xfrm>
        </p:grpSpPr>
        <p:sp>
          <p:nvSpPr>
            <p:cNvPr id="276" name=""/>
            <p:cNvSpPr/>
            <p:nvPr/>
          </p:nvSpPr>
          <p:spPr>
            <a:xfrm>
              <a:off x="3257640" y="53402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317760" y="53164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952720" y="3335400"/>
            <a:ext cx="835200" cy="641520"/>
            <a:chOff x="2952720" y="3335400"/>
            <a:chExt cx="835200" cy="641520"/>
          </a:xfrm>
        </p:grpSpPr>
        <p:sp>
          <p:nvSpPr>
            <p:cNvPr id="279" name=""/>
            <p:cNvSpPr/>
            <p:nvPr/>
          </p:nvSpPr>
          <p:spPr>
            <a:xfrm>
              <a:off x="2952720" y="335916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013200" y="333540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05200" y="2496960"/>
            <a:ext cx="835200" cy="641520"/>
            <a:chOff x="4705200" y="2496960"/>
            <a:chExt cx="835200" cy="641520"/>
          </a:xfrm>
        </p:grpSpPr>
        <p:sp>
          <p:nvSpPr>
            <p:cNvPr id="282" name=""/>
            <p:cNvSpPr/>
            <p:nvPr/>
          </p:nvSpPr>
          <p:spPr>
            <a:xfrm>
              <a:off x="4705200" y="252108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765680" y="249696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762600" y="3106800"/>
            <a:ext cx="835200" cy="641520"/>
            <a:chOff x="6762600" y="3106800"/>
            <a:chExt cx="835200" cy="641520"/>
          </a:xfrm>
        </p:grpSpPr>
        <p:sp>
          <p:nvSpPr>
            <p:cNvPr id="285" name=""/>
            <p:cNvSpPr/>
            <p:nvPr/>
          </p:nvSpPr>
          <p:spPr>
            <a:xfrm>
              <a:off x="6762600" y="313056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6823080" y="310680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400640" y="3740040"/>
            <a:ext cx="1600200" cy="144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613400" y="4097160"/>
            <a:ext cx="1158840" cy="641520"/>
            <a:chOff x="4613400" y="4097160"/>
            <a:chExt cx="1158840" cy="641520"/>
          </a:xfrm>
        </p:grpSpPr>
        <p:sp>
          <p:nvSpPr>
            <p:cNvPr id="289" name=""/>
            <p:cNvSpPr/>
            <p:nvPr/>
          </p:nvSpPr>
          <p:spPr>
            <a:xfrm>
              <a:off x="4629240" y="4121280"/>
              <a:ext cx="1143000" cy="609480"/>
            </a:xfrm>
            <a:prstGeom prst="rect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ddab5e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613400" y="4097160"/>
              <a:ext cx="1136520" cy="641520"/>
            </a:xfrm>
            <a:prstGeom prst="rect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ddab5e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afd0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Pri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ead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114800" y="5035680"/>
            <a:ext cx="1905480" cy="1962360"/>
          </a:xfrm>
          <a:custGeom>
            <a:avLst/>
            <a:gdLst/>
            <a:ahLst/>
            <a:rect l="0" t="0" r="r" b="b"/>
            <a:pathLst>
              <a:path fill="none" w="5293" h="5451">
                <a:moveTo>
                  <a:pt x="5240" y="0"/>
                </a:moveTo>
                <a:lnTo>
                  <a:pt x="5134" y="0"/>
                </a:lnTo>
                <a:lnTo>
                  <a:pt x="5240" y="370"/>
                </a:lnTo>
                <a:lnTo>
                  <a:pt x="5293" y="476"/>
                </a:lnTo>
                <a:lnTo>
                  <a:pt x="5293" y="582"/>
                </a:lnTo>
                <a:lnTo>
                  <a:pt x="5293" y="687"/>
                </a:lnTo>
                <a:lnTo>
                  <a:pt x="5240" y="793"/>
                </a:lnTo>
                <a:lnTo>
                  <a:pt x="5187" y="899"/>
                </a:lnTo>
                <a:lnTo>
                  <a:pt x="5134" y="1005"/>
                </a:lnTo>
                <a:lnTo>
                  <a:pt x="5029" y="1058"/>
                </a:lnTo>
                <a:lnTo>
                  <a:pt x="4976" y="1164"/>
                </a:lnTo>
                <a:lnTo>
                  <a:pt x="4923" y="1270"/>
                </a:lnTo>
                <a:lnTo>
                  <a:pt x="4870" y="1375"/>
                </a:lnTo>
                <a:lnTo>
                  <a:pt x="4870" y="1534"/>
                </a:lnTo>
                <a:lnTo>
                  <a:pt x="4870" y="1640"/>
                </a:lnTo>
                <a:lnTo>
                  <a:pt x="4870" y="1746"/>
                </a:lnTo>
                <a:lnTo>
                  <a:pt x="4870" y="1852"/>
                </a:lnTo>
                <a:lnTo>
                  <a:pt x="4817" y="1957"/>
                </a:lnTo>
                <a:lnTo>
                  <a:pt x="4817" y="2275"/>
                </a:lnTo>
                <a:lnTo>
                  <a:pt x="4711" y="2328"/>
                </a:lnTo>
                <a:lnTo>
                  <a:pt x="4552" y="2381"/>
                </a:lnTo>
                <a:lnTo>
                  <a:pt x="4447" y="2434"/>
                </a:lnTo>
                <a:lnTo>
                  <a:pt x="4341" y="2434"/>
                </a:lnTo>
                <a:lnTo>
                  <a:pt x="4235" y="2434"/>
                </a:lnTo>
                <a:lnTo>
                  <a:pt x="4129" y="2434"/>
                </a:lnTo>
                <a:lnTo>
                  <a:pt x="3387" y="2434"/>
                </a:lnTo>
                <a:lnTo>
                  <a:pt x="3281" y="2434"/>
                </a:lnTo>
                <a:lnTo>
                  <a:pt x="2911" y="2487"/>
                </a:lnTo>
                <a:lnTo>
                  <a:pt x="2805" y="2540"/>
                </a:lnTo>
                <a:lnTo>
                  <a:pt x="2699" y="2540"/>
                </a:lnTo>
                <a:lnTo>
                  <a:pt x="2593" y="2540"/>
                </a:lnTo>
                <a:lnTo>
                  <a:pt x="2488" y="2592"/>
                </a:lnTo>
                <a:lnTo>
                  <a:pt x="2382" y="2592"/>
                </a:lnTo>
                <a:lnTo>
                  <a:pt x="2276" y="2592"/>
                </a:lnTo>
                <a:lnTo>
                  <a:pt x="2170" y="2645"/>
                </a:lnTo>
                <a:lnTo>
                  <a:pt x="2064" y="2645"/>
                </a:lnTo>
                <a:lnTo>
                  <a:pt x="1958" y="2645"/>
                </a:lnTo>
                <a:lnTo>
                  <a:pt x="1853" y="2698"/>
                </a:lnTo>
                <a:lnTo>
                  <a:pt x="1747" y="2698"/>
                </a:lnTo>
                <a:lnTo>
                  <a:pt x="1641" y="2752"/>
                </a:lnTo>
                <a:lnTo>
                  <a:pt x="1588" y="2858"/>
                </a:lnTo>
                <a:lnTo>
                  <a:pt x="1482" y="2858"/>
                </a:lnTo>
                <a:lnTo>
                  <a:pt x="1429" y="2964"/>
                </a:lnTo>
                <a:lnTo>
                  <a:pt x="1376" y="3070"/>
                </a:lnTo>
                <a:lnTo>
                  <a:pt x="1322" y="3176"/>
                </a:lnTo>
                <a:lnTo>
                  <a:pt x="1270" y="3281"/>
                </a:lnTo>
                <a:lnTo>
                  <a:pt x="1164" y="3440"/>
                </a:lnTo>
                <a:lnTo>
                  <a:pt x="1111" y="3546"/>
                </a:lnTo>
                <a:lnTo>
                  <a:pt x="1111" y="3652"/>
                </a:lnTo>
                <a:lnTo>
                  <a:pt x="1005" y="3758"/>
                </a:lnTo>
                <a:lnTo>
                  <a:pt x="952" y="3863"/>
                </a:lnTo>
                <a:lnTo>
                  <a:pt x="899" y="3969"/>
                </a:lnTo>
                <a:lnTo>
                  <a:pt x="846" y="4075"/>
                </a:lnTo>
                <a:lnTo>
                  <a:pt x="582" y="4498"/>
                </a:lnTo>
                <a:lnTo>
                  <a:pt x="529" y="4604"/>
                </a:lnTo>
                <a:lnTo>
                  <a:pt x="476" y="4710"/>
                </a:lnTo>
                <a:lnTo>
                  <a:pt x="370" y="4816"/>
                </a:lnTo>
                <a:lnTo>
                  <a:pt x="317" y="4922"/>
                </a:lnTo>
                <a:lnTo>
                  <a:pt x="264" y="5028"/>
                </a:lnTo>
                <a:lnTo>
                  <a:pt x="211" y="5133"/>
                </a:lnTo>
                <a:lnTo>
                  <a:pt x="105" y="5239"/>
                </a:lnTo>
                <a:lnTo>
                  <a:pt x="0" y="5451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37080" y="4707000"/>
            <a:ext cx="1206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300,0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277200" y="2139840"/>
            <a:ext cx="0" cy="44197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880480" y="4097160"/>
            <a:ext cx="944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~ 30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38320" y="2978280"/>
            <a:ext cx="0" cy="160020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84400" y="3487680"/>
            <a:ext cx="1006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~ 10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29640" y="457848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81920" y="526428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01040" y="564516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524720" y="4730760"/>
            <a:ext cx="304920" cy="15228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24720" y="5111640"/>
            <a:ext cx="457200" cy="22860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96120" y="5264280"/>
            <a:ext cx="304920" cy="53316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134200" y="4730760"/>
            <a:ext cx="685800" cy="763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591400" y="4425840"/>
            <a:ext cx="152640" cy="38124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86840" y="5416560"/>
            <a:ext cx="685800" cy="22860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67720" y="5568840"/>
            <a:ext cx="76320" cy="3049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05600" y="5797440"/>
            <a:ext cx="533520" cy="5335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10520" y="6026040"/>
            <a:ext cx="304920" cy="763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34200" y="6026040"/>
            <a:ext cx="0" cy="3049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667720" y="4807080"/>
            <a:ext cx="152280" cy="30456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813800" y="4165560"/>
            <a:ext cx="692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194680" y="485928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5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746760" y="4630680"/>
            <a:ext cx="777960" cy="641520"/>
            <a:chOff x="6746760" y="4630680"/>
            <a:chExt cx="777960" cy="641520"/>
          </a:xfrm>
        </p:grpSpPr>
        <p:sp>
          <p:nvSpPr>
            <p:cNvPr id="314" name=""/>
            <p:cNvSpPr/>
            <p:nvPr/>
          </p:nvSpPr>
          <p:spPr>
            <a:xfrm>
              <a:off x="6762600" y="46544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746760" y="46306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 txBox="1"/>
          <p:nvPr/>
        </p:nvSpPr>
        <p:spPr>
          <a:xfrm>
            <a:off x="6823080" y="5240160"/>
            <a:ext cx="1092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20,0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38720" y="5545080"/>
            <a:ext cx="835200" cy="641520"/>
            <a:chOff x="5238720" y="5545080"/>
            <a:chExt cx="835200" cy="641520"/>
          </a:xfrm>
        </p:grpSpPr>
        <p:sp>
          <p:nvSpPr>
            <p:cNvPr id="318" name=""/>
            <p:cNvSpPr/>
            <p:nvPr/>
          </p:nvSpPr>
          <p:spPr>
            <a:xfrm>
              <a:off x="5238720" y="55688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5299200" y="55450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1073160"/>
            <a:ext cx="767700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Reference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47600" y="3054240"/>
            <a:ext cx="2743560" cy="3581640"/>
          </a:xfrm>
          <a:custGeom>
            <a:avLst/>
            <a:gdLst/>
            <a:ahLst/>
            <a:rect l="0" t="0" r="r" b="b"/>
            <a:pathLst>
              <a:path w="7621" h="9949">
                <a:moveTo>
                  <a:pt x="0" y="2984"/>
                </a:moveTo>
                <a:lnTo>
                  <a:pt x="0" y="6964"/>
                </a:lnTo>
                <a:lnTo>
                  <a:pt x="2286" y="9949"/>
                </a:lnTo>
                <a:lnTo>
                  <a:pt x="5334" y="9949"/>
                </a:lnTo>
                <a:lnTo>
                  <a:pt x="7621" y="6964"/>
                </a:lnTo>
                <a:lnTo>
                  <a:pt x="7621" y="2984"/>
                </a:lnTo>
                <a:lnTo>
                  <a:pt x="5334" y="0"/>
                </a:lnTo>
                <a:lnTo>
                  <a:pt x="2286" y="0"/>
                </a:lnTo>
                <a:lnTo>
                  <a:pt x="0" y="29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00520" y="349236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53160" y="356868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05440" y="364500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24920" y="4730760"/>
            <a:ext cx="533520" cy="83808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035680"/>
            <a:ext cx="571680" cy="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580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866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294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172200" y="4245120"/>
            <a:ext cx="704880" cy="743040"/>
            <a:chOff x="6172200" y="4245120"/>
            <a:chExt cx="704880" cy="743040"/>
          </a:xfrm>
        </p:grpSpPr>
        <p:sp>
          <p:nvSpPr>
            <p:cNvPr id="331" name=""/>
            <p:cNvSpPr/>
            <p:nvPr/>
          </p:nvSpPr>
          <p:spPr>
            <a:xfrm>
              <a:off x="6172200" y="4245120"/>
              <a:ext cx="571680" cy="743040"/>
            </a:xfrm>
            <a:prstGeom prst="rect">
              <a:avLst/>
            </a:prstGeom>
            <a:gradFill rotWithShape="0">
              <a:gsLst>
                <a:gs pos="0">
                  <a:srgbClr val="fdc0e5"/>
                </a:gs>
                <a:gs pos="100000">
                  <a:srgbClr val="e3acce"/>
                </a:gs>
              </a:gsLst>
              <a:lin ang="5400000"/>
            </a:gra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1280" y="4454640"/>
              <a:ext cx="685800" cy="171360"/>
            </a:xfrm>
            <a:prstGeom prst="rect">
              <a:avLst/>
            </a:prstGeom>
            <a:gradFill rotWithShape="0">
              <a:gsLst>
                <a:gs pos="0">
                  <a:srgbClr val="fdc0e5"/>
                </a:gs>
                <a:gs pos="100000">
                  <a:srgbClr val="e3acce"/>
                </a:gs>
              </a:gsLst>
              <a:lin ang="5400000"/>
            </a:gra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353360" y="4378320"/>
            <a:ext cx="34308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53360" y="4759200"/>
            <a:ext cx="34308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915240" y="4425840"/>
            <a:ext cx="457200" cy="763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15240" y="4654440"/>
            <a:ext cx="457200" cy="228600"/>
          </a:xfrm>
          <a:prstGeom prst="line">
            <a:avLst/>
          </a:prstGeom>
          <a:ln w="1260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6920" y="4121280"/>
            <a:ext cx="1066680" cy="144792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019240" y="6035760"/>
            <a:ext cx="552600" cy="523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171440" y="4421160"/>
            <a:ext cx="638280" cy="6145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71440" y="5335560"/>
            <a:ext cx="638280" cy="61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519200" y="3397320"/>
            <a:ext cx="671400" cy="571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2585880" y="3297240"/>
            <a:ext cx="595440" cy="290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333600" y="4959360"/>
            <a:ext cx="281952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33600" y="4502160"/>
            <a:ext cx="228600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33600" y="4730760"/>
            <a:ext cx="243864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9277200" y="5340240"/>
            <a:ext cx="228600" cy="60984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41600" y="6573960"/>
            <a:ext cx="1665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6e0043"/>
                </a:solidFill>
                <a:uFillTx/>
                <a:latin typeface="Palatino"/>
                <a:ea typeface="Palatino"/>
              </a:rPr>
              <a:t>Head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908680" y="5811840"/>
            <a:ext cx="2079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6e0043"/>
                </a:solidFill>
                <a:uFillTx/>
                <a:latin typeface="Palatino"/>
                <a:ea typeface="Palatino"/>
              </a:rPr>
              <a:t>Distr. H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256520" y="3425760"/>
            <a:ext cx="366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485120" y="5559480"/>
            <a:ext cx="366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515440" y="3968640"/>
            <a:ext cx="685800" cy="7621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737480" y="4905360"/>
            <a:ext cx="779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25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737480" y="4067280"/>
            <a:ext cx="83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1-3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45200" y="5095800"/>
            <a:ext cx="107784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ig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44600" y="4554360"/>
            <a:ext cx="115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P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774960" y="5011560"/>
            <a:ext cx="187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OC3/DS3, F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879480" y="2139840"/>
            <a:ext cx="930240" cy="533520"/>
            <a:chOff x="879480" y="2139840"/>
            <a:chExt cx="930240" cy="533520"/>
          </a:xfrm>
        </p:grpSpPr>
        <p:sp>
          <p:nvSpPr>
            <p:cNvPr id="358" name=""/>
            <p:cNvSpPr/>
            <p:nvPr/>
          </p:nvSpPr>
          <p:spPr>
            <a:xfrm>
              <a:off x="89532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e1e3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79480" y="2214720"/>
              <a:ext cx="928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029040" y="2139840"/>
            <a:ext cx="990720" cy="5335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936880" y="2214720"/>
            <a:ext cx="1233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52520" y="2749680"/>
            <a:ext cx="1295280" cy="6094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876400" y="2673360"/>
            <a:ext cx="533520" cy="6094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33400" y="4730760"/>
            <a:ext cx="533520" cy="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733400" y="5264280"/>
            <a:ext cx="53352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343240" y="5568840"/>
            <a:ext cx="380880" cy="45720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181320" y="5416560"/>
            <a:ext cx="7632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260360" y="6100920"/>
            <a:ext cx="103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M/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31760" y="50338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782800" y="3610080"/>
            <a:ext cx="90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74800" y="3228840"/>
            <a:ext cx="11318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Appl.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524720" y="3664080"/>
            <a:ext cx="0" cy="68580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524720" y="4959360"/>
            <a:ext cx="0" cy="76212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97400" y="2900520"/>
            <a:ext cx="1138320" cy="581040"/>
            <a:chOff x="4397400" y="2900520"/>
            <a:chExt cx="1138320" cy="581040"/>
          </a:xfrm>
        </p:grpSpPr>
        <p:sp>
          <p:nvSpPr>
            <p:cNvPr id="375" name=""/>
            <p:cNvSpPr/>
            <p:nvPr/>
          </p:nvSpPr>
          <p:spPr>
            <a:xfrm>
              <a:off x="4476600" y="290196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4397400" y="2900520"/>
              <a:ext cx="11383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NOC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elp de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H="1">
            <a:off x="3181320" y="3130560"/>
            <a:ext cx="129528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46160" y="2138400"/>
            <a:ext cx="930240" cy="581040"/>
            <a:chOff x="1946160" y="2138400"/>
            <a:chExt cx="930240" cy="581040"/>
          </a:xfrm>
        </p:grpSpPr>
        <p:sp>
          <p:nvSpPr>
            <p:cNvPr id="379" name=""/>
            <p:cNvSpPr/>
            <p:nvPr/>
          </p:nvSpPr>
          <p:spPr>
            <a:xfrm>
              <a:off x="196200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e1e3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946160" y="2138400"/>
              <a:ext cx="9176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On-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476600" y="3662280"/>
            <a:ext cx="914400" cy="581040"/>
            <a:chOff x="4476600" y="3662280"/>
            <a:chExt cx="914400" cy="581040"/>
          </a:xfrm>
        </p:grpSpPr>
        <p:sp>
          <p:nvSpPr>
            <p:cNvPr id="382" name=""/>
            <p:cNvSpPr/>
            <p:nvPr/>
          </p:nvSpPr>
          <p:spPr>
            <a:xfrm>
              <a:off x="4476600" y="366408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4537080" y="3662280"/>
              <a:ext cx="8269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 flipV="1">
            <a:off x="3105000" y="3587760"/>
            <a:ext cx="137160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3562200" y="6102360"/>
            <a:ext cx="45720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476600" y="2138400"/>
            <a:ext cx="914400" cy="581040"/>
            <a:chOff x="4476600" y="2138400"/>
            <a:chExt cx="914400" cy="581040"/>
          </a:xfrm>
        </p:grpSpPr>
        <p:sp>
          <p:nvSpPr>
            <p:cNvPr id="387" name=""/>
            <p:cNvSpPr/>
            <p:nvPr/>
          </p:nvSpPr>
          <p:spPr>
            <a:xfrm>
              <a:off x="447660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4484520" y="2138400"/>
              <a:ext cx="8953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al-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>
            <a:off x="3029040" y="2521080"/>
            <a:ext cx="1447560" cy="76176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14640" y="3740040"/>
            <a:ext cx="457200" cy="38124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43240" y="5487840"/>
            <a:ext cx="1398960" cy="660600"/>
            <a:chOff x="4143240" y="5487840"/>
            <a:chExt cx="1398960" cy="660600"/>
          </a:xfrm>
        </p:grpSpPr>
        <p:sp>
          <p:nvSpPr>
            <p:cNvPr id="392" name=""/>
            <p:cNvSpPr txBox="1"/>
            <p:nvPr/>
          </p:nvSpPr>
          <p:spPr>
            <a:xfrm>
              <a:off x="4613400" y="5567400"/>
              <a:ext cx="9288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6"/>
            <a:stretch/>
          </p:blipFill>
          <p:spPr>
            <a:xfrm>
              <a:off x="4143240" y="5487840"/>
              <a:ext cx="63828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"/>
          <p:cNvSpPr/>
          <p:nvPr/>
        </p:nvSpPr>
        <p:spPr>
          <a:xfrm>
            <a:off x="4019400" y="6330960"/>
            <a:ext cx="914400" cy="5335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09920" y="5873760"/>
            <a:ext cx="838080" cy="763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2967120" y="5888160"/>
            <a:ext cx="595440" cy="290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800440" y="3587760"/>
            <a:ext cx="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95520" y="2749680"/>
            <a:ext cx="304920" cy="53316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423280" y="5033880"/>
            <a:ext cx="1149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5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631960" y="693900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300,0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289560" y="6176880"/>
            <a:ext cx="140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20,0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591400" y="4121280"/>
            <a:ext cx="685800" cy="7621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651880" y="4273560"/>
            <a:ext cx="857160" cy="770040"/>
            <a:chOff x="8651880" y="4273560"/>
            <a:chExt cx="857160" cy="770040"/>
          </a:xfrm>
        </p:grpSpPr>
        <p:sp>
          <p:nvSpPr>
            <p:cNvPr id="404" name=""/>
            <p:cNvSpPr/>
            <p:nvPr/>
          </p:nvSpPr>
          <p:spPr>
            <a:xfrm>
              <a:off x="8667720" y="4273560"/>
              <a:ext cx="685800" cy="7621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8651880" y="4402080"/>
              <a:ext cx="8571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6e0043"/>
                  </a:solidFill>
                  <a:uFillTx/>
                  <a:latin typeface="Palatino"/>
                  <a:ea typeface="Palatino"/>
                </a:rPr>
                <a:t>Fib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6e0043"/>
                  </a:solidFill>
                  <a:uFillTx/>
                  <a:latin typeface="Palatino"/>
                  <a:ea typeface="Palatino"/>
                </a:rPr>
                <a:t>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677000" y="4425840"/>
            <a:ext cx="990720" cy="0"/>
          </a:xfrm>
          <a:prstGeom prst="line">
            <a:avLst/>
          </a:prstGeom>
          <a:ln w="7632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77000" y="4807080"/>
            <a:ext cx="990720" cy="0"/>
          </a:xfrm>
          <a:prstGeom prst="line">
            <a:avLst/>
          </a:prstGeom>
          <a:ln w="7632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68640" y="6329520"/>
            <a:ext cx="996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829640" y="2139840"/>
            <a:ext cx="2085840" cy="1600200"/>
            <a:chOff x="7829640" y="2139840"/>
            <a:chExt cx="2085840" cy="1600200"/>
          </a:xfrm>
        </p:grpSpPr>
        <p:sp>
          <p:nvSpPr>
            <p:cNvPr id="410" name=""/>
            <p:cNvSpPr/>
            <p:nvPr/>
          </p:nvSpPr>
          <p:spPr>
            <a:xfrm>
              <a:off x="7829640" y="2139840"/>
              <a:ext cx="2057400" cy="1600200"/>
            </a:xfrm>
            <a:prstGeom prst="rect">
              <a:avLst/>
            </a:prstGeom>
            <a:gradFill rotWithShape="0">
              <a:gsLst>
                <a:gs pos="0">
                  <a:srgbClr val="fde3ba"/>
                </a:gs>
                <a:gs pos="100000">
                  <a:srgbClr val="e3cca7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8267760" y="2225520"/>
              <a:ext cx="857160" cy="75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"/>
            <p:cNvGrpSpPr/>
            <p:nvPr/>
          </p:nvGrpSpPr>
          <p:grpSpPr>
            <a:xfrm>
              <a:off x="9429840" y="3054240"/>
              <a:ext cx="380880" cy="533520"/>
              <a:chOff x="9429840" y="3054240"/>
              <a:chExt cx="380880" cy="53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9429840" y="3054240"/>
                <a:ext cx="380880" cy="533520"/>
              </a:xfrm>
              <a:prstGeom prst="rect">
                <a:avLst/>
              </a:prstGeom>
              <a:gradFill rotWithShape="0">
                <a:gsLst>
                  <a:gs pos="0">
                    <a:srgbClr val="fdc0e5"/>
                  </a:gs>
                  <a:gs pos="100000">
                    <a:srgbClr val="e3acce"/>
                  </a:gs>
                </a:gsLst>
                <a:lin ang="5400000"/>
              </a:gradFill>
              <a:ln w="12600">
                <a:solidFill>
                  <a:srgbClr val="fc012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429840" y="3435480"/>
                <a:ext cx="3808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582120" y="3206880"/>
                <a:ext cx="228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582120" y="3359160"/>
                <a:ext cx="228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 txBox="1"/>
            <p:nvPr/>
          </p:nvSpPr>
          <p:spPr>
            <a:xfrm>
              <a:off x="7966080" y="3182760"/>
              <a:ext cx="1581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Palatino"/>
                  <a:ea typeface="Palatino"/>
                </a:rPr>
                <a:t>Cablemod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972640" y="2673360"/>
              <a:ext cx="609840" cy="381240"/>
            </a:xfrm>
            <a:custGeom>
              <a:avLst/>
              <a:gdLst/>
              <a:ahLst/>
              <a:rect l="0" t="0" r="r" b="b"/>
              <a:pathLst>
                <a:path fill="none" w="1694" h="1059">
                  <a:moveTo>
                    <a:pt x="1694" y="1059"/>
                  </a:moveTo>
                  <a:lnTo>
                    <a:pt x="1694" y="1059"/>
                  </a:lnTo>
                  <a:lnTo>
                    <a:pt x="1694" y="1059"/>
                  </a:lnTo>
                  <a:cubicBezTo>
                    <a:pt x="1694" y="873"/>
                    <a:pt x="1616" y="690"/>
                    <a:pt x="1467" y="529"/>
                  </a:cubicBezTo>
                  <a:cubicBezTo>
                    <a:pt x="1318" y="369"/>
                    <a:pt x="1105" y="235"/>
                    <a:pt x="847" y="142"/>
                  </a:cubicBezTo>
                  <a:cubicBezTo>
                    <a:pt x="589" y="49"/>
                    <a:pt x="297" y="0"/>
                    <a:pt x="0" y="0"/>
                  </a:cubicBezTo>
                </a:path>
              </a:pathLst>
            </a:custGeom>
            <a:ln w="38160">
              <a:solidFill>
                <a:srgbClr val="0f0f9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9085320" y="2282760"/>
              <a:ext cx="830160" cy="49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10ba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Eth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 txBox="1"/>
          <p:nvPr/>
        </p:nvSpPr>
        <p:spPr>
          <a:xfrm>
            <a:off x="7790040" y="4492800"/>
            <a:ext cx="5652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085320" y="3730680"/>
            <a:ext cx="54468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Co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353520" y="3587760"/>
            <a:ext cx="305280" cy="1448280"/>
          </a:xfrm>
          <a:custGeom>
            <a:avLst/>
            <a:gdLst/>
            <a:ahLst/>
            <a:rect l="0" t="0" r="r" b="b"/>
            <a:pathLst>
              <a:path fill="none" w="848" h="4023">
                <a:moveTo>
                  <a:pt x="0" y="4023"/>
                </a:moveTo>
                <a:lnTo>
                  <a:pt x="0" y="4023"/>
                </a:lnTo>
                <a:cubicBezTo>
                  <a:pt x="149" y="4023"/>
                  <a:pt x="295" y="3837"/>
                  <a:pt x="424" y="3484"/>
                </a:cubicBezTo>
                <a:cubicBezTo>
                  <a:pt x="553" y="3131"/>
                  <a:pt x="660" y="2623"/>
                  <a:pt x="734" y="2011"/>
                </a:cubicBezTo>
                <a:cubicBezTo>
                  <a:pt x="809" y="1400"/>
                  <a:pt x="848" y="706"/>
                  <a:pt x="848" y="0"/>
                </a:cubicBez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FC Spectrum 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81800" y="2787480"/>
            <a:ext cx="129600" cy="159120"/>
          </a:xfrm>
          <a:custGeom>
            <a:avLst/>
            <a:gdLst/>
            <a:ahLst/>
            <a:rect l="0" t="0" r="r" b="b"/>
            <a:pathLst>
              <a:path w="360" h="442">
                <a:moveTo>
                  <a:pt x="180" y="0"/>
                </a:moveTo>
                <a:lnTo>
                  <a:pt x="0" y="404"/>
                </a:lnTo>
                <a:lnTo>
                  <a:pt x="0" y="404"/>
                </a:lnTo>
                <a:cubicBezTo>
                  <a:pt x="57" y="429"/>
                  <a:pt x="118" y="442"/>
                  <a:pt x="180" y="442"/>
                </a:cubicBezTo>
                <a:cubicBezTo>
                  <a:pt x="242" y="442"/>
                  <a:pt x="303" y="429"/>
                  <a:pt x="360" y="404"/>
                </a:cubicBezTo>
                <a:lnTo>
                  <a:pt x="1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59200" y="287028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40120" y="3956040"/>
            <a:ext cx="431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911760" y="2857680"/>
            <a:ext cx="0" cy="109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57960" y="39560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62800" y="3878640"/>
            <a:ext cx="159120" cy="129600"/>
          </a:xfrm>
          <a:custGeom>
            <a:avLst/>
            <a:gdLst/>
            <a:ahLst/>
            <a:rect l="0" t="0" r="r" b="b"/>
            <a:pathLst>
              <a:path w="442" h="360">
                <a:moveTo>
                  <a:pt x="442" y="180"/>
                </a:moveTo>
                <a:lnTo>
                  <a:pt x="38" y="0"/>
                </a:lnTo>
                <a:lnTo>
                  <a:pt x="38" y="0"/>
                </a:lnTo>
                <a:cubicBezTo>
                  <a:pt x="13" y="57"/>
                  <a:pt x="0" y="118"/>
                  <a:pt x="0" y="180"/>
                </a:cubicBezTo>
                <a:cubicBezTo>
                  <a:pt x="0" y="242"/>
                  <a:pt x="13" y="303"/>
                  <a:pt x="38" y="360"/>
                </a:cubicBezTo>
                <a:lnTo>
                  <a:pt x="442" y="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905600" y="395604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62320" y="3987720"/>
            <a:ext cx="609480" cy="138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05280" y="4019400"/>
            <a:ext cx="3568680" cy="13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30280" y="5410080"/>
            <a:ext cx="5194800" cy="844920"/>
          </a:xfrm>
          <a:custGeom>
            <a:avLst/>
            <a:gdLst/>
            <a:ahLst/>
            <a:rect l="0" t="0" r="r" b="b"/>
            <a:pathLst>
              <a:path fill="none" w="14430" h="2347">
                <a:moveTo>
                  <a:pt x="0" y="2347"/>
                </a:moveTo>
                <a:lnTo>
                  <a:pt x="14430" y="2347"/>
                </a:lnTo>
                <a:lnTo>
                  <a:pt x="1443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336760" y="5410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07000" y="5587920"/>
            <a:ext cx="622440" cy="666720"/>
          </a:xfrm>
          <a:prstGeom prst="rect">
            <a:avLst/>
          </a:prstGeom>
          <a:gradFill rotWithShape="0">
            <a:gsLst>
              <a:gs pos="0">
                <a:srgbClr val="f6bf69"/>
              </a:gs>
              <a:gs pos="100000">
                <a:srgbClr val="ddab5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095720" y="5587920"/>
            <a:ext cx="1219320" cy="66672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11520" y="5587920"/>
            <a:ext cx="165240" cy="66672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100000">
                <a:srgbClr val="5c5c5c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508720" y="5299200"/>
            <a:ext cx="66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67200" y="5033880"/>
            <a:ext cx="1352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1-2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44600" y="524844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Set-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064040" y="2857680"/>
            <a:ext cx="0" cy="109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05200" y="22305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809960" y="22305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640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356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878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405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928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162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689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117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022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50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381720" y="2901960"/>
            <a:ext cx="38088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257880" y="236700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MHz channel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289640" y="4119480"/>
            <a:ext cx="1386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550-750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513240" y="404352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4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471760" y="4043520"/>
            <a:ext cx="81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014560" y="6253200"/>
            <a:ext cx="81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94520" y="625320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4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7500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977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838920" y="2901960"/>
            <a:ext cx="7632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019840" y="34336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92400" y="5299200"/>
            <a:ext cx="774720" cy="955440"/>
            <a:chOff x="3092400" y="5299200"/>
            <a:chExt cx="774720" cy="955440"/>
          </a:xfrm>
        </p:grpSpPr>
        <p:sp>
          <p:nvSpPr>
            <p:cNvPr id="466" name=""/>
            <p:cNvSpPr/>
            <p:nvPr/>
          </p:nvSpPr>
          <p:spPr>
            <a:xfrm>
              <a:off x="3092400" y="5587920"/>
              <a:ext cx="774720" cy="666720"/>
            </a:xfrm>
            <a:prstGeom prst="rect">
              <a:avLst/>
            </a:prstGeom>
            <a:gradFill rotWithShape="0">
              <a:gsLst>
                <a:gs pos="0">
                  <a:srgbClr val="d49fff"/>
                </a:gs>
                <a:gs pos="100000">
                  <a:srgbClr val="be8fe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222720" y="5299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I-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 txBox="1"/>
          <p:nvPr/>
        </p:nvSpPr>
        <p:spPr>
          <a:xfrm>
            <a:off x="4276800" y="626904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369120" y="5299200"/>
            <a:ext cx="774720" cy="955440"/>
            <a:chOff x="6369120" y="5299200"/>
            <a:chExt cx="774720" cy="955440"/>
          </a:xfrm>
        </p:grpSpPr>
        <p:sp>
          <p:nvSpPr>
            <p:cNvPr id="470" name=""/>
            <p:cNvSpPr/>
            <p:nvPr/>
          </p:nvSpPr>
          <p:spPr>
            <a:xfrm>
              <a:off x="6369120" y="5587920"/>
              <a:ext cx="774720" cy="666720"/>
            </a:xfrm>
            <a:prstGeom prst="rect">
              <a:avLst/>
            </a:prstGeom>
            <a:gradFill rotWithShape="0">
              <a:gsLst>
                <a:gs pos="0">
                  <a:srgbClr val="d49fff"/>
                </a:gs>
                <a:gs pos="100000">
                  <a:srgbClr val="be8fe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6499080" y="5299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I-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ablemod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581120" y="2292480"/>
            <a:ext cx="7772400" cy="47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elf-installing and adaptive: key operational requirements for large-scale de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symmetrical, yes, but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high-speed both ways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64QAM, 24 Mb/s in 6 MHz down (QPSK initiall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QPSK, 1-3 Mb/s in 1-2 MHz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thernet 10baseT to P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ultiple PCs in the home/small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Filter network traffic on MAC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Vendor-specific MAC protocol, future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W  part of industry effort to define interoperable cablem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k-level encryption required over HF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 Vecchi</dc:creator>
  <dc:description/>
  <dc:language>en-US</dc:language>
  <cp:lastModifiedBy>Gehrett W. Ellis</cp:lastModifiedBy>
  <cp:revision>0</cp:revision>
  <dc:subject/>
  <dc:title>IETF BOF (Montreal)</dc:title>
</cp:coreProperties>
</file>